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7B28-6EE5-4E33-83DD-17ADBFCA2B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B9F-9E13-4975-AEE8-7FB2F16464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247-7C36-4488-9998-2D735B10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313-8893-42D7-A2D1-CCAFAB91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5DA-D298-40EF-974E-13678C0F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81C-707B-4911-80ED-DF67E326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458-2F32-4AC8-AA44-2BBA49C0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53F-022B-4D8D-8681-336E899D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008-0E90-4255-A53F-2B7358FB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9C8-0E8A-4EF7-A004-6239625F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85F-0ABD-4613-889B-23AEEEF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81A-4B7F-4900-96AD-A573FA8C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B28-2ABB-42AF-A03F-B5F9322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535-D5A6-45FD-9F36-8A10B1B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51A8-76BD-431E-8C8C-7B9C7676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026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5" descr=""/>
          <p:cNvPicPr/>
          <p:nvPr/>
        </p:nvPicPr>
        <p:blipFill>
          <a:blip r:embed="rId2"/>
          <a:stretch/>
        </p:blipFill>
        <p:spPr>
          <a:xfrm>
            <a:off x="1574640" y="1123920"/>
            <a:ext cx="7201080" cy="100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60720" y="285264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楷体"/>
                <a:ea typeface="楷体"/>
              </a:rPr>
              <a:t>王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E04.Groan_From_The_Sick.au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4932360" y="6237360"/>
            <a:ext cx="72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矩形 8" descr=""/>
          <p:cNvPicPr/>
          <p:nvPr/>
        </p:nvPicPr>
        <p:blipFill>
          <a:blip r:embed="rId4"/>
          <a:stretch/>
        </p:blipFill>
        <p:spPr>
          <a:xfrm>
            <a:off x="1779480" y="581652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作者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79280" y="1484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维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6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唐代著名诗人，画家，这首诗是王维十七岁时因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重阳节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思念家乡的亲人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作。王维家居蒲州（今天的山西省永济县），在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华山之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所以题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忆山东兄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写这首诗时他正在长安谋取功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1547640" y="5254560"/>
            <a:ext cx="641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026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9640" y="404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独</a:t>
            </a:r>
            <a:r>
              <a:rPr b="1" lang="zh-TW" sz="6000" spc="-1" strike="noStrike">
                <a:solidFill>
                  <a:srgbClr val="ff0000"/>
                </a:solidFill>
                <a:latin typeface="楷体"/>
                <a:ea typeface="楷体"/>
              </a:rPr>
              <a:t> 在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异</a:t>
            </a:r>
            <a:r>
              <a:rPr b="1" lang="zh-TW" sz="6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乡 为 异</a:t>
            </a:r>
            <a:r>
              <a:rPr b="1" lang="zh-TW" sz="6000" spc="-1" strike="noStrike">
                <a:solidFill>
                  <a:srgbClr val="ff0000"/>
                </a:solidFill>
                <a:latin typeface="楷体"/>
                <a:ea typeface="楷体"/>
              </a:rPr>
              <a:t> 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39640" y="507960"/>
            <a:ext cx="936720" cy="8636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042920" y="1341360"/>
            <a:ext cx="649440" cy="79236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 rot="297600">
            <a:off x="-34920" y="2098800"/>
            <a:ext cx="3297240" cy="2630520"/>
          </a:xfrm>
          <a:prstGeom prst="pi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独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个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692360" y="476280"/>
            <a:ext cx="6551640" cy="9367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916360" y="2133720"/>
            <a:ext cx="5903640" cy="2447640"/>
          </a:xfrm>
          <a:prstGeom prst="cloudCallout">
            <a:avLst>
              <a:gd name="adj1" fmla="val -17412"/>
              <a:gd name="adj2" fmla="val -78273"/>
            </a:avLst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在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乡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居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作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A026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9640" y="404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楷体"/>
                <a:ea typeface="楷体"/>
              </a:rPr>
              <a:t>每 逢 佳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节</a:t>
            </a:r>
            <a:r>
              <a:rPr b="1" lang="zh-TW" sz="6000" spc="-1" strike="noStrike">
                <a:solidFill>
                  <a:srgbClr val="ff0000"/>
                </a:solidFill>
                <a:latin typeface="楷体"/>
                <a:ea typeface="楷体"/>
              </a:rPr>
              <a:t> 倍 思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11280" y="476280"/>
            <a:ext cx="4321080" cy="934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24000" y="2349360"/>
            <a:ext cx="3311280" cy="151128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每次到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节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日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时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>
            <a:off x="1547280" y="1413000"/>
            <a:ext cx="1511640" cy="93636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148360" y="404640"/>
            <a:ext cx="3168720" cy="1008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6732720" y="1413000"/>
            <a:ext cx="0" cy="64764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5148360" y="2060640"/>
            <a:ext cx="3095640" cy="1873080"/>
          </a:xfrm>
          <a:prstGeom prst="hexagon">
            <a:avLst>
              <a:gd name="adj" fmla="val 41318"/>
              <a:gd name="vf" fmla="val 115470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更加想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亲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A02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39640" y="260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遥</a:t>
            </a:r>
            <a:r>
              <a:rPr b="1" lang="zh-TW" sz="6000" spc="-1" strike="noStrike">
                <a:solidFill>
                  <a:srgbClr val="ff0000"/>
                </a:solidFill>
                <a:latin typeface="楷体"/>
                <a:ea typeface="楷体"/>
              </a:rPr>
              <a:t> 知 兄 弟 登 高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333360"/>
            <a:ext cx="2160720" cy="8636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619280" y="1197000"/>
            <a:ext cx="576360" cy="79200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250920" y="1989000"/>
            <a:ext cx="3960720" cy="3816360"/>
          </a:xfrm>
          <a:custGeom>
            <a:avLst/>
            <a:gdLst>
              <a:gd name="textAreaLeft" fmla="*/ 909000 w 3960720"/>
              <a:gd name="textAreaRight" fmla="*/ 3051720 w 3960720"/>
              <a:gd name="textAreaTop" fmla="*/ 875880 h 3816360"/>
              <a:gd name="textAreaBottom" fmla="*/ 294048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虽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然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遥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的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但是我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6360" y="333360"/>
            <a:ext cx="5759280" cy="934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5796000" y="1268280"/>
            <a:ext cx="1224000" cy="57636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4932360" y="1844640"/>
            <a:ext cx="3887640" cy="360036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今天是重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阳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兄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都在爬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A026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755640" y="260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楷体"/>
                <a:ea typeface="楷体"/>
              </a:rPr>
              <a:t>遍 插 茱 萸 少 一 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132000" y="333360"/>
            <a:ext cx="2087640" cy="934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211640" y="1268280"/>
            <a:ext cx="1081080" cy="288144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9"/>
          <p:cNvSpPr/>
          <p:nvPr/>
        </p:nvSpPr>
        <p:spPr>
          <a:xfrm>
            <a:off x="3708360" y="4221000"/>
            <a:ext cx="2879640" cy="1729080"/>
          </a:xfrm>
          <a:prstGeom prst="ellips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种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楷体"/>
              </a:rPr>
              <a:t>可以避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84360" y="260280"/>
            <a:ext cx="4679640" cy="10810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H="1">
            <a:off x="1979280" y="1341360"/>
            <a:ext cx="431640" cy="64764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250920" y="1989000"/>
            <a:ext cx="3025800" cy="3024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每个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都在手臂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带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茱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435640" y="260280"/>
            <a:ext cx="3168720" cy="1008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7020000" y="1268280"/>
            <a:ext cx="504720" cy="576360"/>
          </a:xfrm>
          <a:prstGeom prst="line">
            <a:avLst/>
          </a:prstGeom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6156360" y="1844640"/>
            <a:ext cx="2519280" cy="2592360"/>
          </a:xfrm>
          <a:prstGeom prst="hexagon">
            <a:avLst>
              <a:gd name="adj" fmla="val 25000"/>
              <a:gd name="vf" fmla="val 115470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却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只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少了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个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楷体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42560" y="765000"/>
            <a:ext cx="7201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九月九日忆山东兄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独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乡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逢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节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思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遥知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遍插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一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DCC-1D49-4775-B7EB-2C31FEA7CC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1:33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6:31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