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BD75-3FAB-49A8-BEA4-9E30864585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6F88-B891-4736-A216-D2B98FF411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68C-6C1C-4332-94D5-B2988F77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127-ECD3-4F6C-AEB4-4D933148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E9B1C-AB50-48DE-A1D7-13CA3A6E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6B6CC-6BB1-468F-9324-49DAD9AD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DFAD1-C3F8-48E9-AF4A-8F88BE77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02B26-8B1F-43D3-A94D-5825E1F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6501B-CE27-412A-97DF-0225EF5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CFCA7-F9C2-4414-BFA2-31C0FE4E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611B4-3C31-4379-BD70-101B0BB9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F33CE-2511-4CC3-B5EC-31F2ED65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59311-CCE9-4EB2-828A-7F5A4A52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E846C-9C03-4F5D-AD70-1E8FC79F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B5C-CD87-4015-876C-37AEC63A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71E44-6452-4BF5-83C7-1434A013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8739A-D05A-4D16-ABD9-D7FDCA0C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49E85-7BAA-4BA4-A799-48265A2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B1FC1-DF3E-4011-A665-60F8FAB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11190-0F04-4D2A-9699-7C38642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28A04-2EBD-4EE1-8CCF-A9CA9BB1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51AEC-0690-449D-9D0F-2B6B8E5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A3487-D9F9-49C2-80B3-7A463EA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18674-9976-43CB-AFF7-4549568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9665-D775-42D7-8E3C-8F729A38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0BC-8949-4F5B-9FF7-AC26FE78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CB861-DB7C-4A54-AE32-F148B0DA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60E01-FDDF-4216-83BA-CAFB13EF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DA5EB-46F5-43CC-8E5F-C7D8FBF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B717F-8756-4B26-B52F-280A90FB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6F388-1B58-4974-88B3-7447E474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2C747-48FF-4EF1-9AE0-E4D642B0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31AC4-C0EA-4C74-BEC0-2B39616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78F4-B301-474C-B1D3-701F4845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3BBC0-26A8-40C8-A660-20A568BC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43136-2CE3-4A94-9713-0AC5E74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0BAE-D9F8-4F37-A383-B884EDF5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F8877-33D3-44F6-B733-7C9BD90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91E7B-60F9-40D4-BEC7-65B7D25D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438B7-EFDF-4A47-B9EB-5D181BC8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2B0C0-92FD-40B5-A60C-6390DD7C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28371-85F3-4E7E-A946-35DE440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8B797-8FBB-423B-9334-DD03AC86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FBC15-FBB9-4866-BEDC-1739E7D5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99672-8B94-4AEA-9288-E1D7327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FEDD4-9981-48F1-A470-13F1B66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5EDC2-B3EE-4000-9DE9-D0EE21E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F6F1-64CA-4110-9031-A20CE05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1A9AB-B2A2-4F6C-833B-DED760C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7B5F5-D99A-4A9E-821F-815A021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B4A45-EC98-4283-84FB-98263CAE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E9415-230A-4B09-847B-3768B8D4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9C573-59AE-4A2A-A658-CB4C80E2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4CF5A-D751-4219-BCBF-A047AC39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A5334-6410-4F86-82AB-4F96C65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4D5CA-8CFE-4716-92EE-7E0CE676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88857-1B48-473D-8CBA-E16BB3A2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62B89-C9AB-4BAA-96A9-902E47E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A4C-3FF9-4B04-B5D5-59CBF554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FFD7A-1339-4EAE-9EB4-3486E77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9106E-B945-4558-82CB-2F6005E1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DF379-8528-4B53-8299-1F4F734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84F21-F360-4C4B-8CD2-C57B889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EE771-584D-45DE-9DF9-F1E211D8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EB2DA-8A5A-4B6F-9D12-90A12419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E84E1-783D-4055-8EA0-FB9AEF64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CDD5-BCAB-4C06-9DAF-F7CA7E8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0EE6-797E-48E8-BEFA-96A26D5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4AE6-CCE8-4CBB-90D2-D5A4517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8C2D-A22E-4E75-ABA9-045B4E0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5AA-5B79-4552-818D-2B58159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B51F-A4DE-43EA-B311-5C22556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8FA-083B-4E5C-866B-3A41B5A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7C5E-87AB-4660-8C3A-39AEE7D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103B-5E47-42DB-8449-32088743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CDF8-A3CA-451C-A852-66D1522A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0EF4-D79B-464E-B032-B97BAF4B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D3B2-70DA-44D0-AC56-10779F4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9937-6B97-4631-BB76-846B89AB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4277-471D-407B-8E95-B9EA19BB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5B8C-CDDD-4889-9210-DB6828F5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38B-0A50-4136-B277-8C2A6B5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19BF-306E-4D78-92D8-45AFD6F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3CB1-22B2-4FE3-9D4C-ECAFE86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5055-1DB0-4395-842C-5A8590EB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96EA-83CB-410A-9F86-96BAED4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7E30-A184-4735-91F0-1752181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1917-D5A1-439E-AF10-879D36B2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E150-D83F-431C-A4FA-EE354D63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2AE7-4B95-403A-9D12-8A8081E4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CE64-D991-4D7C-9A7D-58CEEFE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127B-7BD0-4070-BB18-CF6C92E5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752-3A77-4C9B-AFBE-86B2E4C5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6AEA-F06B-4137-BCFB-64DFD02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4D53-A1E6-4382-9005-7A1CA99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2405-931C-4393-986C-B8168CB5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ED40-447F-4A7B-9C0F-71B14DF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BC09A-9791-4A58-91AF-BE926A6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F3FC-D7D3-4029-A182-8FFC189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2AE1-2C93-4325-BAB0-C2F6EAC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6B78-E3F0-4DDE-8FA8-DD59D56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B875-1F8D-4F31-9C1D-4347CCEB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2556-86DC-489D-8F11-F1E40EF5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8A2-B0E6-4E2D-A79D-844B6DE9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4538-0A47-4A1B-AB8D-0842D504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3F22-A361-4A20-91C4-044C8722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FF30-DC48-4A09-A26C-0DE08CD6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EF9B-745B-447D-86B7-17338C72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054F-29AC-41CC-BEB8-A3B21FE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0F82-CBE0-493D-AEA0-CD77781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1455-0BBE-4E58-8B0D-91CEAB0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564CA-C4E6-4086-B656-A2674C7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35FB-A407-4725-AB0C-3AB7FF4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7BE6-B9C6-4C52-9983-A80747E5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8EA-6C40-4131-A901-09B4BDB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65116-928E-4BC6-A98E-9661A3BD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F6FB-6DDF-448D-A086-CA9D4E1D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919C-858B-43CB-98BF-421E5D6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E0A5-A440-4ACB-9DA5-45D039AE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A56C-E589-4939-B8E3-F43E10A2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FA9C-2C34-4FB2-AC31-C0365D4D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72BD-E78D-4854-98A8-8FD4794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B971-C8F3-4B7E-828B-2C89E8A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AA500-785E-4817-8A60-9BD521C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90A8-0F95-4C65-877B-F29475B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90E-4485-4037-9813-94B4432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07EE8-AEC3-412D-AD9A-11AEC99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DC75-B200-469A-8FE8-DB7D4119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B35A-2E00-46ED-AA1F-58418195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A538-D8E0-4A53-8E49-A41E3D8D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F867-CBBF-4B2B-B8EB-D1C1F25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18E9-D931-4AF1-AC90-B10FF262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23260-C050-4A09-B68D-7274E8CD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C762A-7E79-4F90-9C88-40817EB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85C4E-7794-4043-BB60-65678B2C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F813-8065-48A8-B247-4944534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D21-5159-40F7-98DF-3EF5235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3074-2291-4E97-B132-490642E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7C7B-F07A-4CA6-94BD-387E10E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0821E-4AA2-45DD-9323-95B26855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7CAA-119C-49EF-AF9C-6ED80D5D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B0AA8-0C85-4E19-A479-4A648F2D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E702-7FAE-4BBA-B6BE-865BF01A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BCAA8-BBEA-498D-B54D-ACFFAEF6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F870F-DCED-4B9C-8A6B-E90FECAE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4FD98-BB7A-452B-8FF7-7B3ACB33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0E720-5697-43DA-B337-B9E6F472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2F7-40E2-4CBD-B262-8560218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A730-6C15-4F4F-BA1A-18C803A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31A8-0C24-418B-9900-70E7FB83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DF86-5804-4DE2-97A0-9F2A470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7C61-AECD-4DAE-B72D-9A22F53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C9B25-A63B-4C47-A6C9-E5A22E13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82791-24B8-41CE-8765-9F83010F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25F1F-9259-4225-8253-572D3C06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ACA02-6550-45DF-A8F2-62FF978D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15EEB-0D40-4FA0-A62B-CAD6CFF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92490-8A63-4AC0-BC6F-77D90BA4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41A1-8EE1-4EE5-B6B0-3A16E45C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BEA5-2191-4EDF-8F07-81EC03F3BE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9A0A-38B2-4A83-AC33-6A2D7DFF1C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0F3A-4744-4219-A8A1-6816E212E5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4F5B-3BF7-48B3-BEE2-3CBD4297F2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6BCA-7F92-4109-AFDE-EA0C70E93D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1E3-FE9D-4243-BCDC-BBD85C849B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6E73-7C77-4915-BFEB-E94E0D2751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A7C-08A0-4B67-8248-A9A331A4DB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5D46-823D-44ED-B6F1-56E9C1ECBB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EEC9-A6F7-4E37-963A-A189643FFE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4D82-512F-4601-8B16-DCD78FDB87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CA2-D260-4B0A-AF85-8086018044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1" descr="小房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7"/>
          <p:cNvSpPr/>
          <p:nvPr/>
        </p:nvSpPr>
        <p:spPr>
          <a:xfrm>
            <a:off x="792000" y="1052640"/>
            <a:ext cx="756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葵花之最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2001960" y="595008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葵花之最-02"/>
          <p:cNvPicPr/>
          <p:nvPr/>
        </p:nvPicPr>
        <p:blipFill>
          <a:blip r:embed="rId2"/>
          <a:stretch/>
        </p:blipFill>
        <p:spPr>
          <a:xfrm>
            <a:off x="467820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5"/>
          <p:cNvSpPr/>
          <p:nvPr/>
        </p:nvSpPr>
        <p:spPr>
          <a:xfrm>
            <a:off x="468360" y="333360"/>
            <a:ext cx="39592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提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默读课文。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课文哪些地方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看出葵花是“最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的，从哪些地方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以看出葵花是“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高”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葵花之最-02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611280" y="62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葵花。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5"/>
          <p:cNvSpPr txBox="1"/>
          <p:nvPr/>
        </p:nvSpPr>
        <p:spPr>
          <a:xfrm>
            <a:off x="755640" y="620640"/>
            <a:ext cx="331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900000" y="2565360"/>
            <a:ext cx="66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章用大量的篇幅描述了葵花的生长过程，但仅仅是在描写“葵花”吗？战士与葵花有什么相似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1692360" y="508464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借 物 喻 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葵花之最-02"/>
          <p:cNvPicPr/>
          <p:nvPr/>
        </p:nvPicPr>
        <p:blipFill>
          <a:blip r:embed="rId2"/>
          <a:stretch/>
        </p:blipFill>
        <p:spPr>
          <a:xfrm>
            <a:off x="684360" y="549360"/>
            <a:ext cx="3166920" cy="2950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葵花之最-01"/>
          <p:cNvPicPr/>
          <p:nvPr/>
        </p:nvPicPr>
        <p:blipFill>
          <a:blip r:embed="rId3"/>
          <a:stretch/>
        </p:blipFill>
        <p:spPr>
          <a:xfrm>
            <a:off x="5003640" y="620640"/>
            <a:ext cx="28814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635" name="Group 10"/>
          <p:cNvGrpSpPr/>
          <p:nvPr/>
        </p:nvGrpSpPr>
        <p:grpSpPr>
          <a:xfrm>
            <a:off x="826920" y="4149720"/>
            <a:ext cx="3024360" cy="2087640"/>
            <a:chOff x="826920" y="4149720"/>
            <a:chExt cx="3024360" cy="2087640"/>
          </a:xfrm>
        </p:grpSpPr>
        <p:sp>
          <p:nvSpPr>
            <p:cNvPr id="636" name="Rectangle 6"/>
            <p:cNvSpPr/>
            <p:nvPr/>
          </p:nvSpPr>
          <p:spPr>
            <a:xfrm>
              <a:off x="826920" y="4149720"/>
              <a:ext cx="3024360" cy="20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"/>
            <p:cNvSpPr/>
            <p:nvPr/>
          </p:nvSpPr>
          <p:spPr>
            <a:xfrm>
              <a:off x="971640" y="4437000"/>
              <a:ext cx="2736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葵花外形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种植海拔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1"/>
          <p:cNvGrpSpPr/>
          <p:nvPr/>
        </p:nvGrpSpPr>
        <p:grpSpPr>
          <a:xfrm>
            <a:off x="5292720" y="4149720"/>
            <a:ext cx="3095640" cy="2087640"/>
            <a:chOff x="5292720" y="4149720"/>
            <a:chExt cx="3095640" cy="2087640"/>
          </a:xfrm>
        </p:grpSpPr>
        <p:sp>
          <p:nvSpPr>
            <p:cNvPr id="639" name="Rectangle 8"/>
            <p:cNvSpPr/>
            <p:nvPr/>
          </p:nvSpPr>
          <p:spPr>
            <a:xfrm>
              <a:off x="5292720" y="4149720"/>
              <a:ext cx="3095640" cy="2087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9"/>
            <p:cNvSpPr/>
            <p:nvPr/>
          </p:nvSpPr>
          <p:spPr>
            <a:xfrm>
              <a:off x="5435640" y="4437000"/>
              <a:ext cx="2592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战士身躯弱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小，品格高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信封大图 点击还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WordArt 8"/>
          <p:cNvSpPr txBox="1"/>
          <p:nvPr/>
        </p:nvSpPr>
        <p:spPr>
          <a:xfrm>
            <a:off x="1187280" y="76500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用心想一想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3" name="Picture 9" descr="K15583~1"/>
          <p:cNvPicPr/>
          <p:nvPr/>
        </p:nvPicPr>
        <p:blipFill>
          <a:blip r:embed="rId2"/>
          <a:stretch/>
        </p:blipFill>
        <p:spPr>
          <a:xfrm>
            <a:off x="1116000" y="3500280"/>
            <a:ext cx="2475000" cy="25657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10"/>
          <p:cNvSpPr/>
          <p:nvPr/>
        </p:nvSpPr>
        <p:spPr>
          <a:xfrm>
            <a:off x="4643280" y="2565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如果让你给边防战士寄一件西，你想寄什么？说说你的理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08E-F460-4F51-A0B6-CC0B8286EE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葵花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WordArt 8"/>
          <p:cNvSpPr txBox="1"/>
          <p:nvPr/>
        </p:nvSpPr>
        <p:spPr>
          <a:xfrm>
            <a:off x="684360" y="765000"/>
            <a:ext cx="446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都来说一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684360" y="292428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结合课前查找的有关资料说一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昆仑山是一个怎样的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5"/>
          <p:cNvSpPr txBox="1"/>
          <p:nvPr/>
        </p:nvSpPr>
        <p:spPr>
          <a:xfrm rot="5400000">
            <a:off x="-1243440" y="2836800"/>
            <a:ext cx="4319640" cy="896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昆仑山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7" name="Picture 6" descr="昆仑山02"/>
          <p:cNvPicPr/>
          <p:nvPr/>
        </p:nvPicPr>
        <p:blipFill>
          <a:blip r:embed="rId1"/>
          <a:stretch/>
        </p:blipFill>
        <p:spPr>
          <a:xfrm>
            <a:off x="5148360" y="189000"/>
            <a:ext cx="3635280" cy="272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昆仑山04"/>
          <p:cNvPicPr/>
          <p:nvPr/>
        </p:nvPicPr>
        <p:blipFill>
          <a:blip r:embed="rId2"/>
          <a:stretch/>
        </p:blipFill>
        <p:spPr>
          <a:xfrm>
            <a:off x="5219640" y="3284640"/>
            <a:ext cx="3602160" cy="29368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昆仑山05"/>
          <p:cNvPicPr/>
          <p:nvPr/>
        </p:nvPicPr>
        <p:blipFill>
          <a:blip r:embed="rId3"/>
          <a:stretch/>
        </p:blipFill>
        <p:spPr>
          <a:xfrm>
            <a:off x="1619280" y="189000"/>
            <a:ext cx="3384360" cy="27352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昆仑山06"/>
          <p:cNvPicPr/>
          <p:nvPr/>
        </p:nvPicPr>
        <p:blipFill>
          <a:blip r:embed="rId4"/>
          <a:stretch/>
        </p:blipFill>
        <p:spPr>
          <a:xfrm>
            <a:off x="1547640" y="3284640"/>
            <a:ext cx="34578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8" descr="葵花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539640" y="549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900000" y="155736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自由朗读课文，注意读准字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读通句子。把不理解的词语勾画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来。去了解那棵葵花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27"/>
          <p:cNvGrpSpPr/>
          <p:nvPr/>
        </p:nvGrpSpPr>
        <p:grpSpPr>
          <a:xfrm>
            <a:off x="0" y="549360"/>
            <a:ext cx="8605800" cy="6308640"/>
            <a:chOff x="0" y="549360"/>
            <a:chExt cx="8605800" cy="6308640"/>
          </a:xfrm>
        </p:grpSpPr>
        <p:pic>
          <p:nvPicPr>
            <p:cNvPr id="55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79200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126828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9" descr=""/>
            <p:cNvPicPr/>
            <p:nvPr/>
          </p:nvPicPr>
          <p:blipFill>
            <a:blip r:embed="rId4"/>
            <a:stretch/>
          </p:blipFill>
          <p:spPr>
            <a:xfrm>
              <a:off x="0" y="19890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10" descr=""/>
            <p:cNvPicPr/>
            <p:nvPr/>
          </p:nvPicPr>
          <p:blipFill>
            <a:blip r:embed="rId5"/>
            <a:stretch/>
          </p:blipFill>
          <p:spPr>
            <a:xfrm>
              <a:off x="2195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11" descr=""/>
            <p:cNvPicPr/>
            <p:nvPr/>
          </p:nvPicPr>
          <p:blipFill>
            <a:blip r:embed="rId6"/>
            <a:stretch/>
          </p:blipFill>
          <p:spPr>
            <a:xfrm>
              <a:off x="147636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"/>
            <p:cNvPicPr/>
            <p:nvPr/>
          </p:nvPicPr>
          <p:blipFill>
            <a:blip r:embed="rId7"/>
            <a:stretch/>
          </p:blipFill>
          <p:spPr>
            <a:xfrm>
              <a:off x="755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3" descr=""/>
            <p:cNvPicPr/>
            <p:nvPr/>
          </p:nvPicPr>
          <p:blipFill>
            <a:blip r:embed="rId8"/>
            <a:stretch/>
          </p:blipFill>
          <p:spPr>
            <a:xfrm>
              <a:off x="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4" descr=""/>
            <p:cNvPicPr/>
            <p:nvPr/>
          </p:nvPicPr>
          <p:blipFill>
            <a:blip r:embed="rId9"/>
            <a:stretch/>
          </p:blipFill>
          <p:spPr>
            <a:xfrm>
              <a:off x="0" y="551664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5" descr=""/>
            <p:cNvPicPr/>
            <p:nvPr/>
          </p:nvPicPr>
          <p:blipFill>
            <a:blip r:embed="rId10"/>
            <a:stretch/>
          </p:blipFill>
          <p:spPr>
            <a:xfrm>
              <a:off x="0" y="48690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6" descr=""/>
            <p:cNvPicPr/>
            <p:nvPr/>
          </p:nvPicPr>
          <p:blipFill>
            <a:blip r:embed="rId11"/>
            <a:stretch/>
          </p:blipFill>
          <p:spPr>
            <a:xfrm>
              <a:off x="0" y="42210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7" descr=""/>
            <p:cNvPicPr/>
            <p:nvPr/>
          </p:nvPicPr>
          <p:blipFill>
            <a:blip r:embed="rId12"/>
            <a:stretch/>
          </p:blipFill>
          <p:spPr>
            <a:xfrm>
              <a:off x="0" y="350028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18" descr=""/>
            <p:cNvPicPr/>
            <p:nvPr/>
          </p:nvPicPr>
          <p:blipFill>
            <a:blip r:embed="rId13"/>
            <a:stretch/>
          </p:blipFill>
          <p:spPr>
            <a:xfrm>
              <a:off x="0" y="278136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9" descr=""/>
            <p:cNvPicPr/>
            <p:nvPr/>
          </p:nvPicPr>
          <p:blipFill>
            <a:blip r:embed="rId14"/>
            <a:stretch/>
          </p:blipFill>
          <p:spPr>
            <a:xfrm>
              <a:off x="2987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0" descr=""/>
            <p:cNvPicPr/>
            <p:nvPr/>
          </p:nvPicPr>
          <p:blipFill>
            <a:blip r:embed="rId15"/>
            <a:stretch/>
          </p:blipFill>
          <p:spPr>
            <a:xfrm>
              <a:off x="363528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21" descr=""/>
            <p:cNvPicPr/>
            <p:nvPr/>
          </p:nvPicPr>
          <p:blipFill>
            <a:blip r:embed="rId16"/>
            <a:stretch/>
          </p:blipFill>
          <p:spPr>
            <a:xfrm>
              <a:off x="435600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2" descr=""/>
            <p:cNvPicPr/>
            <p:nvPr/>
          </p:nvPicPr>
          <p:blipFill>
            <a:blip r:embed="rId17"/>
            <a:stretch/>
          </p:blipFill>
          <p:spPr>
            <a:xfrm>
              <a:off x="507672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23" descr=""/>
            <p:cNvPicPr/>
            <p:nvPr/>
          </p:nvPicPr>
          <p:blipFill>
            <a:blip r:embed="rId18"/>
            <a:stretch/>
          </p:blipFill>
          <p:spPr>
            <a:xfrm>
              <a:off x="579600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24" descr=""/>
            <p:cNvPicPr/>
            <p:nvPr/>
          </p:nvPicPr>
          <p:blipFill>
            <a:blip r:embed="rId19"/>
            <a:stretch/>
          </p:blipFill>
          <p:spPr>
            <a:xfrm>
              <a:off x="6443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25" descr=""/>
            <p:cNvPicPr/>
            <p:nvPr/>
          </p:nvPicPr>
          <p:blipFill>
            <a:blip r:embed="rId20"/>
            <a:stretch/>
          </p:blipFill>
          <p:spPr>
            <a:xfrm>
              <a:off x="716436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26" descr=""/>
            <p:cNvPicPr/>
            <p:nvPr/>
          </p:nvPicPr>
          <p:blipFill>
            <a:blip r:embed="rId21"/>
            <a:stretch/>
          </p:blipFill>
          <p:spPr>
            <a:xfrm>
              <a:off x="788508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AutoShape 28"/>
          <p:cNvSpPr/>
          <p:nvPr/>
        </p:nvSpPr>
        <p:spPr>
          <a:xfrm>
            <a:off x="611280" y="333360"/>
            <a:ext cx="3671640" cy="1052640"/>
          </a:xfrm>
          <a:prstGeom prst="cloudCallout">
            <a:avLst>
              <a:gd name="adj1" fmla="val -50736"/>
              <a:gd name="adj2" fmla="val 33259"/>
            </a:avLst>
          </a:prstGeom>
          <a:solidFill>
            <a:srgbClr val="f0c6ae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阅读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11"/>
          <p:cNvSpPr/>
          <p:nvPr/>
        </p:nvSpPr>
        <p:spPr>
          <a:xfrm>
            <a:off x="2738520" y="4292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1"/>
          <p:cNvSpPr/>
          <p:nvPr/>
        </p:nvSpPr>
        <p:spPr>
          <a:xfrm>
            <a:off x="900000" y="620640"/>
            <a:ext cx="3167280" cy="1584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3A4E24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9"/>
          <p:cNvSpPr/>
          <p:nvPr/>
        </p:nvSpPr>
        <p:spPr>
          <a:xfrm>
            <a:off x="1835280" y="234936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763640" y="2637000"/>
            <a:ext cx="597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浏览课文，试着用一两句话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括文章主要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4"/>
          <p:cNvGrpSpPr/>
          <p:nvPr/>
        </p:nvGrpSpPr>
        <p:grpSpPr>
          <a:xfrm>
            <a:off x="826920" y="907920"/>
            <a:ext cx="3889440" cy="1225800"/>
            <a:chOff x="826920" y="907920"/>
            <a:chExt cx="3889440" cy="1225800"/>
          </a:xfrm>
        </p:grpSpPr>
        <p:sp>
          <p:nvSpPr>
            <p:cNvPr id="582" name="AutoShape 12"/>
            <p:cNvSpPr/>
            <p:nvPr/>
          </p:nvSpPr>
          <p:spPr>
            <a:xfrm>
              <a:off x="826920" y="907920"/>
              <a:ext cx="3889440" cy="1225800"/>
            </a:xfrm>
            <a:prstGeom prst="wedgeEllipseCallout">
              <a:avLst>
                <a:gd name="adj1" fmla="val -73467"/>
                <a:gd name="adj2" fmla="val 37564"/>
              </a:avLst>
            </a:prstGeom>
            <a:solidFill>
              <a:srgbClr val="f0c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3"/>
            <p:cNvSpPr/>
            <p:nvPr/>
          </p:nvSpPr>
          <p:spPr>
            <a:xfrm>
              <a:off x="1476360" y="1197000"/>
              <a:ext cx="25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阅 读 提 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葵花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5"/>
          <p:cNvGrpSpPr/>
          <p:nvPr/>
        </p:nvGrpSpPr>
        <p:grpSpPr>
          <a:xfrm>
            <a:off x="0" y="549360"/>
            <a:ext cx="8605800" cy="6308640"/>
            <a:chOff x="0" y="549360"/>
            <a:chExt cx="8605800" cy="6308640"/>
          </a:xfrm>
        </p:grpSpPr>
        <p:pic>
          <p:nvPicPr>
            <p:cNvPr id="58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79200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126828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19890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9" descr=""/>
            <p:cNvPicPr/>
            <p:nvPr/>
          </p:nvPicPr>
          <p:blipFill>
            <a:blip r:embed="rId5"/>
            <a:stretch/>
          </p:blipFill>
          <p:spPr>
            <a:xfrm>
              <a:off x="2195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10" descr=""/>
            <p:cNvPicPr/>
            <p:nvPr/>
          </p:nvPicPr>
          <p:blipFill>
            <a:blip r:embed="rId6"/>
            <a:stretch/>
          </p:blipFill>
          <p:spPr>
            <a:xfrm>
              <a:off x="147636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1" descr=""/>
            <p:cNvPicPr/>
            <p:nvPr/>
          </p:nvPicPr>
          <p:blipFill>
            <a:blip r:embed="rId7"/>
            <a:stretch/>
          </p:blipFill>
          <p:spPr>
            <a:xfrm>
              <a:off x="755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2" descr=""/>
            <p:cNvPicPr/>
            <p:nvPr/>
          </p:nvPicPr>
          <p:blipFill>
            <a:blip r:embed="rId8"/>
            <a:stretch/>
          </p:blipFill>
          <p:spPr>
            <a:xfrm>
              <a:off x="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3" descr=""/>
            <p:cNvPicPr/>
            <p:nvPr/>
          </p:nvPicPr>
          <p:blipFill>
            <a:blip r:embed="rId9"/>
            <a:stretch/>
          </p:blipFill>
          <p:spPr>
            <a:xfrm>
              <a:off x="0" y="551664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4" descr=""/>
            <p:cNvPicPr/>
            <p:nvPr/>
          </p:nvPicPr>
          <p:blipFill>
            <a:blip r:embed="rId10"/>
            <a:stretch/>
          </p:blipFill>
          <p:spPr>
            <a:xfrm>
              <a:off x="0" y="48690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5" descr=""/>
            <p:cNvPicPr/>
            <p:nvPr/>
          </p:nvPicPr>
          <p:blipFill>
            <a:blip r:embed="rId11"/>
            <a:stretch/>
          </p:blipFill>
          <p:spPr>
            <a:xfrm>
              <a:off x="0" y="42210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6" descr=""/>
            <p:cNvPicPr/>
            <p:nvPr/>
          </p:nvPicPr>
          <p:blipFill>
            <a:blip r:embed="rId12"/>
            <a:stretch/>
          </p:blipFill>
          <p:spPr>
            <a:xfrm>
              <a:off x="0" y="350028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7" descr=""/>
            <p:cNvPicPr/>
            <p:nvPr/>
          </p:nvPicPr>
          <p:blipFill>
            <a:blip r:embed="rId13"/>
            <a:stretch/>
          </p:blipFill>
          <p:spPr>
            <a:xfrm>
              <a:off x="0" y="278136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8" descr=""/>
            <p:cNvPicPr/>
            <p:nvPr/>
          </p:nvPicPr>
          <p:blipFill>
            <a:blip r:embed="rId14"/>
            <a:stretch/>
          </p:blipFill>
          <p:spPr>
            <a:xfrm>
              <a:off x="2987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9" descr=""/>
            <p:cNvPicPr/>
            <p:nvPr/>
          </p:nvPicPr>
          <p:blipFill>
            <a:blip r:embed="rId15"/>
            <a:stretch/>
          </p:blipFill>
          <p:spPr>
            <a:xfrm>
              <a:off x="363528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0" descr=""/>
            <p:cNvPicPr/>
            <p:nvPr/>
          </p:nvPicPr>
          <p:blipFill>
            <a:blip r:embed="rId16"/>
            <a:stretch/>
          </p:blipFill>
          <p:spPr>
            <a:xfrm>
              <a:off x="435600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1" descr=""/>
            <p:cNvPicPr/>
            <p:nvPr/>
          </p:nvPicPr>
          <p:blipFill>
            <a:blip r:embed="rId17"/>
            <a:stretch/>
          </p:blipFill>
          <p:spPr>
            <a:xfrm>
              <a:off x="507672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2" descr=""/>
            <p:cNvPicPr/>
            <p:nvPr/>
          </p:nvPicPr>
          <p:blipFill>
            <a:blip r:embed="rId18"/>
            <a:stretch/>
          </p:blipFill>
          <p:spPr>
            <a:xfrm>
              <a:off x="579600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3" descr=""/>
            <p:cNvPicPr/>
            <p:nvPr/>
          </p:nvPicPr>
          <p:blipFill>
            <a:blip r:embed="rId19"/>
            <a:stretch/>
          </p:blipFill>
          <p:spPr>
            <a:xfrm>
              <a:off x="644364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4" descr=""/>
            <p:cNvPicPr/>
            <p:nvPr/>
          </p:nvPicPr>
          <p:blipFill>
            <a:blip r:embed="rId20"/>
            <a:stretch/>
          </p:blipFill>
          <p:spPr>
            <a:xfrm>
              <a:off x="716436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5" descr=""/>
            <p:cNvPicPr/>
            <p:nvPr/>
          </p:nvPicPr>
          <p:blipFill>
            <a:blip r:embed="rId21"/>
            <a:stretch/>
          </p:blipFill>
          <p:spPr>
            <a:xfrm>
              <a:off x="7885080" y="6172200"/>
              <a:ext cx="7207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Text Box 26"/>
          <p:cNvSpPr/>
          <p:nvPr/>
        </p:nvSpPr>
        <p:spPr>
          <a:xfrm>
            <a:off x="1332000" y="98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7"/>
          <p:cNvSpPr/>
          <p:nvPr/>
        </p:nvSpPr>
        <p:spPr>
          <a:xfrm>
            <a:off x="1258920" y="2781360"/>
            <a:ext cx="648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边读边思考：课文围绕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葵花“写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1"/>
          <p:cNvSpPr/>
          <p:nvPr/>
        </p:nvSpPr>
        <p:spPr>
          <a:xfrm>
            <a:off x="900000" y="476280"/>
            <a:ext cx="3527640" cy="1081080"/>
          </a:xfrm>
          <a:prstGeom prst="cloudCallout">
            <a:avLst>
              <a:gd name="adj1" fmla="val -63680"/>
              <a:gd name="adj2" fmla="val 88768"/>
            </a:avLst>
          </a:prstGeom>
          <a:solidFill>
            <a:srgbClr val="f0c6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葵花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WordArt 6"/>
          <p:cNvSpPr txBox="1"/>
          <p:nvPr/>
        </p:nvSpPr>
        <p:spPr>
          <a:xfrm>
            <a:off x="684360" y="2997360"/>
            <a:ext cx="143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葵花</a:t>
            </a:r>
            <a:endParaRPr b="0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1" name="AutoShape 7"/>
          <p:cNvSpPr/>
          <p:nvPr/>
        </p:nvSpPr>
        <p:spPr>
          <a:xfrm>
            <a:off x="2268360" y="1268280"/>
            <a:ext cx="216000" cy="489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7440 h 4897440"/>
              <a:gd name="textAreaBottom" fmla="*/ 477000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2771640" y="1557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收到“葵花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2843280" y="3284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呵护“葵花”成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2987640" y="522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感叹“葵花”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葵花之最-01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7"/>
          <p:cNvSpPr/>
          <p:nvPr/>
        </p:nvSpPr>
        <p:spPr>
          <a:xfrm>
            <a:off x="539640" y="765000"/>
            <a:ext cx="37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468360" y="1700280"/>
            <a:ext cx="3240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默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思考：战士们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怎样的情况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收到葵花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“信早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好，却始终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寄出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"/>
          <p:cNvSpPr/>
          <p:nvPr/>
        </p:nvSpPr>
        <p:spPr>
          <a:xfrm>
            <a:off x="324000" y="351000"/>
            <a:ext cx="280800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153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468360" y="549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阅读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G1_125~1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17408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8"/>
          <p:cNvSpPr/>
          <p:nvPr/>
        </p:nvSpPr>
        <p:spPr>
          <a:xfrm>
            <a:off x="0" y="333360"/>
            <a:ext cx="630072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早已写好，却始终没有寄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/>
          <p:cNvSpPr/>
          <p:nvPr/>
        </p:nvSpPr>
        <p:spPr>
          <a:xfrm rot="21047400">
            <a:off x="2340000" y="292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昆仑山天气恶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2771640" y="378936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"/>
          <p:cNvSpPr/>
          <p:nvPr/>
        </p:nvSpPr>
        <p:spPr>
          <a:xfrm rot="21044400">
            <a:off x="2445120" y="37195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女兵希望葵花子能在这里安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29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9:05Z</dcterms:modified>
  <cp:revision>31</cp:revision>
  <dc:subject>第一PPT模板网-WWW.1PPT.COM</dc:subject>
  <dc:title>第一PPT模板网-WWW.1PPT.COM</dc:title>
</cp:coreProperties>
</file>