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A649-BC3F-40DB-8FF0-740310A214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52DB-3F84-4988-B56D-99E83D6BF0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C90-50EE-4E82-A8D4-F957D436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E28-D5F2-422C-BC60-9035C5AE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7E155-FCC5-4A95-B638-33F75A22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C2D97-F3B7-4FB2-B246-19F30756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D0234-CD71-4182-B55E-A3289C9D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0349E-FD5C-411B-86B4-6D594AA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C48A-455E-4E37-A31F-2974AF3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A4073-CC6A-4D7F-A393-36107E9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EEA6D-A980-44D9-9F16-7AB67FC5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A1C13-C455-4E1F-BA22-EC4F3E5E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9D612-5A22-471A-808C-12C4BDB8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149FC-3B8F-45E8-8AFC-ADBDB107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9FA-BB59-458A-B988-7024DF35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E96E9-FDB2-4F1D-888F-F794F03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95FFE-F228-4AD6-9860-9278E0AF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5F673-A159-4373-AD8E-3EE10140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E1C00-CE04-4890-8EEC-EDC346BB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4FE63-ADEA-4400-AA6E-F144374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65EB7-6B88-4363-97C6-34C41B36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672AA-5151-420B-B987-3EB9795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ADC54-BFF8-4623-907B-817AAB3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6C14B-61D2-4BCD-B867-E32C116B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6CB26-0213-4C11-B708-10470D02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6C6-5E59-4AD6-A9DB-D8955405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6FAE7-E7E3-4A77-9BE9-35254254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D2590-AA84-467A-86C3-1D21730F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0E273-4F93-40AA-B112-933A7901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6B5F-432F-463B-A069-CA6DABE9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E3BEC-2AAD-4893-B7EE-EDA2F177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FC4D9-A5B4-4546-B7E5-423AD3E2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4F074-5EBA-4ABE-A295-2D2AD4F9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CBAD2-9E56-48AB-8C30-8A2CA9E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D1070-C1A0-4B17-B236-E848BDB1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BDFE3-A21C-44F8-A1F4-74A4662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88C-7926-49B5-A296-A12C9FDA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5EC87-994E-46A5-B680-17B8830A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44ECB-630D-4708-B4D7-F6889487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FA49C-423D-4960-9A60-281A23CF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9DCE5-B1D9-48B7-AFBB-F0A23EA4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E2696-9BE2-4772-A56B-ED9E3DB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C336E-5A5F-4A9B-98FD-685F41DF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8D229-3244-4142-9587-9463E353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AEC91-59A9-431F-8ACF-53C644BA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DEA4B-D9BF-4E81-87C1-6A7004BD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6A93D-24D6-4274-846D-F2A5F235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229A-16F8-468B-BA15-CB3703B5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FF50D-2628-4DEB-BE7D-8463265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EFE09-5224-4F57-8C34-46C80710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82C6B-462F-4092-B7F4-510D8115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2AD13-CEAD-45D4-B310-41145C8F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6DBFC-F8B4-4744-9A01-2AFF7E0B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314BA-BE2F-4932-98F2-ED8D83F2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FF6E-95B3-47A1-A73E-DE9ABC9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84F3A-25CA-4E5F-8238-F22F6B4F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8749E-3194-4452-990C-2381025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1AA5C-9E70-4C42-B2D3-BE6C1E6C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179C-B60E-4B69-9372-7711E483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92451-C380-4258-AFBB-A95FCE0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ADDA4-9E55-40CB-ACD0-31E346A7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4A4FC-F821-42E8-AB87-FE08B36A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736A4-B369-4270-A013-3E3BE91E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6514F-916F-48ED-B59A-CF817A79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719AA-553C-44F2-A86F-DEAF9A89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D3980-33D6-430D-8928-1FCB3E58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28C9-EDED-4EF5-A9D0-2D4C957D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57B6-A5F8-44BB-8F57-A4CC55A3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E57C-690D-415D-ADFD-7B19A16D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6202-D1E7-4E84-8F11-56DA8B7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020-8A7B-4FEC-AD12-5B65F70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9B31-FDF5-48F0-B6B5-89F1EA2E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050E-1BD7-4B4E-A650-BC97D79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ADE6-3528-47A4-8E00-145DD087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5B13-8E0A-4B7B-8CA3-9B558AB4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E2FC-FFA3-444A-8D0D-CE67037C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B128-4112-48E3-A303-70C07D5C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78C0-AB23-4227-A3F2-1FF17771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0343-8560-47DC-AA8D-118D34A3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03BE-FE25-4176-ADD3-297E1A55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2579-F997-446C-BD67-73D9B73C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514-0C22-4464-81A7-D34D92DA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45F6-6A19-4293-B2EB-3D2B0B79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CEA4-EAA6-4348-B1DE-59BAC8E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020D-566F-425E-A2FA-6FFD3648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C4D8-39DA-4061-8A1C-EA304D7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C2E1-15CA-4E33-B0E8-07859470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951E-3EE0-436B-A79E-83E49554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930E-242B-4D65-8855-AF255D41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6786-0AAF-4A95-B584-4BD67B58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2506-1134-4313-9A98-3514D3C9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4553-2779-489E-8AE1-442F613F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182-12C1-48E6-B27E-EFD0991F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3B4E-3721-4581-AE23-B3698F28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8116-2DC6-42EB-B8E1-E0A1B0B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DEC0-3269-40B4-80B4-7EBB82B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C67B-CE0A-40D9-8E13-BDEB07C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BC6C-E636-402E-A86B-0F005200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639E-CE60-4709-8E7D-FF2FFA8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A5C1-4D5D-4B28-8965-6354442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19FF-238C-43AD-82F0-F0C6D1FF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04F5D-9DC4-406D-99D4-E4A3D0FF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25D1-CCCE-4A02-9079-D95FC883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22D-A970-4E43-A6DE-C472E089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30D0-5049-4F21-9B23-6F89217B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BF6A-F019-4FDB-9B90-F03B1142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D050-547A-4406-B6D7-70D0F89E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2B55-E347-4428-9E7D-1A4FB1DD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45608-EEAA-49CF-81EB-B8FF8A88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F452-2878-4C2B-B7C8-7826A6D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00BB-46DB-489B-87A2-6EB55D3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3215-4CF8-47F5-84E1-630A2046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4677-A1D4-4F02-B614-A2006BB5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C61F-D442-4B91-AF8B-4A192BF8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FE3-1B2F-4D60-9E1F-FB1AC5AC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F2317-1E40-4D31-83A9-F1CB2AD4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E145-ED4B-4114-94A9-02AC25FE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E7EE4-4208-4466-A803-0D9E2460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9C39F-D71C-4F0B-B767-695A010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0520-BDA8-454D-9D78-74B1BB96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BD9A-D6FD-4A70-87B6-DBDDD70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7B26-BB3F-46D2-8AFB-746A1F5C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404E-354D-489D-81F0-A33B014D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EB30-3F85-4F71-BCC6-223A7E9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1F75F-BBF8-400E-879B-3656D48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348-343C-433B-B433-D7ECD92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9B1E3-6B5D-46E0-947A-8679DA39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74B69-1BBA-450E-8CC0-34023BCB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FD6BF-796E-4C11-A129-BFE28865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B479-51B5-4791-9B52-FA0C40E0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6E8B-4AFC-4A40-B2EB-949F956A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F144-A141-4628-8640-34D3438B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085B-707D-4205-ADA7-675824AA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18D8A-39B1-4353-A390-0B393CA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2627F-8D37-451C-92E6-40A298B6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9CF4-19FD-4512-AF47-0468087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CAF-77A8-4F71-BD5B-D4F6CF2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398F-499A-4FDA-89EB-292749B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809F-8BB6-48BE-885D-7DF35B5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7A23-5CAE-4A8E-856C-BECFED9D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F56D5-E67E-46EF-ABE8-C51618DC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03FCC-9160-4A64-A6F1-C211BEA0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BF9C-2662-4E57-83F5-44AB70CD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05764-5C1B-47A8-BABC-FDDD35CD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8E764-AACB-49F1-95A8-2DED5BAC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D281B-8D66-4D89-9D08-B06BF25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009B9-C732-494C-BC25-88747CD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F60-4C5B-4B58-A202-79E061A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FA2A3-B0D2-4BF2-9586-A180643F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70227-CF58-4DF3-897C-C24489F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CF2F-616B-4970-BC26-81C5737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BB122-268F-4E93-A539-C9CB9CEE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3BD72-3EFE-41F2-A17B-F7D969D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B3CA5-5A4F-4B99-A7AC-A93786F5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14464-AC03-43A6-B49A-1785C4C0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0B88C-7A76-426D-9A13-F50F8B45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FE685-B80B-434F-BEEA-433637A8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F5439-4FD4-4ACC-9384-C1644717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110E-5B9B-468F-BADD-3C445AAA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4E9C-1DC4-41F3-8506-D55F3F87AC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94D0-7FCF-458C-99C5-1057CCD820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BD70-1D13-412A-B028-F790517E40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10E6-526E-4A6B-A49C-F37CF2A55B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D810-7C05-4DA2-8108-F83B5156CE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65A0-E18E-4527-8CC8-983951CD5C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BDF1-D0ED-4916-AC06-C32B71F342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254F-8002-43D9-B6EB-76CC61104E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5330-ADFA-4A3B-99E2-0E1F518EC5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279B-E859-427B-A271-E1011B2576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A7BC-BDFF-41ED-8F40-30C9B5E363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83E1-E556-4D9B-B19F-A4905FB3D5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" descr="40478f13a764e1fff6039e7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154764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 rot="19093800">
            <a:off x="1994040" y="891720"/>
            <a:ext cx="12776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华文中宋"/>
                <a:ea typeface="华文中宋"/>
              </a:rPr>
              <a:t>葵花之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6021720" y="486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毕淑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1118520" y="376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冀教版六年级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/>
          <p:cNvSpPr/>
          <p:nvPr/>
        </p:nvSpPr>
        <p:spPr>
          <a:xfrm>
            <a:off x="2278440" y="597996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1" descr="4ce353edfa099618acafd5e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76" name="WordArt 5"/>
          <p:cNvSpPr txBox="1"/>
          <p:nvPr/>
        </p:nvSpPr>
        <p:spPr>
          <a:xfrm>
            <a:off x="1116000" y="5300640"/>
            <a:ext cx="2374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运用拓展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1903320" y="1940040"/>
            <a:ext cx="51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哪种事物给你留下了深刻的印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用借物喻人的写法来写段话赞美它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579E-C379-48D2-9043-0C330DB57D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1" descr="a3462b73218730338601b0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WordArt 5"/>
          <p:cNvSpPr txBox="1"/>
          <p:nvPr/>
        </p:nvSpPr>
        <p:spPr>
          <a:xfrm>
            <a:off x="6084720" y="260280"/>
            <a:ext cx="2662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提纲引悟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618560" y="1125360"/>
            <a:ext cx="429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、默读课文，说说课文围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葵花”讲了哪些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、品读课文中描写昆仑山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葵花的语段，结合具体语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说说这样的葵花给你怎样的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23842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51280" y="0"/>
            <a:ext cx="4392720" cy="458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46274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6"/>
          <p:cNvSpPr/>
          <p:nvPr/>
        </p:nvSpPr>
        <p:spPr>
          <a:xfrm>
            <a:off x="2743920" y="4729320"/>
            <a:ext cx="373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昆仑山平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00-6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。这里冰崖壁立，山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险峻，地形复杂多变。这里地形险恶，气候也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恶劣。九月中旬以后到第二年的四月，强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风凛冽而至。这里几乎没有任何植物生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fc85a1d945de8f48d0164e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WordArt 5"/>
          <p:cNvSpPr txBox="1"/>
          <p:nvPr/>
        </p:nvSpPr>
        <p:spPr>
          <a:xfrm>
            <a:off x="6443640" y="836640"/>
            <a:ext cx="20131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感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2238480" y="2060640"/>
            <a:ext cx="50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葵花子居然发芽了！先探出两片嫩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叶子，像试探风向的小手掌，肥厚而天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舒展腰肢，前仰后合，生机盎然地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590360" y="458136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运用拟人的修辞，展现了葵花的生长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是多么的可敬、可爱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7"/>
          <p:cNvSpPr/>
          <p:nvPr/>
        </p:nvSpPr>
        <p:spPr>
          <a:xfrm>
            <a:off x="684360" y="19018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图片 1" descr="fc85a1d945de8f48d0164e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WordArt 3"/>
          <p:cNvSpPr txBox="1"/>
          <p:nvPr/>
        </p:nvSpPr>
        <p:spPr>
          <a:xfrm>
            <a:off x="6443640" y="836640"/>
            <a:ext cx="20131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感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2234880" y="1901880"/>
            <a:ext cx="481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棵幸运的葵花，一往情深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着太阳，勇敢地展开桃形的叶子，茎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纤巧的绒毛，像蜜蜂翅膀一样，在寒风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抖个不停。也许它感到了昆仑山喜怒无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威严，急匆匆地压缩了自己生命的历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长到一尺高，就萌出了纽扣大的花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压得最高处的茎叶微微下垂，好像惭愧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不长得更高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1" descr="fc85a1d945de8f48d0164e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WordArt 3"/>
          <p:cNvSpPr txBox="1"/>
          <p:nvPr/>
        </p:nvSpPr>
        <p:spPr>
          <a:xfrm>
            <a:off x="6443640" y="836640"/>
            <a:ext cx="20131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感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304360" y="2050920"/>
            <a:ext cx="4949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一年没有秋天，寒凝一切的风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无先兆地骤然降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围墙也被飓风吹得四散飘去，向日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却毅然不动地站立在那里，在冰雕玉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莹白之中，保持着凄清的翠绿，叶片傲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舒展，像一面面玻璃做的旗，发出环佩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叮当之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" descr="fc85a1d945de8f48d0164e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WordArt 3"/>
          <p:cNvSpPr txBox="1"/>
          <p:nvPr/>
        </p:nvSpPr>
        <p:spPr>
          <a:xfrm>
            <a:off x="6372360" y="404640"/>
            <a:ext cx="201276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感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1700280"/>
            <a:ext cx="783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不可思议的是，它在生命的最后一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然绽开一朵明艳的花。那花只有五分硬币那么大，薄而平整，冰雪凝冻在上面，像一块光滑的表蒙子。刚分裂出的葵花子还未成熟，像丝丝柳絮一样优雅地弯曲着，沁出极清淡的紫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令人警醒的是花盘四周弹射出密集的黄色花瓣，箭头一般怒放着，像一颗永不泯灭的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" descr="fc85a1d945de8f48d0164e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WordArt 3"/>
          <p:cNvSpPr txBox="1"/>
          <p:nvPr/>
        </p:nvSpPr>
        <p:spPr>
          <a:xfrm>
            <a:off x="6443640" y="836640"/>
            <a:ext cx="20131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感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964880" y="2060640"/>
            <a:ext cx="4949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我不知道它是不是世界上最小的葵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但我知道它是世界上最高的葵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从哪些语句可以体会到它是世界上最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葵花？又为什么说它是世界上最高的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葵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1" descr="fc85a1d945de8f48d0164e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3419640" y="90792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你觉得我们的边防战士和这棵葵花有哪些相似之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7" descr="无标题"/>
          <p:cNvPicPr/>
          <p:nvPr/>
        </p:nvPicPr>
        <p:blipFill>
          <a:blip r:embed="rId2"/>
          <a:stretch/>
        </p:blipFill>
        <p:spPr>
          <a:xfrm>
            <a:off x="250920" y="981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xinsrc_21210040315147182300714"/>
          <p:cNvPicPr/>
          <p:nvPr/>
        </p:nvPicPr>
        <p:blipFill>
          <a:blip r:embed="rId3"/>
          <a:stretch/>
        </p:blipFill>
        <p:spPr>
          <a:xfrm>
            <a:off x="250920" y="3500280"/>
            <a:ext cx="3529080" cy="2322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9"/>
          <p:cNvSpPr/>
          <p:nvPr/>
        </p:nvSpPr>
        <p:spPr>
          <a:xfrm>
            <a:off x="3851280" y="3429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文章借葵花来讴歌了守卫在昆仑山的边防战士们为祖国、为人民，在极端恶劣的自然环境中不屈不挠、乐观顽强的精神面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383080" y="2747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物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08:38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9:11Z</dcterms:modified>
  <cp:revision>7</cp:revision>
  <dc:subject>第一PPT模板网-WWW.1PPT.COM</dc:subject>
  <dc:title>第一PPT模板网-WWW.1PPT.COM</dc:title>
</cp:coreProperties>
</file>