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type.wav" ContentType="audio/x-wav"/>
  <Override PartName="/ppt/media/image1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coin.wav" ContentType="audio/x-wav"/>
  <Override PartName="/ppt/media/image10.jpeg" ContentType="image/jpeg"/>
  <Override PartName="/ppt/media/image8.jpeg" ContentType="image/jpeg"/>
  <Override PartName="/ppt/media/chimes.wav" ContentType="audio/x-wav"/>
  <Override PartName="/ppt/media/image6.jpeg" ContentType="image/jpeg"/>
  <Override PartName="/ppt/media/click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87A-0725-4CA2-A647-DF5D2B88C65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D48F-9B10-41D8-9D35-E5A2AF92505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C558-8E0B-44B9-9D8B-43557E76F3E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17FC-A06B-4413-BB67-6ED1D8A834B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6765-0397-4143-B43E-47B767A688B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3F22-6BCA-4E8F-8C6B-53082ED7563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783-1F70-4B17-8686-2E9B3338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C98-2572-4EC2-B9E3-4ECF62DC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D1A-641C-49E8-86F6-9666130D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FBA-0650-4295-93F9-A79575BE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22C-43DB-4C6D-AAC3-BE364BA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38D-C77D-4623-A2EA-9B9835EF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0DC-F35A-4154-B4FC-7E0556CD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854-ED36-486A-8E5E-71AC6872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DAD-7CD7-47E2-AE20-E9E7249D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5E3-7BA5-4396-A0CB-0116ABE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D36-FE1A-4248-B912-37D23B49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46A-22F0-406F-8635-2649803E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DC46-D718-46D6-A0ED-4715DEA41A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FDAF-F670-4C2E-BEA8-91FC6C0938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1" descr=""/>
          <p:cNvPicPr/>
          <p:nvPr/>
        </p:nvPicPr>
        <p:blipFill>
          <a:blip r:embed="rId2"/>
          <a:stretch/>
        </p:blipFill>
        <p:spPr>
          <a:xfrm>
            <a:off x="1185840" y="979560"/>
            <a:ext cx="6699240" cy="144756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771560" y="595008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C581-A8B2-4B80-A3D9-3F8D585A00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289080" y="404640"/>
            <a:ext cx="7019640" cy="600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我现在吹的泡泡都很小，真想把泡泡吹大点，有了！可以对着桌面吹呀！于是，我又蘸了点水，对着桌面吹，哎呀！不好，泡泡爆了！洗涤灵水炸了我一脸，我举起右手，把脸擦干继续吹。大家看见我吹的泡泡很大就学我的样子，对着桌面吹。我吹出了一个大泡泡，旁边的同学看见了，就都把吸管插进我的大泡泡里，大家一起吹，就吹得很大很大，有半张桌子那么大呢！就像一个大城堡似的！我太高兴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形标注 2"/>
          <p:cNvSpPr/>
          <p:nvPr/>
        </p:nvSpPr>
        <p:spPr>
          <a:xfrm>
            <a:off x="7128000" y="692280"/>
            <a:ext cx="2016000" cy="1728720"/>
          </a:xfrm>
          <a:prstGeom prst="wedgeEllipseCallout">
            <a:avLst>
              <a:gd name="adj1" fmla="val -54777"/>
              <a:gd name="adj2" fmla="val -1748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玩耍也要动脑筋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4"/>
          <p:cNvSpPr/>
          <p:nvPr/>
        </p:nvSpPr>
        <p:spPr>
          <a:xfrm>
            <a:off x="5076720" y="981000"/>
            <a:ext cx="1800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5"/>
          <p:cNvSpPr/>
          <p:nvPr/>
        </p:nvSpPr>
        <p:spPr>
          <a:xfrm>
            <a:off x="466560" y="1484280"/>
            <a:ext cx="13687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7"/>
          <p:cNvSpPr/>
          <p:nvPr/>
        </p:nvSpPr>
        <p:spPr>
          <a:xfrm>
            <a:off x="2195640" y="1484280"/>
            <a:ext cx="4465440" cy="1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9"/>
          <p:cNvSpPr/>
          <p:nvPr/>
        </p:nvSpPr>
        <p:spPr>
          <a:xfrm>
            <a:off x="539640" y="1989000"/>
            <a:ext cx="6121440" cy="1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"/>
          <p:cNvGrpSpPr/>
          <p:nvPr/>
        </p:nvGrpSpPr>
        <p:grpSpPr>
          <a:xfrm>
            <a:off x="324000" y="3429000"/>
            <a:ext cx="6984720" cy="2952720"/>
            <a:chOff x="324000" y="3429000"/>
            <a:chExt cx="6984720" cy="2952720"/>
          </a:xfrm>
        </p:grpSpPr>
        <p:sp>
          <p:nvSpPr>
            <p:cNvPr id="116" name="矩形 15"/>
            <p:cNvSpPr/>
            <p:nvPr/>
          </p:nvSpPr>
          <p:spPr>
            <a:xfrm flipH="1">
              <a:off x="5220720" y="5301360"/>
              <a:ext cx="93600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～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10"/>
            <p:cNvGrpSpPr/>
            <p:nvPr/>
          </p:nvGrpSpPr>
          <p:grpSpPr>
            <a:xfrm>
              <a:off x="324000" y="3429000"/>
              <a:ext cx="6984720" cy="2952720"/>
              <a:chOff x="324000" y="3429000"/>
              <a:chExt cx="6984720" cy="2952720"/>
            </a:xfrm>
          </p:grpSpPr>
          <p:sp>
            <p:nvSpPr>
              <p:cNvPr id="118" name="矩形 12"/>
              <p:cNvSpPr/>
              <p:nvPr/>
            </p:nvSpPr>
            <p:spPr>
              <a:xfrm>
                <a:off x="4932360" y="344160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 13"/>
              <p:cNvSpPr/>
              <p:nvPr/>
            </p:nvSpPr>
            <p:spPr>
              <a:xfrm>
                <a:off x="6084720" y="342900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4"/>
              <p:cNvSpPr/>
              <p:nvPr/>
            </p:nvSpPr>
            <p:spPr>
              <a:xfrm flipH="1">
                <a:off x="396000" y="393300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矩形 16"/>
              <p:cNvSpPr/>
              <p:nvPr/>
            </p:nvSpPr>
            <p:spPr>
              <a:xfrm flipH="1">
                <a:off x="6228720" y="48693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17"/>
              <p:cNvSpPr/>
              <p:nvPr/>
            </p:nvSpPr>
            <p:spPr>
              <a:xfrm flipH="1">
                <a:off x="324000" y="545832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矩形 18"/>
              <p:cNvSpPr/>
              <p:nvPr/>
            </p:nvSpPr>
            <p:spPr>
              <a:xfrm flipH="1">
                <a:off x="1476000" y="545832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 19"/>
              <p:cNvSpPr/>
              <p:nvPr/>
            </p:nvSpPr>
            <p:spPr>
              <a:xfrm flipH="1">
                <a:off x="2700360" y="544572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矩形 20"/>
              <p:cNvSpPr/>
              <p:nvPr/>
            </p:nvSpPr>
            <p:spPr>
              <a:xfrm flipH="1">
                <a:off x="3924360" y="544572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矩形 21"/>
              <p:cNvSpPr/>
              <p:nvPr/>
            </p:nvSpPr>
            <p:spPr>
              <a:xfrm flipH="1">
                <a:off x="5076720" y="48693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矩形 22"/>
              <p:cNvSpPr/>
              <p:nvPr/>
            </p:nvSpPr>
            <p:spPr>
              <a:xfrm flipH="1">
                <a:off x="5292720" y="4449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矩形 23"/>
              <p:cNvSpPr/>
              <p:nvPr/>
            </p:nvSpPr>
            <p:spPr>
              <a:xfrm flipH="1">
                <a:off x="6372720" y="4377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矩形 24"/>
              <p:cNvSpPr/>
              <p:nvPr/>
            </p:nvSpPr>
            <p:spPr>
              <a:xfrm flipH="1">
                <a:off x="396000" y="4881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矩形 25"/>
              <p:cNvSpPr/>
              <p:nvPr/>
            </p:nvSpPr>
            <p:spPr>
              <a:xfrm flipH="1">
                <a:off x="1908000" y="4881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矩形 26"/>
              <p:cNvSpPr/>
              <p:nvPr/>
            </p:nvSpPr>
            <p:spPr>
              <a:xfrm flipH="1">
                <a:off x="3060360" y="48693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矩形 27"/>
              <p:cNvSpPr/>
              <p:nvPr/>
            </p:nvSpPr>
            <p:spPr>
              <a:xfrm flipH="1">
                <a:off x="4068360" y="4881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矩形 28"/>
              <p:cNvSpPr/>
              <p:nvPr/>
            </p:nvSpPr>
            <p:spPr>
              <a:xfrm flipH="1">
                <a:off x="6228720" y="3945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矩形 29"/>
              <p:cNvSpPr/>
              <p:nvPr/>
            </p:nvSpPr>
            <p:spPr>
              <a:xfrm flipH="1">
                <a:off x="4860360" y="393300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30"/>
              <p:cNvSpPr/>
              <p:nvPr/>
            </p:nvSpPr>
            <p:spPr>
              <a:xfrm flipH="1">
                <a:off x="3852360" y="3945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31"/>
              <p:cNvSpPr/>
              <p:nvPr/>
            </p:nvSpPr>
            <p:spPr>
              <a:xfrm flipH="1">
                <a:off x="2772360" y="3945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2"/>
              <p:cNvSpPr/>
              <p:nvPr/>
            </p:nvSpPr>
            <p:spPr>
              <a:xfrm flipH="1">
                <a:off x="1692000" y="3945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矩形 33"/>
              <p:cNvSpPr/>
              <p:nvPr/>
            </p:nvSpPr>
            <p:spPr>
              <a:xfrm flipH="1">
                <a:off x="548280" y="4449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矩形 34"/>
              <p:cNvSpPr/>
              <p:nvPr/>
            </p:nvSpPr>
            <p:spPr>
              <a:xfrm flipH="1">
                <a:off x="1548000" y="4449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矩形 35"/>
              <p:cNvSpPr/>
              <p:nvPr/>
            </p:nvSpPr>
            <p:spPr>
              <a:xfrm flipH="1">
                <a:off x="2700360" y="4449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矩形 36"/>
              <p:cNvSpPr/>
              <p:nvPr/>
            </p:nvSpPr>
            <p:spPr>
              <a:xfrm flipH="1">
                <a:off x="3924360" y="4449960"/>
                <a:ext cx="9360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0000"/>
                    </a:solidFill>
                    <a:latin typeface="宋体"/>
                  </a:rPr>
                  <a:t>～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椭圆形标注 58"/>
          <p:cNvSpPr/>
          <p:nvPr/>
        </p:nvSpPr>
        <p:spPr>
          <a:xfrm>
            <a:off x="7128000" y="4365720"/>
            <a:ext cx="2016000" cy="1727280"/>
          </a:xfrm>
          <a:prstGeom prst="wedgeEllipseCallout">
            <a:avLst>
              <a:gd name="adj1" fmla="val -54777"/>
              <a:gd name="adj2" fmla="val -1748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人多力量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lick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7CE0-D045-4F7A-B3A7-F184950320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395280" y="620640"/>
            <a:ext cx="6443640" cy="55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我蘸点洗涤灵水，在两边各吹了一个比上一个小一点的泡泡，吹好了就像一个大甲虫似的。我又接着吹那个大泡泡，吹着吹着，只听“嘭”的一声，大泡泡爆了，洗涤灵水又溅了我一脸，我便举起右手擦干脸。这时，老师进来了，对我们说：“同学们，该上课了！”我们回到了原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吹泡泡可真好玩呀！下次有时间一定要再玩一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2"/>
          <p:cNvSpPr/>
          <p:nvPr/>
        </p:nvSpPr>
        <p:spPr>
          <a:xfrm>
            <a:off x="3780000" y="1197000"/>
            <a:ext cx="2808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4"/>
          <p:cNvSpPr/>
          <p:nvPr/>
        </p:nvSpPr>
        <p:spPr>
          <a:xfrm>
            <a:off x="539640" y="1700280"/>
            <a:ext cx="6121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5"/>
          <p:cNvSpPr/>
          <p:nvPr/>
        </p:nvSpPr>
        <p:spPr>
          <a:xfrm>
            <a:off x="539640" y="2205000"/>
            <a:ext cx="3816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形标注 8"/>
          <p:cNvSpPr/>
          <p:nvPr/>
        </p:nvSpPr>
        <p:spPr>
          <a:xfrm>
            <a:off x="6948360" y="549360"/>
            <a:ext cx="2016360" cy="1727280"/>
          </a:xfrm>
          <a:prstGeom prst="wedgeEllipseCallout">
            <a:avLst>
              <a:gd name="adj1" fmla="val -54777"/>
              <a:gd name="adj2" fmla="val -1748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吹泡泡有很多学问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7"/>
          <p:cNvGrpSpPr/>
          <p:nvPr/>
        </p:nvGrpSpPr>
        <p:grpSpPr>
          <a:xfrm>
            <a:off x="395280" y="1773360"/>
            <a:ext cx="6296040" cy="2208240"/>
            <a:chOff x="395280" y="1773360"/>
            <a:chExt cx="6296040" cy="2208240"/>
          </a:xfrm>
        </p:grpSpPr>
        <p:sp>
          <p:nvSpPr>
            <p:cNvPr id="150" name="矩形 9"/>
            <p:cNvSpPr/>
            <p:nvPr/>
          </p:nvSpPr>
          <p:spPr>
            <a:xfrm>
              <a:off x="1187280" y="2253600"/>
              <a:ext cx="8226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0"/>
            <p:cNvSpPr/>
            <p:nvPr/>
          </p:nvSpPr>
          <p:spPr>
            <a:xfrm>
              <a:off x="3420000" y="2277360"/>
              <a:ext cx="8226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1"/>
            <p:cNvSpPr/>
            <p:nvPr/>
          </p:nvSpPr>
          <p:spPr>
            <a:xfrm>
              <a:off x="2267640" y="2277360"/>
              <a:ext cx="8226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2"/>
            <p:cNvSpPr/>
            <p:nvPr/>
          </p:nvSpPr>
          <p:spPr>
            <a:xfrm>
              <a:off x="395280" y="2277360"/>
              <a:ext cx="8226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3"/>
            <p:cNvSpPr/>
            <p:nvPr/>
          </p:nvSpPr>
          <p:spPr>
            <a:xfrm>
              <a:off x="5796720" y="1773360"/>
              <a:ext cx="8226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14"/>
            <p:cNvSpPr/>
            <p:nvPr/>
          </p:nvSpPr>
          <p:spPr>
            <a:xfrm>
              <a:off x="4962960" y="1773360"/>
              <a:ext cx="8226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5"/>
            <p:cNvSpPr/>
            <p:nvPr/>
          </p:nvSpPr>
          <p:spPr>
            <a:xfrm>
              <a:off x="5868720" y="2277360"/>
              <a:ext cx="8226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6"/>
            <p:cNvSpPr/>
            <p:nvPr/>
          </p:nvSpPr>
          <p:spPr>
            <a:xfrm>
              <a:off x="4500360" y="2277360"/>
              <a:ext cx="8226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7"/>
            <p:cNvSpPr/>
            <p:nvPr/>
          </p:nvSpPr>
          <p:spPr>
            <a:xfrm>
              <a:off x="1763640" y="2781360"/>
              <a:ext cx="8226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8"/>
            <p:cNvSpPr/>
            <p:nvPr/>
          </p:nvSpPr>
          <p:spPr>
            <a:xfrm>
              <a:off x="425520" y="2781360"/>
              <a:ext cx="8226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Calibri"/>
                </a:rPr>
                <a:t>…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椭圆形标注 25"/>
          <p:cNvSpPr/>
          <p:nvPr/>
        </p:nvSpPr>
        <p:spPr>
          <a:xfrm>
            <a:off x="6948360" y="2492280"/>
            <a:ext cx="2016360" cy="1728720"/>
          </a:xfrm>
          <a:prstGeom prst="wedgeEllipseCallout">
            <a:avLst>
              <a:gd name="adj1" fmla="val -54777"/>
              <a:gd name="adj2" fmla="val -1748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玩也会受点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形标注 26"/>
          <p:cNvSpPr/>
          <p:nvPr/>
        </p:nvSpPr>
        <p:spPr>
          <a:xfrm>
            <a:off x="6948360" y="4581360"/>
            <a:ext cx="2016360" cy="1656000"/>
          </a:xfrm>
          <a:prstGeom prst="wedgeEllipseCallout">
            <a:avLst>
              <a:gd name="adj1" fmla="val -54777"/>
              <a:gd name="adj2" fmla="val -1748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总结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lick.wav"/>
      </p:stSnd>
    </p:sndAc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C55E-4669-4BB9-BB85-ED0D56DE4F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形标注 1"/>
          <p:cNvSpPr/>
          <p:nvPr/>
        </p:nvSpPr>
        <p:spPr>
          <a:xfrm>
            <a:off x="34920" y="44280"/>
            <a:ext cx="2089080" cy="936720"/>
          </a:xfrm>
          <a:prstGeom prst="wedgeEllipseCallout">
            <a:avLst>
              <a:gd name="adj1" fmla="val 39578"/>
              <a:gd name="adj2" fmla="val 46421"/>
            </a:avLst>
          </a:prstGeom>
          <a:solidFill>
            <a:srgbClr val="ccff66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这样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250920" y="981000"/>
            <a:ext cx="8642160" cy="5692680"/>
            <a:chOff x="250920" y="981000"/>
            <a:chExt cx="8642160" cy="5692680"/>
          </a:xfrm>
        </p:grpSpPr>
        <p:sp>
          <p:nvSpPr>
            <p:cNvPr id="165" name="TextBox 2"/>
            <p:cNvSpPr/>
            <p:nvPr/>
          </p:nvSpPr>
          <p:spPr>
            <a:xfrm>
              <a:off x="250920" y="981000"/>
              <a:ext cx="2880720" cy="56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alibri"/>
                </a:rPr>
                <a:t>1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、确定写作内容，整理游戏过程。想清游戏的整个过程，试着用上“首先</a:t>
              </a:r>
              <a:r>
                <a:rPr b="1" lang="en-US" sz="2800" spc="-1" strike="noStrike">
                  <a:solidFill>
                    <a:srgbClr val="3333cc"/>
                  </a:solidFill>
                  <a:latin typeface="Calibri"/>
                </a:rPr>
                <a:t>… …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   然后 </a:t>
              </a:r>
              <a:r>
                <a:rPr b="1" lang="en-US" sz="2800" spc="-1" strike="noStrike">
                  <a:solidFill>
                    <a:srgbClr val="3333cc"/>
                  </a:solidFill>
                  <a:latin typeface="Calibri"/>
                </a:rPr>
                <a:t>… …  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 再</a:t>
              </a:r>
              <a:r>
                <a:rPr b="1" lang="en-US" sz="2800" spc="-1" strike="noStrike">
                  <a:solidFill>
                    <a:srgbClr val="3333cc"/>
                  </a:solidFill>
                  <a:latin typeface="Calibri"/>
                </a:rPr>
                <a:t>… …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      最后</a:t>
              </a:r>
              <a:r>
                <a:rPr b="1" lang="en-US" sz="2800" spc="-1" strike="noStrike">
                  <a:solidFill>
                    <a:srgbClr val="3333cc"/>
                  </a:solidFill>
                  <a:latin typeface="Calibri"/>
                </a:rPr>
                <a:t>… …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  ”等表示先后顺序的词，把游戏过程说出来，用上恰当的动词。然后把游戏过程清楚地写下来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3"/>
            <p:cNvSpPr/>
            <p:nvPr/>
          </p:nvSpPr>
          <p:spPr>
            <a:xfrm>
              <a:off x="3275640" y="1190520"/>
              <a:ext cx="3312720" cy="52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alibri"/>
                </a:rPr>
                <a:t>2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、要有适当的神态、动作、语言描写，恰当运用比喻、拟人、排比等手法。如泡泡单个的可用“像气球、像皮球”，一串串的可用“像葡萄、像珍珠项链”等比喻手法，也可用上“一会儿</a:t>
              </a:r>
              <a:r>
                <a:rPr b="1" lang="en-US" sz="2800" spc="-1" strike="noStrike">
                  <a:solidFill>
                    <a:srgbClr val="3333cc"/>
                  </a:solidFill>
                  <a:latin typeface="Calibri"/>
                </a:rPr>
                <a:t>… …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一会儿</a:t>
              </a:r>
              <a:r>
                <a:rPr b="1" lang="en-US" sz="2800" spc="-1" strike="noStrike">
                  <a:solidFill>
                    <a:srgbClr val="3333cc"/>
                  </a:solidFill>
                  <a:latin typeface="Calibri"/>
                </a:rPr>
                <a:t>… … 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”的排比手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4"/>
            <p:cNvSpPr/>
            <p:nvPr/>
          </p:nvSpPr>
          <p:spPr>
            <a:xfrm>
              <a:off x="6732720" y="1334520"/>
              <a:ext cx="2160360" cy="52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alibri"/>
                </a:rPr>
                <a:t>3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、写游戏过程时，要写出玩耍中开心的感觉，结尾要把这种感受直接抒发出来。如：“吹泡泡太好玩了，玩吹泡泡真是一种享受啊！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u"/>
    <p:sndAc>
      <p:stSnd>
        <p:snd r:embed="rId2" name="click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650B-D8F1-447D-B005-67D88E2099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108000" y="488880"/>
            <a:ext cx="36622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动手写写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26211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段，交代玩耍的时间、地点、人物、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段，写清楚玩耍的过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段，抒发玩耍时高兴的感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2" name="click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6A34-2049-485E-BB14-4BA28F44487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108000" y="488880"/>
            <a:ext cx="36622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动手写写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19120" y="1889280"/>
            <a:ext cx="8229600" cy="3916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行的正中间写上题目。玩什么就用什么做题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行空两格开始写作文。每一段开头都要空两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一行的第一格不能打点号。可打引号、书名号、括号的前半部分，破折号、省略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1C6A-972D-432C-814D-DA315390A5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  <a:gridCol w="536400"/>
                <a:gridCol w="538200"/>
                <a:gridCol w="538200"/>
                <a:gridCol w="538200"/>
                <a:gridCol w="538200"/>
                <a:gridCol w="536400"/>
                <a:gridCol w="538200"/>
                <a:gridCol w="538200"/>
                <a:gridCol w="538200"/>
                <a:gridCol w="538200"/>
                <a:gridCol w="536400"/>
                <a:gridCol w="538200"/>
                <a:gridCol w="538200"/>
                <a:gridCol w="538200"/>
                <a:gridCol w="5382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3"/>
          <p:cNvSpPr/>
          <p:nvPr/>
        </p:nvSpPr>
        <p:spPr>
          <a:xfrm>
            <a:off x="3130560" y="-27000"/>
            <a:ext cx="2233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吹  泡  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11"/>
          <p:cNvGrpSpPr/>
          <p:nvPr/>
        </p:nvGrpSpPr>
        <p:grpSpPr>
          <a:xfrm>
            <a:off x="0" y="396720"/>
            <a:ext cx="9325080" cy="6073920"/>
            <a:chOff x="0" y="396720"/>
            <a:chExt cx="9325080" cy="6073920"/>
          </a:xfrm>
        </p:grpSpPr>
        <p:sp>
          <p:nvSpPr>
            <p:cNvPr id="178" name="TextBox 2"/>
            <p:cNvSpPr/>
            <p:nvPr/>
          </p:nvSpPr>
          <p:spPr>
            <a:xfrm>
              <a:off x="0" y="396720"/>
              <a:ext cx="9144720" cy="39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下   课  了，   老  师 对   大  家 说 ：“好  了， 你们   可 以  玩  了。”我 们  都  拿  出  自  己  带  的 泡 泡瓶   ，开  始   玩  吹 泡  泡  ， 这  可  是  我  们  最 喜  欢的  玩 具   。 我  首  先  打  开  瓶 盖  ， 拿   出  吸  管  ，蘸  上  泡  泡  水 ，  再  使  劲 儿  一   甩 ，  泡  泡  就 像气  球  似  的  在  空  中 飘  啊 飘   ， 最  后  我  又  试 着使  劲 儿  一   吹  ， 吹  出  了  一  串 小  泡   泡 ，  像 一串  晶  莹  剔  透 的  珍  珠  项  链 ，  如  果  妈  妈  戴 上它  那  该 多   美  啊   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4"/>
            <p:cNvSpPr/>
            <p:nvPr/>
          </p:nvSpPr>
          <p:spPr>
            <a:xfrm>
              <a:off x="0" y="4293720"/>
              <a:ext cx="914472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我  现  在  吹  的 泡  泡  都  很 小  ，  真  想  把 泡泡  吹 大  点   ，  有  了 ！  可  以  对  着  桌 面  吹  呀 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5"/>
            <p:cNvSpPr/>
            <p:nvPr/>
          </p:nvSpPr>
          <p:spPr>
            <a:xfrm>
              <a:off x="0" y="5085720"/>
              <a:ext cx="9325080" cy="13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于  是  ，  我  又  蘸 了  点  水  ，  对  着  桌 面  吹 ，  哎呀 ！  不   好 ，   泡 泡  爆  了 ！   洗  涤 灵  水  炸 了  我一  脸 ，  我  举   起 右  手  ，  把  脸  上 擦  干  继  续 吹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  <p:sndAc>
      <p:stSnd>
        <p:snd r:embed="rId2" name="type.wav"/>
      </p:stSnd>
    </p:sndAc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288D-3F6D-4C5E-A933-DB30B0FCA29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形标注 2"/>
          <p:cNvSpPr/>
          <p:nvPr/>
        </p:nvSpPr>
        <p:spPr>
          <a:xfrm>
            <a:off x="34920" y="44280"/>
            <a:ext cx="2089080" cy="1152720"/>
          </a:xfrm>
          <a:prstGeom prst="wedgeEllipseCallout">
            <a:avLst>
              <a:gd name="adj1" fmla="val 41629"/>
              <a:gd name="adj2" fmla="val 58824"/>
            </a:avLst>
          </a:prstGeom>
          <a:solidFill>
            <a:srgbClr val="ccff66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开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3840" y="119556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今天，天气真好，太阳懒懒地挂在天空，微风柔柔地吹着，我的心中也是晴朗的，因为我和黄丽约好了今天一块儿去学校操场放风筝，匆匆吃点早餐，我就一蹦一跳地往学校跑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 “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刘豫语，刘豫语，快下来！”是谁在楼下叫我呀，我连忙跑到窗户边，推开窗把头探出往下看，呀，是好朋友欧阳逊，“叫我下来干嘛呀，大清早的？”“走，我们去体育馆溜冰去！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  <p:sndAc>
      <p:stSnd>
        <p:snd r:embed="rId2" name="type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34E6-5AC0-4545-BD41-2C9AADE402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形标注 3"/>
          <p:cNvSpPr/>
          <p:nvPr/>
        </p:nvSpPr>
        <p:spPr>
          <a:xfrm>
            <a:off x="34920" y="44280"/>
            <a:ext cx="2089080" cy="1152720"/>
          </a:xfrm>
          <a:prstGeom prst="wedgeEllipseCallout">
            <a:avLst>
              <a:gd name="adj1" fmla="val 41629"/>
              <a:gd name="adj2" fmla="val 58824"/>
            </a:avLst>
          </a:prstGeom>
          <a:solidFill>
            <a:srgbClr val="ccff66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结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6560" y="1555560"/>
            <a:ext cx="8229600" cy="39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吹泡泡真好玩！朋友们，玩吹泡泡虽说是一件很简单的事，一蘸，一吹，但里面的学问可大哩，玩也不是一件简单的事，要玩得开心，得动脑筋。我今天算是明白了“处处皆学问”这句话的意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五彩的泡泡漫天飞舞，它们带着我们的梦越飞越高，越飞越远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  <p:sndAc>
      <p:stSnd>
        <p:snd r:embed="rId2" name="type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7E4E-DB93-488D-93C6-F9A87F20EB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F86-1830-4FC0-B21A-3C694F0540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云形标注 2"/>
          <p:cNvSpPr/>
          <p:nvPr/>
        </p:nvSpPr>
        <p:spPr>
          <a:xfrm>
            <a:off x="4788000" y="907920"/>
            <a:ext cx="3311280" cy="1657440"/>
          </a:xfrm>
          <a:prstGeom prst="cloudCallout">
            <a:avLst>
              <a:gd name="adj1" fmla="val -84666"/>
              <a:gd name="adj2" fmla="val 51763"/>
            </a:avLst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玩，是最让我们开心事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lick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5BC5-0EB1-4278-9007-3C6748278B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2160360" cy="2448000"/>
          </a:xfrm>
          <a:prstGeom prst="rect">
            <a:avLst/>
          </a:prstGeom>
          <a:ln cap="rnd" w="38160">
            <a:solidFill>
              <a:srgbClr val="ffc000"/>
            </a:solidFill>
            <a:miter/>
          </a:ln>
        </p:spPr>
      </p:pic>
      <p:pic>
        <p:nvPicPr>
          <p:cNvPr id="54" name="图片 3" descr=""/>
          <p:cNvPicPr/>
          <p:nvPr/>
        </p:nvPicPr>
        <p:blipFill>
          <a:blip r:embed="rId3"/>
          <a:stretch/>
        </p:blipFill>
        <p:spPr>
          <a:xfrm>
            <a:off x="6732720" y="3933720"/>
            <a:ext cx="2195280" cy="2519640"/>
          </a:xfrm>
          <a:prstGeom prst="rect">
            <a:avLst/>
          </a:prstGeom>
          <a:ln cap="rnd" w="63360">
            <a:solidFill>
              <a:srgbClr val="92d050"/>
            </a:solidFill>
            <a:miter/>
          </a:ln>
        </p:spPr>
      </p:pic>
      <p:pic>
        <p:nvPicPr>
          <p:cNvPr id="55" name="图片 4" descr=""/>
          <p:cNvPicPr/>
          <p:nvPr/>
        </p:nvPicPr>
        <p:blipFill>
          <a:blip r:embed="rId4"/>
          <a:stretch/>
        </p:blipFill>
        <p:spPr>
          <a:xfrm>
            <a:off x="324000" y="476280"/>
            <a:ext cx="2232000" cy="2305080"/>
          </a:xfrm>
          <a:prstGeom prst="rect">
            <a:avLst/>
          </a:prstGeom>
          <a:ln cap="rnd" w="63360">
            <a:solidFill>
              <a:srgbClr val="00b0f0"/>
            </a:solidFill>
            <a:miter/>
          </a:ln>
        </p:spPr>
      </p:pic>
      <p:pic>
        <p:nvPicPr>
          <p:cNvPr id="56" name="图片 5" descr=""/>
          <p:cNvPicPr/>
          <p:nvPr/>
        </p:nvPicPr>
        <p:blipFill>
          <a:blip r:embed="rId5"/>
          <a:stretch/>
        </p:blipFill>
        <p:spPr>
          <a:xfrm>
            <a:off x="3132000" y="2997360"/>
            <a:ext cx="3024360" cy="3384360"/>
          </a:xfrm>
          <a:prstGeom prst="rect">
            <a:avLst/>
          </a:prstGeom>
          <a:ln cap="rnd" w="63360">
            <a:solidFill>
              <a:srgbClr val="9bbb59"/>
            </a:solidFill>
            <a:miter/>
          </a:ln>
        </p:spPr>
      </p:pic>
      <p:sp>
        <p:nvSpPr>
          <p:cNvPr id="57" name="云形标注 6"/>
          <p:cNvSpPr/>
          <p:nvPr/>
        </p:nvSpPr>
        <p:spPr>
          <a:xfrm>
            <a:off x="5003640" y="549360"/>
            <a:ext cx="3672000" cy="2448000"/>
          </a:xfrm>
          <a:prstGeom prst="cloudCallout">
            <a:avLst>
              <a:gd name="adj1" fmla="val -95504"/>
              <a:gd name="adj2" fmla="val 49074"/>
            </a:avLst>
          </a:prstGeom>
          <a:solidFill>
            <a:srgbClr val="0070c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我最喜欢吹泡泡。在阳光地照耀下，泡泡闪烁着七彩的光芒，美丽极了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6" name="coin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AAC-3CB2-4F58-A1D4-33E8FDA629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云形标注 1"/>
          <p:cNvSpPr/>
          <p:nvPr/>
        </p:nvSpPr>
        <p:spPr>
          <a:xfrm>
            <a:off x="5292720" y="333360"/>
            <a:ext cx="3240000" cy="2232000"/>
          </a:xfrm>
          <a:prstGeom prst="cloudCallout">
            <a:avLst>
              <a:gd name="adj1" fmla="val -65930"/>
              <a:gd name="adj2" fmla="val 57828"/>
            </a:avLst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风筝上了天，我心里美滋滋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2"/>
          <a:stretch/>
        </p:blipFill>
        <p:spPr>
          <a:xfrm>
            <a:off x="-33480" y="3959280"/>
            <a:ext cx="2697480" cy="2638440"/>
          </a:xfrm>
          <a:prstGeom prst="rect">
            <a:avLst/>
          </a:prstGeom>
          <a:ln cap="rnd" w="28440">
            <a:solidFill>
              <a:srgbClr val="ffff00"/>
            </a:solidFill>
            <a:miter/>
          </a:ln>
        </p:spPr>
      </p:pic>
      <p:pic>
        <p:nvPicPr>
          <p:cNvPr id="61" name="图片 3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700360" cy="2727360"/>
          </a:xfrm>
          <a:prstGeom prst="rect">
            <a:avLst/>
          </a:prstGeom>
          <a:ln cap="rnd" w="28440">
            <a:solidFill>
              <a:srgbClr val="92d050"/>
            </a:solidFill>
            <a:miter/>
          </a:ln>
        </p:spPr>
      </p:pic>
      <p:pic>
        <p:nvPicPr>
          <p:cNvPr id="62" name="图片 4" descr=""/>
          <p:cNvPicPr/>
          <p:nvPr/>
        </p:nvPicPr>
        <p:blipFill>
          <a:blip r:embed="rId4"/>
          <a:stretch/>
        </p:blipFill>
        <p:spPr>
          <a:xfrm>
            <a:off x="2562120" y="2924280"/>
            <a:ext cx="4025880" cy="3649680"/>
          </a:xfrm>
          <a:prstGeom prst="rect">
            <a:avLst/>
          </a:prstGeom>
          <a:ln cap="rnd" w="38160">
            <a:solidFill>
              <a:srgbClr val="f79646"/>
            </a:solidFill>
            <a:miter/>
          </a:ln>
        </p:spPr>
      </p:pic>
      <p:pic>
        <p:nvPicPr>
          <p:cNvPr id="63" name="图片 5" descr=""/>
          <p:cNvPicPr/>
          <p:nvPr/>
        </p:nvPicPr>
        <p:blipFill>
          <a:blip r:embed="rId5"/>
          <a:stretch/>
        </p:blipFill>
        <p:spPr>
          <a:xfrm>
            <a:off x="395280" y="333360"/>
            <a:ext cx="2700360" cy="2664000"/>
          </a:xfrm>
          <a:prstGeom prst="rect">
            <a:avLst/>
          </a:prstGeom>
          <a:ln cap="rnd" w="38160">
            <a:solidFill>
              <a:srgbClr val="ff99cc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0"/>
          <p:cNvSpPr/>
          <p:nvPr/>
        </p:nvSpPr>
        <p:spPr>
          <a:xfrm>
            <a:off x="4268880" y="3257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7E01-B6BB-45E1-93A7-F12F19E164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形标注 4"/>
          <p:cNvSpPr/>
          <p:nvPr/>
        </p:nvSpPr>
        <p:spPr>
          <a:xfrm>
            <a:off x="755640" y="836640"/>
            <a:ext cx="2879640" cy="1655640"/>
          </a:xfrm>
          <a:prstGeom prst="wedgeEllipseCallout">
            <a:avLst>
              <a:gd name="adj1" fmla="val 32675"/>
              <a:gd name="adj2" fmla="val 63444"/>
            </a:avLst>
          </a:prstGeom>
          <a:solidFill>
            <a:srgbClr val="ff99cc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最喜欢玩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波形 5"/>
          <p:cNvSpPr/>
          <p:nvPr/>
        </p:nvSpPr>
        <p:spPr>
          <a:xfrm>
            <a:off x="5003640" y="620640"/>
            <a:ext cx="2592720" cy="1368360"/>
          </a:xfrm>
          <a:custGeom>
            <a:avLst/>
            <a:gdLst>
              <a:gd name="textAreaLeft" fmla="*/ 0 w 2592720"/>
              <a:gd name="textAreaRight" fmla="*/ 2593080 w 259272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怎么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6"/>
          <p:cNvSpPr/>
          <p:nvPr/>
        </p:nvSpPr>
        <p:spPr>
          <a:xfrm>
            <a:off x="3995640" y="2349360"/>
            <a:ext cx="3024360" cy="15843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哪一次让你最开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348000" y="404640"/>
            <a:ext cx="9349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79646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7740720" y="333360"/>
            <a:ext cx="9367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79646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7236000" y="2060640"/>
            <a:ext cx="936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79646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lick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E672-D527-4A2A-9049-C6A54F5BF4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形标注 1"/>
          <p:cNvSpPr/>
          <p:nvPr/>
        </p:nvSpPr>
        <p:spPr>
          <a:xfrm>
            <a:off x="324000" y="260280"/>
            <a:ext cx="2879640" cy="1656000"/>
          </a:xfrm>
          <a:prstGeom prst="wedgeEllipseCallout">
            <a:avLst>
              <a:gd name="adj1" fmla="val 32675"/>
              <a:gd name="adj2" fmla="val 63444"/>
            </a:avLst>
          </a:prstGeom>
          <a:solidFill>
            <a:srgbClr val="ff99cc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最喜欢玩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2"/>
          <p:cNvSpPr/>
          <p:nvPr/>
        </p:nvSpPr>
        <p:spPr>
          <a:xfrm>
            <a:off x="826920" y="2349360"/>
            <a:ext cx="2305080" cy="15112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捉迷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"/>
          <p:cNvSpPr/>
          <p:nvPr/>
        </p:nvSpPr>
        <p:spPr>
          <a:xfrm>
            <a:off x="3348000" y="1773360"/>
            <a:ext cx="2303640" cy="15112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鹰捉小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4"/>
          <p:cNvSpPr/>
          <p:nvPr/>
        </p:nvSpPr>
        <p:spPr>
          <a:xfrm>
            <a:off x="5796000" y="2349360"/>
            <a:ext cx="2305080" cy="15112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跳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5"/>
          <p:cNvSpPr/>
          <p:nvPr/>
        </p:nvSpPr>
        <p:spPr>
          <a:xfrm>
            <a:off x="900000" y="3933720"/>
            <a:ext cx="2303640" cy="15112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踢毽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6"/>
          <p:cNvSpPr/>
          <p:nvPr/>
        </p:nvSpPr>
        <p:spPr>
          <a:xfrm>
            <a:off x="3419640" y="4365720"/>
            <a:ext cx="2304720" cy="15112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跳方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7"/>
          <p:cNvSpPr/>
          <p:nvPr/>
        </p:nvSpPr>
        <p:spPr>
          <a:xfrm>
            <a:off x="5796000" y="3933720"/>
            <a:ext cx="2305080" cy="15112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跳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1603440" y="6215040"/>
            <a:ext cx="53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2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80A6-9520-4B80-AE23-9DA2B5B4D4C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波形 1"/>
          <p:cNvSpPr/>
          <p:nvPr/>
        </p:nvSpPr>
        <p:spPr>
          <a:xfrm>
            <a:off x="179280" y="189000"/>
            <a:ext cx="1944720" cy="1368360"/>
          </a:xfrm>
          <a:custGeom>
            <a:avLst/>
            <a:gdLst>
              <a:gd name="textAreaLeft" fmla="*/ 0 w 1944720"/>
              <a:gd name="textAreaRight" fmla="*/ 1945080 w 194472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怎么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826920" y="1557360"/>
            <a:ext cx="77774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最喜欢玩（                                 ），首先（                                       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然后（                                   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再（                                       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后（                             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16360" y="1547640"/>
            <a:ext cx="1656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吹泡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266920" y="2052720"/>
            <a:ext cx="4537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制作泡泡水，找吸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050920" y="2781360"/>
            <a:ext cx="61214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拿出找来的吸管，蘸上泡泡水，将嘴巴对准吸管，准备吹泡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2050920" y="4724280"/>
            <a:ext cx="6193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使劲儿一甩，小泡泡就像气球似的在空中飘啊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1619280" y="3933720"/>
            <a:ext cx="6192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轻轻一吹，吹出了一个小泡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D5C4-45CC-424B-8B0F-42F9A00675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波形 1"/>
          <p:cNvSpPr/>
          <p:nvPr/>
        </p:nvSpPr>
        <p:spPr>
          <a:xfrm>
            <a:off x="179280" y="189000"/>
            <a:ext cx="1944720" cy="1368360"/>
          </a:xfrm>
          <a:custGeom>
            <a:avLst/>
            <a:gdLst>
              <a:gd name="textAreaLeft" fmla="*/ 0 w 1944720"/>
              <a:gd name="textAreaRight" fmla="*/ 1945080 w 194472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怎么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826920" y="1557360"/>
            <a:ext cx="784872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最喜欢玩（                                 ），首先（                                          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然后（                                      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再（                                           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后（                                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716360" y="1547640"/>
            <a:ext cx="1656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放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195640" y="2043000"/>
            <a:ext cx="5400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买一个自己最喜欢的风筝，在没雨有风的日子，找一块空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944720" y="2924280"/>
            <a:ext cx="586728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左手举起风筝，右手拿着线轴，迎风站立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763640" y="3699000"/>
            <a:ext cx="6120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往前助跑，左手使劲儿把风筝向上一抛，边放线边快速跑动，风筝就像飞机似的在空中飘啊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1979640" y="5013360"/>
            <a:ext cx="597708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根据需要，调节线的长短以控制风筝的高度；调整步伐，改变风筝的飞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lick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23B2-48D6-4DD3-A012-CB706891D0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0"/>
          <p:cNvSpPr/>
          <p:nvPr/>
        </p:nvSpPr>
        <p:spPr>
          <a:xfrm>
            <a:off x="0" y="0"/>
            <a:ext cx="2556000" cy="1268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95280" y="1268280"/>
            <a:ext cx="6192720" cy="483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下课了，老师对大家说：“好了，你们可以玩了。”我们都拿出自己带的泡泡瓶，开始玩吹泡泡，这可是我们最喜欢的玩具。我首先打开瓶盖，拿出吸管，蘸上洗涤灵，准备吹泡泡，然后试着轻轻地吹，吹出了一个小泡泡，再使劲儿一甩，泡泡就像气球似的在空中飘啊飘，最后我又试着使劲儿一吹，吹出了一串小泡泡，像一串晶莹剔透的珍珠项链，如果妈妈戴上它那该多美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3203640" y="260280"/>
            <a:ext cx="22716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吹泡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形标注 3"/>
          <p:cNvSpPr/>
          <p:nvPr/>
        </p:nvSpPr>
        <p:spPr>
          <a:xfrm>
            <a:off x="6732720" y="836640"/>
            <a:ext cx="2411280" cy="2160720"/>
          </a:xfrm>
          <a:prstGeom prst="wedgeEllipseCallout">
            <a:avLst>
              <a:gd name="adj1" fmla="val -68949"/>
              <a:gd name="adj2" fmla="val -2199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交代玩耍的时间、地点、人物、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形标注 4"/>
          <p:cNvSpPr/>
          <p:nvPr/>
        </p:nvSpPr>
        <p:spPr>
          <a:xfrm>
            <a:off x="-33480" y="189000"/>
            <a:ext cx="2662560" cy="863640"/>
          </a:xfrm>
          <a:prstGeom prst="wedgeEllipseCallout">
            <a:avLst>
              <a:gd name="adj1" fmla="val 42824"/>
              <a:gd name="adj2" fmla="val 57069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学习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形标注 5"/>
          <p:cNvSpPr/>
          <p:nvPr/>
        </p:nvSpPr>
        <p:spPr>
          <a:xfrm>
            <a:off x="6696000" y="2852640"/>
            <a:ext cx="2448000" cy="1871640"/>
          </a:xfrm>
          <a:prstGeom prst="wedgeEllipseCallout">
            <a:avLst>
              <a:gd name="adj1" fmla="val -61791"/>
              <a:gd name="adj2" fmla="val -19064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写明吹泡泡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7"/>
          <p:cNvSpPr/>
          <p:nvPr/>
        </p:nvSpPr>
        <p:spPr>
          <a:xfrm>
            <a:off x="1979640" y="5229360"/>
            <a:ext cx="4176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8"/>
          <p:cNvSpPr/>
          <p:nvPr/>
        </p:nvSpPr>
        <p:spPr>
          <a:xfrm>
            <a:off x="611280" y="5661000"/>
            <a:ext cx="5616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9"/>
          <p:cNvSpPr/>
          <p:nvPr/>
        </p:nvSpPr>
        <p:spPr>
          <a:xfrm>
            <a:off x="539640" y="6093000"/>
            <a:ext cx="2160720" cy="2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形标注 11"/>
          <p:cNvSpPr/>
          <p:nvPr/>
        </p:nvSpPr>
        <p:spPr>
          <a:xfrm>
            <a:off x="6696000" y="4653000"/>
            <a:ext cx="2448000" cy="1917720"/>
          </a:xfrm>
          <a:prstGeom prst="wedgeEllipseCallout">
            <a:avLst>
              <a:gd name="adj1" fmla="val -61791"/>
              <a:gd name="adj2" fmla="val -19064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想象泡泡的样子，并想到给妈妈戴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click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57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0:35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