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MS PMincho"/>
              </a:rPr>
              <a:t>Click to move the slide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BE5-FE39-4C6E-A631-DA57BC1C15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C1F5-30E1-41B1-BB92-95A7BA3AC0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977-12D3-4EDE-9957-C7CB365A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E85-E73A-460C-A994-5123333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237-8923-4F8F-A00E-136A2826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420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420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2D5-6D16-45FC-9931-130C6803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84DD-C9D8-47C1-8514-D71B3A95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B33F-F2D4-46E1-AEED-1C03601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A2F3-42B3-4FC0-B820-255D1C6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F48-4238-4500-B6A4-E2B71433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9A13-46D6-44BE-ACC2-401EAE8A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6760" y="291600"/>
            <a:ext cx="71964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D24-88A8-49FB-A780-1213DB2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0B4E-ED34-4011-A841-E7BC2BC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519-49EB-4F0B-89F9-FF3FCB0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F5EA-F980-4904-B72A-D23757E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9AF-6939-4395-9360-DEF1E623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7CA-016E-40F9-ADF4-C40FBB6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F899-5632-4925-9593-A711EBC1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420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212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420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212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F7EE-2733-4FF9-A458-621FCA7B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FC96-2212-43E5-8F1B-4BF3CCFE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1B2E-13CB-445E-B715-D3650158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1071-C6FE-463E-A0A0-3185211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8896-6C6E-49D9-9341-A73AA6CC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1356-324B-4A22-9E69-295B8CE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79E-FFE4-41FE-84CB-C93DF9A4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96760" y="291600"/>
            <a:ext cx="71964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D5A8-9AD7-4B7F-B3CA-BB3D662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5C9E-0D2A-4E3D-9682-0AC8074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1884-8250-4A4F-ABDC-68097B76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9597-D51C-4BCE-BDD1-499A16A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3E34-8826-49AD-9650-2A512F5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5223-5148-45C9-A2A5-58D09468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420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82120" y="147636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420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82120" y="4025520"/>
            <a:ext cx="257868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E813-E301-4957-9634-6457670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13D-12B7-4019-AE7E-0309CB0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C88-0DF5-4670-B2B3-7FCCCB9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6760" y="291600"/>
            <a:ext cx="71964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F4E-DE52-415E-8CEF-C89EFEFE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037-F811-407F-940F-F72001C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2552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8D2-73E3-40A0-9414-90DB6B7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76360"/>
            <a:ext cx="390816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4025520"/>
            <a:ext cx="800892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B24-A509-443E-A0F2-ABC3E8C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D4E-2BFC-4519-B7F7-E0725A61EB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F2BA-285E-4E32-9AF1-39EF50AB5B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矩形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KSO_Shape"/>
          <p:cNvSpPr/>
          <p:nvPr/>
        </p:nvSpPr>
        <p:spPr>
          <a:xfrm>
            <a:off x="1541520" y="1339920"/>
            <a:ext cx="5840280" cy="4054320"/>
          </a:xfrm>
          <a:custGeom>
            <a:avLst/>
            <a:gdLst/>
            <a:ahLst/>
            <a:rect l="l" t="t" r="r" b="b"/>
            <a:pathLst>
              <a:path w="23269574" h="16071852">
                <a:moveTo>
                  <a:pt x="12026903" y="6746876"/>
                </a:moveTo>
                <a:lnTo>
                  <a:pt x="12150728" y="6746876"/>
                </a:lnTo>
                <a:lnTo>
                  <a:pt x="12268203" y="6750052"/>
                </a:lnTo>
                <a:lnTo>
                  <a:pt x="12376153" y="6756400"/>
                </a:lnTo>
                <a:lnTo>
                  <a:pt x="12477753" y="6765926"/>
                </a:lnTo>
                <a:lnTo>
                  <a:pt x="12573003" y="6778626"/>
                </a:lnTo>
                <a:lnTo>
                  <a:pt x="12661903" y="6794500"/>
                </a:lnTo>
                <a:lnTo>
                  <a:pt x="12744453" y="6810376"/>
                </a:lnTo>
                <a:lnTo>
                  <a:pt x="12820653" y="6829426"/>
                </a:lnTo>
                <a:lnTo>
                  <a:pt x="12890503" y="6851652"/>
                </a:lnTo>
                <a:lnTo>
                  <a:pt x="12954003" y="6870700"/>
                </a:lnTo>
                <a:lnTo>
                  <a:pt x="13011153" y="6892926"/>
                </a:lnTo>
                <a:lnTo>
                  <a:pt x="13061953" y="6915152"/>
                </a:lnTo>
                <a:lnTo>
                  <a:pt x="13109578" y="6937376"/>
                </a:lnTo>
                <a:lnTo>
                  <a:pt x="13150853" y="6956426"/>
                </a:lnTo>
                <a:lnTo>
                  <a:pt x="13217528" y="6994526"/>
                </a:lnTo>
                <a:lnTo>
                  <a:pt x="13261978" y="7026276"/>
                </a:lnTo>
                <a:lnTo>
                  <a:pt x="13287378" y="7045326"/>
                </a:lnTo>
                <a:lnTo>
                  <a:pt x="13296903" y="7054852"/>
                </a:lnTo>
                <a:lnTo>
                  <a:pt x="13192128" y="7013576"/>
                </a:lnTo>
                <a:lnTo>
                  <a:pt x="13087353" y="6978652"/>
                </a:lnTo>
                <a:lnTo>
                  <a:pt x="12979403" y="6950076"/>
                </a:lnTo>
                <a:lnTo>
                  <a:pt x="12871453" y="6924676"/>
                </a:lnTo>
                <a:lnTo>
                  <a:pt x="12766678" y="6902452"/>
                </a:lnTo>
                <a:lnTo>
                  <a:pt x="12658728" y="6889752"/>
                </a:lnTo>
                <a:lnTo>
                  <a:pt x="12547603" y="6877052"/>
                </a:lnTo>
                <a:lnTo>
                  <a:pt x="12439653" y="6870700"/>
                </a:lnTo>
                <a:lnTo>
                  <a:pt x="12331703" y="6870700"/>
                </a:lnTo>
                <a:lnTo>
                  <a:pt x="12223753" y="6870700"/>
                </a:lnTo>
                <a:lnTo>
                  <a:pt x="12112628" y="6877052"/>
                </a:lnTo>
                <a:lnTo>
                  <a:pt x="12004678" y="6886576"/>
                </a:lnTo>
                <a:lnTo>
                  <a:pt x="11896728" y="6902452"/>
                </a:lnTo>
                <a:lnTo>
                  <a:pt x="11785603" y="6918326"/>
                </a:lnTo>
                <a:lnTo>
                  <a:pt x="11677653" y="6937376"/>
                </a:lnTo>
                <a:lnTo>
                  <a:pt x="11569703" y="6962776"/>
                </a:lnTo>
                <a:lnTo>
                  <a:pt x="11464928" y="6988176"/>
                </a:lnTo>
                <a:lnTo>
                  <a:pt x="11356978" y="7016752"/>
                </a:lnTo>
                <a:lnTo>
                  <a:pt x="11252203" y="7048500"/>
                </a:lnTo>
                <a:lnTo>
                  <a:pt x="11144254" y="7083426"/>
                </a:lnTo>
                <a:lnTo>
                  <a:pt x="11042653" y="7121526"/>
                </a:lnTo>
                <a:lnTo>
                  <a:pt x="10937878" y="7159626"/>
                </a:lnTo>
                <a:lnTo>
                  <a:pt x="10836278" y="7200900"/>
                </a:lnTo>
                <a:lnTo>
                  <a:pt x="10734679" y="7242176"/>
                </a:lnTo>
                <a:lnTo>
                  <a:pt x="10633078" y="7286626"/>
                </a:lnTo>
                <a:lnTo>
                  <a:pt x="10534654" y="7334252"/>
                </a:lnTo>
                <a:lnTo>
                  <a:pt x="10340978" y="7429500"/>
                </a:lnTo>
                <a:lnTo>
                  <a:pt x="10156828" y="7527926"/>
                </a:lnTo>
                <a:lnTo>
                  <a:pt x="9975853" y="7632700"/>
                </a:lnTo>
                <a:lnTo>
                  <a:pt x="9848853" y="7705726"/>
                </a:lnTo>
                <a:lnTo>
                  <a:pt x="9728203" y="7781926"/>
                </a:lnTo>
                <a:lnTo>
                  <a:pt x="9582154" y="7883526"/>
                </a:lnTo>
                <a:lnTo>
                  <a:pt x="9432928" y="7981952"/>
                </a:lnTo>
                <a:lnTo>
                  <a:pt x="9283703" y="8083552"/>
                </a:lnTo>
                <a:lnTo>
                  <a:pt x="9134478" y="8188326"/>
                </a:lnTo>
                <a:lnTo>
                  <a:pt x="9061453" y="8242300"/>
                </a:lnTo>
                <a:lnTo>
                  <a:pt x="8991603" y="8299452"/>
                </a:lnTo>
                <a:lnTo>
                  <a:pt x="8861428" y="8416926"/>
                </a:lnTo>
                <a:lnTo>
                  <a:pt x="8604253" y="8651876"/>
                </a:lnTo>
                <a:lnTo>
                  <a:pt x="8610603" y="8613776"/>
                </a:lnTo>
                <a:lnTo>
                  <a:pt x="8620128" y="8575676"/>
                </a:lnTo>
                <a:lnTo>
                  <a:pt x="8629653" y="8537576"/>
                </a:lnTo>
                <a:lnTo>
                  <a:pt x="8645528" y="8499476"/>
                </a:lnTo>
                <a:lnTo>
                  <a:pt x="8661403" y="8458200"/>
                </a:lnTo>
                <a:lnTo>
                  <a:pt x="8677278" y="8420100"/>
                </a:lnTo>
                <a:lnTo>
                  <a:pt x="8718553" y="8343900"/>
                </a:lnTo>
                <a:lnTo>
                  <a:pt x="8797928" y="8242300"/>
                </a:lnTo>
                <a:lnTo>
                  <a:pt x="8880478" y="8140700"/>
                </a:lnTo>
                <a:lnTo>
                  <a:pt x="8969378" y="8048626"/>
                </a:lnTo>
                <a:lnTo>
                  <a:pt x="9058278" y="7956552"/>
                </a:lnTo>
                <a:lnTo>
                  <a:pt x="9153528" y="7870826"/>
                </a:lnTo>
                <a:lnTo>
                  <a:pt x="9248778" y="7785100"/>
                </a:lnTo>
                <a:lnTo>
                  <a:pt x="9347203" y="7702552"/>
                </a:lnTo>
                <a:lnTo>
                  <a:pt x="9448804" y="7623176"/>
                </a:lnTo>
                <a:lnTo>
                  <a:pt x="9550403" y="7546976"/>
                </a:lnTo>
                <a:lnTo>
                  <a:pt x="9652003" y="7473952"/>
                </a:lnTo>
                <a:lnTo>
                  <a:pt x="9861553" y="7327900"/>
                </a:lnTo>
                <a:lnTo>
                  <a:pt x="9966329" y="7267576"/>
                </a:lnTo>
                <a:lnTo>
                  <a:pt x="10061578" y="7213600"/>
                </a:lnTo>
                <a:lnTo>
                  <a:pt x="10188578" y="7146926"/>
                </a:lnTo>
                <a:lnTo>
                  <a:pt x="10283829" y="7096126"/>
                </a:lnTo>
                <a:lnTo>
                  <a:pt x="10369553" y="7054852"/>
                </a:lnTo>
                <a:lnTo>
                  <a:pt x="10572753" y="6994526"/>
                </a:lnTo>
                <a:lnTo>
                  <a:pt x="10766428" y="6940552"/>
                </a:lnTo>
                <a:lnTo>
                  <a:pt x="10953753" y="6892926"/>
                </a:lnTo>
                <a:lnTo>
                  <a:pt x="11131553" y="6854826"/>
                </a:lnTo>
                <a:lnTo>
                  <a:pt x="11299828" y="6823076"/>
                </a:lnTo>
                <a:lnTo>
                  <a:pt x="11461754" y="6797676"/>
                </a:lnTo>
                <a:lnTo>
                  <a:pt x="11614153" y="6775452"/>
                </a:lnTo>
                <a:lnTo>
                  <a:pt x="11760203" y="6762752"/>
                </a:lnTo>
                <a:lnTo>
                  <a:pt x="11896728" y="6750052"/>
                </a:lnTo>
                <a:lnTo>
                  <a:pt x="12026903" y="6746876"/>
                </a:lnTo>
                <a:close/>
                <a:moveTo>
                  <a:pt x="10912477" y="6508752"/>
                </a:moveTo>
                <a:lnTo>
                  <a:pt x="10852152" y="6534152"/>
                </a:lnTo>
                <a:lnTo>
                  <a:pt x="10782302" y="6562724"/>
                </a:lnTo>
                <a:lnTo>
                  <a:pt x="10687052" y="6607176"/>
                </a:lnTo>
                <a:lnTo>
                  <a:pt x="10569577" y="6664324"/>
                </a:lnTo>
                <a:lnTo>
                  <a:pt x="10436227" y="6734176"/>
                </a:lnTo>
                <a:lnTo>
                  <a:pt x="10287003" y="6816724"/>
                </a:lnTo>
                <a:lnTo>
                  <a:pt x="10125077" y="6915152"/>
                </a:lnTo>
                <a:lnTo>
                  <a:pt x="9985377" y="7004052"/>
                </a:lnTo>
                <a:lnTo>
                  <a:pt x="9842502" y="7102476"/>
                </a:lnTo>
                <a:lnTo>
                  <a:pt x="9658353" y="7261224"/>
                </a:lnTo>
                <a:lnTo>
                  <a:pt x="9477377" y="7423152"/>
                </a:lnTo>
                <a:lnTo>
                  <a:pt x="9299577" y="7591424"/>
                </a:lnTo>
                <a:lnTo>
                  <a:pt x="9210678" y="7677152"/>
                </a:lnTo>
                <a:lnTo>
                  <a:pt x="9124952" y="7766052"/>
                </a:lnTo>
                <a:lnTo>
                  <a:pt x="9013827" y="7886700"/>
                </a:lnTo>
                <a:lnTo>
                  <a:pt x="8905877" y="8007352"/>
                </a:lnTo>
                <a:lnTo>
                  <a:pt x="8810627" y="8128000"/>
                </a:lnTo>
                <a:lnTo>
                  <a:pt x="8721727" y="8251824"/>
                </a:lnTo>
                <a:lnTo>
                  <a:pt x="8632827" y="8378824"/>
                </a:lnTo>
                <a:lnTo>
                  <a:pt x="8547102" y="8512176"/>
                </a:lnTo>
                <a:lnTo>
                  <a:pt x="8483602" y="8613776"/>
                </a:lnTo>
                <a:lnTo>
                  <a:pt x="8423277" y="8718552"/>
                </a:lnTo>
                <a:lnTo>
                  <a:pt x="8366127" y="8823324"/>
                </a:lnTo>
                <a:lnTo>
                  <a:pt x="8312152" y="8931276"/>
                </a:lnTo>
                <a:lnTo>
                  <a:pt x="8261352" y="9042400"/>
                </a:lnTo>
                <a:lnTo>
                  <a:pt x="8213728" y="9153524"/>
                </a:lnTo>
                <a:lnTo>
                  <a:pt x="8172452" y="9264652"/>
                </a:lnTo>
                <a:lnTo>
                  <a:pt x="8134353" y="9378952"/>
                </a:lnTo>
                <a:lnTo>
                  <a:pt x="8102602" y="9496424"/>
                </a:lnTo>
                <a:lnTo>
                  <a:pt x="8074027" y="9613900"/>
                </a:lnTo>
                <a:lnTo>
                  <a:pt x="8051802" y="9731376"/>
                </a:lnTo>
                <a:lnTo>
                  <a:pt x="8035927" y="9848852"/>
                </a:lnTo>
                <a:lnTo>
                  <a:pt x="8026402" y="9966324"/>
                </a:lnTo>
                <a:lnTo>
                  <a:pt x="8020052" y="10083800"/>
                </a:lnTo>
                <a:lnTo>
                  <a:pt x="8020052" y="10204452"/>
                </a:lnTo>
                <a:lnTo>
                  <a:pt x="8029578" y="10321924"/>
                </a:lnTo>
                <a:lnTo>
                  <a:pt x="8035927" y="10401300"/>
                </a:lnTo>
                <a:lnTo>
                  <a:pt x="8048627" y="10477500"/>
                </a:lnTo>
                <a:lnTo>
                  <a:pt x="8064502" y="10556876"/>
                </a:lnTo>
                <a:lnTo>
                  <a:pt x="8080377" y="10636252"/>
                </a:lnTo>
                <a:lnTo>
                  <a:pt x="8102602" y="10712452"/>
                </a:lnTo>
                <a:lnTo>
                  <a:pt x="8128002" y="10788652"/>
                </a:lnTo>
                <a:lnTo>
                  <a:pt x="8156577" y="10864852"/>
                </a:lnTo>
                <a:lnTo>
                  <a:pt x="8188328" y="10941052"/>
                </a:lnTo>
                <a:lnTo>
                  <a:pt x="8220077" y="10985500"/>
                </a:lnTo>
                <a:lnTo>
                  <a:pt x="8255002" y="11029952"/>
                </a:lnTo>
                <a:lnTo>
                  <a:pt x="8293103" y="11071224"/>
                </a:lnTo>
                <a:lnTo>
                  <a:pt x="8337552" y="11112500"/>
                </a:lnTo>
                <a:lnTo>
                  <a:pt x="8397877" y="11163300"/>
                </a:lnTo>
                <a:lnTo>
                  <a:pt x="8461377" y="11207752"/>
                </a:lnTo>
                <a:lnTo>
                  <a:pt x="8499477" y="11229976"/>
                </a:lnTo>
                <a:lnTo>
                  <a:pt x="8537577" y="11249024"/>
                </a:lnTo>
                <a:lnTo>
                  <a:pt x="8575677" y="11268076"/>
                </a:lnTo>
                <a:lnTo>
                  <a:pt x="8616952" y="11283952"/>
                </a:lnTo>
                <a:lnTo>
                  <a:pt x="8683627" y="11309352"/>
                </a:lnTo>
                <a:lnTo>
                  <a:pt x="8753477" y="11328400"/>
                </a:lnTo>
                <a:lnTo>
                  <a:pt x="8829677" y="11347452"/>
                </a:lnTo>
                <a:lnTo>
                  <a:pt x="8909052" y="11360152"/>
                </a:lnTo>
                <a:lnTo>
                  <a:pt x="8994777" y="11366500"/>
                </a:lnTo>
                <a:lnTo>
                  <a:pt x="9086852" y="11369676"/>
                </a:lnTo>
                <a:lnTo>
                  <a:pt x="9182102" y="11369676"/>
                </a:lnTo>
                <a:lnTo>
                  <a:pt x="9283702" y="11363324"/>
                </a:lnTo>
                <a:lnTo>
                  <a:pt x="9391652" y="11350624"/>
                </a:lnTo>
                <a:lnTo>
                  <a:pt x="9505952" y="11331576"/>
                </a:lnTo>
                <a:lnTo>
                  <a:pt x="9626602" y="11306176"/>
                </a:lnTo>
                <a:lnTo>
                  <a:pt x="9750428" y="11277600"/>
                </a:lnTo>
                <a:lnTo>
                  <a:pt x="9883778" y="11239500"/>
                </a:lnTo>
                <a:lnTo>
                  <a:pt x="10023477" y="11191876"/>
                </a:lnTo>
                <a:lnTo>
                  <a:pt x="10169527" y="11141076"/>
                </a:lnTo>
                <a:lnTo>
                  <a:pt x="10321927" y="11080752"/>
                </a:lnTo>
                <a:lnTo>
                  <a:pt x="10467977" y="11017252"/>
                </a:lnTo>
                <a:lnTo>
                  <a:pt x="10623552" y="10947400"/>
                </a:lnTo>
                <a:lnTo>
                  <a:pt x="10791827" y="10858500"/>
                </a:lnTo>
                <a:lnTo>
                  <a:pt x="10963277" y="10763252"/>
                </a:lnTo>
                <a:lnTo>
                  <a:pt x="11131552" y="10664824"/>
                </a:lnTo>
                <a:lnTo>
                  <a:pt x="11296653" y="10560052"/>
                </a:lnTo>
                <a:lnTo>
                  <a:pt x="11458577" y="10448924"/>
                </a:lnTo>
                <a:lnTo>
                  <a:pt x="11541127" y="10391776"/>
                </a:lnTo>
                <a:lnTo>
                  <a:pt x="11617327" y="10331452"/>
                </a:lnTo>
                <a:lnTo>
                  <a:pt x="11696702" y="10271124"/>
                </a:lnTo>
                <a:lnTo>
                  <a:pt x="11772902" y="10207624"/>
                </a:lnTo>
                <a:lnTo>
                  <a:pt x="11845927" y="10144124"/>
                </a:lnTo>
                <a:lnTo>
                  <a:pt x="11918952" y="10080624"/>
                </a:lnTo>
                <a:lnTo>
                  <a:pt x="11988802" y="10010776"/>
                </a:lnTo>
                <a:lnTo>
                  <a:pt x="12058652" y="9944100"/>
                </a:lnTo>
                <a:lnTo>
                  <a:pt x="12122152" y="9871076"/>
                </a:lnTo>
                <a:lnTo>
                  <a:pt x="12188827" y="9801224"/>
                </a:lnTo>
                <a:lnTo>
                  <a:pt x="12249152" y="9725024"/>
                </a:lnTo>
                <a:lnTo>
                  <a:pt x="12306302" y="9648824"/>
                </a:lnTo>
                <a:lnTo>
                  <a:pt x="12363452" y="9572624"/>
                </a:lnTo>
                <a:lnTo>
                  <a:pt x="12417427" y="9490076"/>
                </a:lnTo>
                <a:lnTo>
                  <a:pt x="12468227" y="9407524"/>
                </a:lnTo>
                <a:lnTo>
                  <a:pt x="12515852" y="9324976"/>
                </a:lnTo>
                <a:lnTo>
                  <a:pt x="12560302" y="9239252"/>
                </a:lnTo>
                <a:lnTo>
                  <a:pt x="12598402" y="9150352"/>
                </a:lnTo>
                <a:lnTo>
                  <a:pt x="12636502" y="9061452"/>
                </a:lnTo>
                <a:lnTo>
                  <a:pt x="12668252" y="8969376"/>
                </a:lnTo>
                <a:lnTo>
                  <a:pt x="12700002" y="8874124"/>
                </a:lnTo>
                <a:lnTo>
                  <a:pt x="12725402" y="8775700"/>
                </a:lnTo>
                <a:lnTo>
                  <a:pt x="12741277" y="8702676"/>
                </a:lnTo>
                <a:lnTo>
                  <a:pt x="12753977" y="8626476"/>
                </a:lnTo>
                <a:lnTo>
                  <a:pt x="12760327" y="8547100"/>
                </a:lnTo>
                <a:lnTo>
                  <a:pt x="12766677" y="8470900"/>
                </a:lnTo>
                <a:lnTo>
                  <a:pt x="12769852" y="8391524"/>
                </a:lnTo>
                <a:lnTo>
                  <a:pt x="12769852" y="8312152"/>
                </a:lnTo>
                <a:lnTo>
                  <a:pt x="12763502" y="8229600"/>
                </a:lnTo>
                <a:lnTo>
                  <a:pt x="12757152" y="8147052"/>
                </a:lnTo>
                <a:lnTo>
                  <a:pt x="12741277" y="8108952"/>
                </a:lnTo>
                <a:lnTo>
                  <a:pt x="12725402" y="8070852"/>
                </a:lnTo>
                <a:lnTo>
                  <a:pt x="12706352" y="8035924"/>
                </a:lnTo>
                <a:lnTo>
                  <a:pt x="12684127" y="8001000"/>
                </a:lnTo>
                <a:lnTo>
                  <a:pt x="12661902" y="7966076"/>
                </a:lnTo>
                <a:lnTo>
                  <a:pt x="12636502" y="7931152"/>
                </a:lnTo>
                <a:lnTo>
                  <a:pt x="12607927" y="7899400"/>
                </a:lnTo>
                <a:lnTo>
                  <a:pt x="12576177" y="7870824"/>
                </a:lnTo>
                <a:lnTo>
                  <a:pt x="12541252" y="7842252"/>
                </a:lnTo>
                <a:lnTo>
                  <a:pt x="12503152" y="7813676"/>
                </a:lnTo>
                <a:lnTo>
                  <a:pt x="12465052" y="7788276"/>
                </a:lnTo>
                <a:lnTo>
                  <a:pt x="12420602" y="7766052"/>
                </a:lnTo>
                <a:lnTo>
                  <a:pt x="12372977" y="7743824"/>
                </a:lnTo>
                <a:lnTo>
                  <a:pt x="12325352" y="7721600"/>
                </a:lnTo>
                <a:lnTo>
                  <a:pt x="12271377" y="7702552"/>
                </a:lnTo>
                <a:lnTo>
                  <a:pt x="12217402" y="7686676"/>
                </a:lnTo>
                <a:lnTo>
                  <a:pt x="12157077" y="7670800"/>
                </a:lnTo>
                <a:lnTo>
                  <a:pt x="12096752" y="7658100"/>
                </a:lnTo>
                <a:lnTo>
                  <a:pt x="12030077" y="7645400"/>
                </a:lnTo>
                <a:lnTo>
                  <a:pt x="11960227" y="7635876"/>
                </a:lnTo>
                <a:lnTo>
                  <a:pt x="11887202" y="7629524"/>
                </a:lnTo>
                <a:lnTo>
                  <a:pt x="11811002" y="7623176"/>
                </a:lnTo>
                <a:lnTo>
                  <a:pt x="11731627" y="7620000"/>
                </a:lnTo>
                <a:lnTo>
                  <a:pt x="11645902" y="7620000"/>
                </a:lnTo>
                <a:lnTo>
                  <a:pt x="11668127" y="7623176"/>
                </a:lnTo>
                <a:lnTo>
                  <a:pt x="11728452" y="7632700"/>
                </a:lnTo>
                <a:lnTo>
                  <a:pt x="11766552" y="7642224"/>
                </a:lnTo>
                <a:lnTo>
                  <a:pt x="11811002" y="7654924"/>
                </a:lnTo>
                <a:lnTo>
                  <a:pt x="11861802" y="7670800"/>
                </a:lnTo>
                <a:lnTo>
                  <a:pt x="11912602" y="7693024"/>
                </a:lnTo>
                <a:lnTo>
                  <a:pt x="11963402" y="7721600"/>
                </a:lnTo>
                <a:lnTo>
                  <a:pt x="12014202" y="7753352"/>
                </a:lnTo>
                <a:lnTo>
                  <a:pt x="12065002" y="7791452"/>
                </a:lnTo>
                <a:lnTo>
                  <a:pt x="12090402" y="7813676"/>
                </a:lnTo>
                <a:lnTo>
                  <a:pt x="12112627" y="7839076"/>
                </a:lnTo>
                <a:lnTo>
                  <a:pt x="12134852" y="7864476"/>
                </a:lnTo>
                <a:lnTo>
                  <a:pt x="12153902" y="7893052"/>
                </a:lnTo>
                <a:lnTo>
                  <a:pt x="12172952" y="7924800"/>
                </a:lnTo>
                <a:lnTo>
                  <a:pt x="12192002" y="7956552"/>
                </a:lnTo>
                <a:lnTo>
                  <a:pt x="12204702" y="7991476"/>
                </a:lnTo>
                <a:lnTo>
                  <a:pt x="12220577" y="8026400"/>
                </a:lnTo>
                <a:lnTo>
                  <a:pt x="12230102" y="8064500"/>
                </a:lnTo>
                <a:lnTo>
                  <a:pt x="12239627" y="8105776"/>
                </a:lnTo>
                <a:lnTo>
                  <a:pt x="12211052" y="8074024"/>
                </a:lnTo>
                <a:lnTo>
                  <a:pt x="12172952" y="8035924"/>
                </a:lnTo>
                <a:lnTo>
                  <a:pt x="12118977" y="7991476"/>
                </a:lnTo>
                <a:lnTo>
                  <a:pt x="12087227" y="7966076"/>
                </a:lnTo>
                <a:lnTo>
                  <a:pt x="12049127" y="7943852"/>
                </a:lnTo>
                <a:lnTo>
                  <a:pt x="12007852" y="7918452"/>
                </a:lnTo>
                <a:lnTo>
                  <a:pt x="11963402" y="7893052"/>
                </a:lnTo>
                <a:lnTo>
                  <a:pt x="11912602" y="7870824"/>
                </a:lnTo>
                <a:lnTo>
                  <a:pt x="11861802" y="7848600"/>
                </a:lnTo>
                <a:lnTo>
                  <a:pt x="11801477" y="7826376"/>
                </a:lnTo>
                <a:lnTo>
                  <a:pt x="11741152" y="7810500"/>
                </a:lnTo>
                <a:lnTo>
                  <a:pt x="11674477" y="7794624"/>
                </a:lnTo>
                <a:lnTo>
                  <a:pt x="11601452" y="7781924"/>
                </a:lnTo>
                <a:lnTo>
                  <a:pt x="11525252" y="7772400"/>
                </a:lnTo>
                <a:lnTo>
                  <a:pt x="11445878" y="7769224"/>
                </a:lnTo>
                <a:lnTo>
                  <a:pt x="11360152" y="7769224"/>
                </a:lnTo>
                <a:lnTo>
                  <a:pt x="11268077" y="7775576"/>
                </a:lnTo>
                <a:lnTo>
                  <a:pt x="11176002" y="7788276"/>
                </a:lnTo>
                <a:lnTo>
                  <a:pt x="11074402" y="7807324"/>
                </a:lnTo>
                <a:lnTo>
                  <a:pt x="10969628" y="7829552"/>
                </a:lnTo>
                <a:lnTo>
                  <a:pt x="10861677" y="7861300"/>
                </a:lnTo>
                <a:lnTo>
                  <a:pt x="10747377" y="7899400"/>
                </a:lnTo>
                <a:lnTo>
                  <a:pt x="10626727" y="7947024"/>
                </a:lnTo>
                <a:lnTo>
                  <a:pt x="10502902" y="8004176"/>
                </a:lnTo>
                <a:lnTo>
                  <a:pt x="10372727" y="8067676"/>
                </a:lnTo>
                <a:lnTo>
                  <a:pt x="10239377" y="8143876"/>
                </a:lnTo>
                <a:lnTo>
                  <a:pt x="10099677" y="8226424"/>
                </a:lnTo>
                <a:lnTo>
                  <a:pt x="10102852" y="8216900"/>
                </a:lnTo>
                <a:lnTo>
                  <a:pt x="10121902" y="8194676"/>
                </a:lnTo>
                <a:lnTo>
                  <a:pt x="10160002" y="8153400"/>
                </a:lnTo>
                <a:lnTo>
                  <a:pt x="10213977" y="8102600"/>
                </a:lnTo>
                <a:lnTo>
                  <a:pt x="10248902" y="8074024"/>
                </a:lnTo>
                <a:lnTo>
                  <a:pt x="10290177" y="8042276"/>
                </a:lnTo>
                <a:lnTo>
                  <a:pt x="10334627" y="8007352"/>
                </a:lnTo>
                <a:lnTo>
                  <a:pt x="10388602" y="7972424"/>
                </a:lnTo>
                <a:lnTo>
                  <a:pt x="10448927" y="7934324"/>
                </a:lnTo>
                <a:lnTo>
                  <a:pt x="10515602" y="7896224"/>
                </a:lnTo>
                <a:lnTo>
                  <a:pt x="10591802" y="7854952"/>
                </a:lnTo>
                <a:lnTo>
                  <a:pt x="10674352" y="7816852"/>
                </a:lnTo>
                <a:lnTo>
                  <a:pt x="10629902" y="7829552"/>
                </a:lnTo>
                <a:lnTo>
                  <a:pt x="10575927" y="7848600"/>
                </a:lnTo>
                <a:lnTo>
                  <a:pt x="10499727" y="7877176"/>
                </a:lnTo>
                <a:lnTo>
                  <a:pt x="10407652" y="7915276"/>
                </a:lnTo>
                <a:lnTo>
                  <a:pt x="10293353" y="7969252"/>
                </a:lnTo>
                <a:lnTo>
                  <a:pt x="10163177" y="8035924"/>
                </a:lnTo>
                <a:lnTo>
                  <a:pt x="10017127" y="8118476"/>
                </a:lnTo>
                <a:lnTo>
                  <a:pt x="10080627" y="8064500"/>
                </a:lnTo>
                <a:lnTo>
                  <a:pt x="10147302" y="8010524"/>
                </a:lnTo>
                <a:lnTo>
                  <a:pt x="10233027" y="7943852"/>
                </a:lnTo>
                <a:lnTo>
                  <a:pt x="10331452" y="7874000"/>
                </a:lnTo>
                <a:lnTo>
                  <a:pt x="10433052" y="7807324"/>
                </a:lnTo>
                <a:lnTo>
                  <a:pt x="10483852" y="7778752"/>
                </a:lnTo>
                <a:lnTo>
                  <a:pt x="10531477" y="7753352"/>
                </a:lnTo>
                <a:lnTo>
                  <a:pt x="10579103" y="7731124"/>
                </a:lnTo>
                <a:lnTo>
                  <a:pt x="10623552" y="7715252"/>
                </a:lnTo>
                <a:lnTo>
                  <a:pt x="10594977" y="7724776"/>
                </a:lnTo>
                <a:lnTo>
                  <a:pt x="10518778" y="7750176"/>
                </a:lnTo>
                <a:lnTo>
                  <a:pt x="10398127" y="7797800"/>
                </a:lnTo>
                <a:lnTo>
                  <a:pt x="10325102" y="7829552"/>
                </a:lnTo>
                <a:lnTo>
                  <a:pt x="10239377" y="7867652"/>
                </a:lnTo>
                <a:lnTo>
                  <a:pt x="10147302" y="7912100"/>
                </a:lnTo>
                <a:lnTo>
                  <a:pt x="10048877" y="7959724"/>
                </a:lnTo>
                <a:lnTo>
                  <a:pt x="9944102" y="8016876"/>
                </a:lnTo>
                <a:lnTo>
                  <a:pt x="9829802" y="8080376"/>
                </a:lnTo>
                <a:lnTo>
                  <a:pt x="9715502" y="8150224"/>
                </a:lnTo>
                <a:lnTo>
                  <a:pt x="9594852" y="8226424"/>
                </a:lnTo>
                <a:lnTo>
                  <a:pt x="9467852" y="8312152"/>
                </a:lnTo>
                <a:lnTo>
                  <a:pt x="9340853" y="8404224"/>
                </a:lnTo>
                <a:lnTo>
                  <a:pt x="9350377" y="8382000"/>
                </a:lnTo>
                <a:lnTo>
                  <a:pt x="9369428" y="8353424"/>
                </a:lnTo>
                <a:lnTo>
                  <a:pt x="9398002" y="8315324"/>
                </a:lnTo>
                <a:lnTo>
                  <a:pt x="9436103" y="8270876"/>
                </a:lnTo>
                <a:lnTo>
                  <a:pt x="9490077" y="8216900"/>
                </a:lnTo>
                <a:lnTo>
                  <a:pt x="9559927" y="8153400"/>
                </a:lnTo>
                <a:lnTo>
                  <a:pt x="9645652" y="8083552"/>
                </a:lnTo>
                <a:lnTo>
                  <a:pt x="9753602" y="8007352"/>
                </a:lnTo>
                <a:lnTo>
                  <a:pt x="9813927" y="7966076"/>
                </a:lnTo>
                <a:lnTo>
                  <a:pt x="9880602" y="7924800"/>
                </a:lnTo>
                <a:lnTo>
                  <a:pt x="9953627" y="7883524"/>
                </a:lnTo>
                <a:lnTo>
                  <a:pt x="10033002" y="7839076"/>
                </a:lnTo>
                <a:lnTo>
                  <a:pt x="10118727" y="7794624"/>
                </a:lnTo>
                <a:lnTo>
                  <a:pt x="10210802" y="7747000"/>
                </a:lnTo>
                <a:lnTo>
                  <a:pt x="10312402" y="7702552"/>
                </a:lnTo>
                <a:lnTo>
                  <a:pt x="10417177" y="7654924"/>
                </a:lnTo>
                <a:lnTo>
                  <a:pt x="10531477" y="7604124"/>
                </a:lnTo>
                <a:lnTo>
                  <a:pt x="10652128" y="7556500"/>
                </a:lnTo>
                <a:lnTo>
                  <a:pt x="10779128" y="7505700"/>
                </a:lnTo>
                <a:lnTo>
                  <a:pt x="10918827" y="7458076"/>
                </a:lnTo>
                <a:lnTo>
                  <a:pt x="11061703" y="7407276"/>
                </a:lnTo>
                <a:lnTo>
                  <a:pt x="11217277" y="7356476"/>
                </a:lnTo>
                <a:lnTo>
                  <a:pt x="11303002" y="7331076"/>
                </a:lnTo>
                <a:lnTo>
                  <a:pt x="11407777" y="7308852"/>
                </a:lnTo>
                <a:lnTo>
                  <a:pt x="11541127" y="7283452"/>
                </a:lnTo>
                <a:lnTo>
                  <a:pt x="11617327" y="7270752"/>
                </a:lnTo>
                <a:lnTo>
                  <a:pt x="11699877" y="7258052"/>
                </a:lnTo>
                <a:lnTo>
                  <a:pt x="11788777" y="7248524"/>
                </a:lnTo>
                <a:lnTo>
                  <a:pt x="11880852" y="7242176"/>
                </a:lnTo>
                <a:lnTo>
                  <a:pt x="11976102" y="7239000"/>
                </a:lnTo>
                <a:lnTo>
                  <a:pt x="12074527" y="7235824"/>
                </a:lnTo>
                <a:lnTo>
                  <a:pt x="12176127" y="7239000"/>
                </a:lnTo>
                <a:lnTo>
                  <a:pt x="12280902" y="7245352"/>
                </a:lnTo>
                <a:lnTo>
                  <a:pt x="12385677" y="7258052"/>
                </a:lnTo>
                <a:lnTo>
                  <a:pt x="12490452" y="7273924"/>
                </a:lnTo>
                <a:lnTo>
                  <a:pt x="12595227" y="7296152"/>
                </a:lnTo>
                <a:lnTo>
                  <a:pt x="12696827" y="7324724"/>
                </a:lnTo>
                <a:lnTo>
                  <a:pt x="12798427" y="7362824"/>
                </a:lnTo>
                <a:lnTo>
                  <a:pt x="12849227" y="7381876"/>
                </a:lnTo>
                <a:lnTo>
                  <a:pt x="12900027" y="7407276"/>
                </a:lnTo>
                <a:lnTo>
                  <a:pt x="12947652" y="7429500"/>
                </a:lnTo>
                <a:lnTo>
                  <a:pt x="12995277" y="7458076"/>
                </a:lnTo>
                <a:lnTo>
                  <a:pt x="13042902" y="7486652"/>
                </a:lnTo>
                <a:lnTo>
                  <a:pt x="13090527" y="7518400"/>
                </a:lnTo>
                <a:lnTo>
                  <a:pt x="13134977" y="7550152"/>
                </a:lnTo>
                <a:lnTo>
                  <a:pt x="13179427" y="7588252"/>
                </a:lnTo>
                <a:lnTo>
                  <a:pt x="13220702" y="7626352"/>
                </a:lnTo>
                <a:lnTo>
                  <a:pt x="13261977" y="7667624"/>
                </a:lnTo>
                <a:lnTo>
                  <a:pt x="13303252" y="7708900"/>
                </a:lnTo>
                <a:lnTo>
                  <a:pt x="13341352" y="7756524"/>
                </a:lnTo>
                <a:lnTo>
                  <a:pt x="13376277" y="7804152"/>
                </a:lnTo>
                <a:lnTo>
                  <a:pt x="13411202" y="7854952"/>
                </a:lnTo>
                <a:lnTo>
                  <a:pt x="13446127" y="7908924"/>
                </a:lnTo>
                <a:lnTo>
                  <a:pt x="13477877" y="7966076"/>
                </a:lnTo>
                <a:lnTo>
                  <a:pt x="13506452" y="8026400"/>
                </a:lnTo>
                <a:lnTo>
                  <a:pt x="13535027" y="8089900"/>
                </a:lnTo>
                <a:lnTo>
                  <a:pt x="13560427" y="8156576"/>
                </a:lnTo>
                <a:lnTo>
                  <a:pt x="13582652" y="8223252"/>
                </a:lnTo>
                <a:lnTo>
                  <a:pt x="13604877" y="8296276"/>
                </a:lnTo>
                <a:lnTo>
                  <a:pt x="13623927" y="8372476"/>
                </a:lnTo>
                <a:lnTo>
                  <a:pt x="13627102" y="8401052"/>
                </a:lnTo>
                <a:lnTo>
                  <a:pt x="13630277" y="8483600"/>
                </a:lnTo>
                <a:lnTo>
                  <a:pt x="13630277" y="8543924"/>
                </a:lnTo>
                <a:lnTo>
                  <a:pt x="13627102" y="8616952"/>
                </a:lnTo>
                <a:lnTo>
                  <a:pt x="13623927" y="8702676"/>
                </a:lnTo>
                <a:lnTo>
                  <a:pt x="13611227" y="8797924"/>
                </a:lnTo>
                <a:lnTo>
                  <a:pt x="13595352" y="8883652"/>
                </a:lnTo>
                <a:lnTo>
                  <a:pt x="13579477" y="8969376"/>
                </a:lnTo>
                <a:lnTo>
                  <a:pt x="13557252" y="9055100"/>
                </a:lnTo>
                <a:lnTo>
                  <a:pt x="13535027" y="9137652"/>
                </a:lnTo>
                <a:lnTo>
                  <a:pt x="13512802" y="9220200"/>
                </a:lnTo>
                <a:lnTo>
                  <a:pt x="13484227" y="9302752"/>
                </a:lnTo>
                <a:lnTo>
                  <a:pt x="13455652" y="9385300"/>
                </a:lnTo>
                <a:lnTo>
                  <a:pt x="13423902" y="9467852"/>
                </a:lnTo>
                <a:lnTo>
                  <a:pt x="13344527" y="9652000"/>
                </a:lnTo>
                <a:lnTo>
                  <a:pt x="13255627" y="9829800"/>
                </a:lnTo>
                <a:lnTo>
                  <a:pt x="13163552" y="10007600"/>
                </a:lnTo>
                <a:lnTo>
                  <a:pt x="13065127" y="10182224"/>
                </a:lnTo>
                <a:lnTo>
                  <a:pt x="12957177" y="10350500"/>
                </a:lnTo>
                <a:lnTo>
                  <a:pt x="12849227" y="10518776"/>
                </a:lnTo>
                <a:lnTo>
                  <a:pt x="12731752" y="10683876"/>
                </a:lnTo>
                <a:lnTo>
                  <a:pt x="12611102" y="10842624"/>
                </a:lnTo>
                <a:lnTo>
                  <a:pt x="12484102" y="11001376"/>
                </a:lnTo>
                <a:lnTo>
                  <a:pt x="12353927" y="11153776"/>
                </a:lnTo>
                <a:lnTo>
                  <a:pt x="12217402" y="11306176"/>
                </a:lnTo>
                <a:lnTo>
                  <a:pt x="12077702" y="11452224"/>
                </a:lnTo>
                <a:lnTo>
                  <a:pt x="11934827" y="11595100"/>
                </a:lnTo>
                <a:lnTo>
                  <a:pt x="11788777" y="11737976"/>
                </a:lnTo>
                <a:lnTo>
                  <a:pt x="11636377" y="11874500"/>
                </a:lnTo>
                <a:lnTo>
                  <a:pt x="11483977" y="12007852"/>
                </a:lnTo>
                <a:lnTo>
                  <a:pt x="11388727" y="12077700"/>
                </a:lnTo>
                <a:lnTo>
                  <a:pt x="11283952" y="12150724"/>
                </a:lnTo>
                <a:lnTo>
                  <a:pt x="11176002" y="12223752"/>
                </a:lnTo>
                <a:lnTo>
                  <a:pt x="11058527" y="12296776"/>
                </a:lnTo>
                <a:lnTo>
                  <a:pt x="10937878" y="12369800"/>
                </a:lnTo>
                <a:lnTo>
                  <a:pt x="10810878" y="12442824"/>
                </a:lnTo>
                <a:lnTo>
                  <a:pt x="10674352" y="12515852"/>
                </a:lnTo>
                <a:lnTo>
                  <a:pt x="10534652" y="12582524"/>
                </a:lnTo>
                <a:lnTo>
                  <a:pt x="10391777" y="12649200"/>
                </a:lnTo>
                <a:lnTo>
                  <a:pt x="10239377" y="12712700"/>
                </a:lnTo>
                <a:lnTo>
                  <a:pt x="10086978" y="12769852"/>
                </a:lnTo>
                <a:lnTo>
                  <a:pt x="9925052" y="12820652"/>
                </a:lnTo>
                <a:lnTo>
                  <a:pt x="9763127" y="12865100"/>
                </a:lnTo>
                <a:lnTo>
                  <a:pt x="9677402" y="12887324"/>
                </a:lnTo>
                <a:lnTo>
                  <a:pt x="9594852" y="12906376"/>
                </a:lnTo>
                <a:lnTo>
                  <a:pt x="9509127" y="12922252"/>
                </a:lnTo>
                <a:lnTo>
                  <a:pt x="9423402" y="12938124"/>
                </a:lnTo>
                <a:lnTo>
                  <a:pt x="9334502" y="12950824"/>
                </a:lnTo>
                <a:lnTo>
                  <a:pt x="9245602" y="12960352"/>
                </a:lnTo>
                <a:lnTo>
                  <a:pt x="9156702" y="12969876"/>
                </a:lnTo>
                <a:lnTo>
                  <a:pt x="9067802" y="12976224"/>
                </a:lnTo>
                <a:lnTo>
                  <a:pt x="8975727" y="12979400"/>
                </a:lnTo>
                <a:lnTo>
                  <a:pt x="8886827" y="12982576"/>
                </a:lnTo>
                <a:lnTo>
                  <a:pt x="8816977" y="12985752"/>
                </a:lnTo>
                <a:lnTo>
                  <a:pt x="8734427" y="12985752"/>
                </a:lnTo>
                <a:lnTo>
                  <a:pt x="8626478" y="12985752"/>
                </a:lnTo>
                <a:lnTo>
                  <a:pt x="8499477" y="12979400"/>
                </a:lnTo>
                <a:lnTo>
                  <a:pt x="8350252" y="12966700"/>
                </a:lnTo>
                <a:lnTo>
                  <a:pt x="8270877" y="12957176"/>
                </a:lnTo>
                <a:lnTo>
                  <a:pt x="8188328" y="12947652"/>
                </a:lnTo>
                <a:lnTo>
                  <a:pt x="8105777" y="12931776"/>
                </a:lnTo>
                <a:lnTo>
                  <a:pt x="8016877" y="12912724"/>
                </a:lnTo>
                <a:lnTo>
                  <a:pt x="7962903" y="12906376"/>
                </a:lnTo>
                <a:lnTo>
                  <a:pt x="7908927" y="12896852"/>
                </a:lnTo>
                <a:lnTo>
                  <a:pt x="7804153" y="12874624"/>
                </a:lnTo>
                <a:lnTo>
                  <a:pt x="7702552" y="12846052"/>
                </a:lnTo>
                <a:lnTo>
                  <a:pt x="7604127" y="12811124"/>
                </a:lnTo>
                <a:lnTo>
                  <a:pt x="7508878" y="12769852"/>
                </a:lnTo>
                <a:lnTo>
                  <a:pt x="7419978" y="12722224"/>
                </a:lnTo>
                <a:lnTo>
                  <a:pt x="7331077" y="12668252"/>
                </a:lnTo>
                <a:lnTo>
                  <a:pt x="7248527" y="12607924"/>
                </a:lnTo>
                <a:lnTo>
                  <a:pt x="7169152" y="12544424"/>
                </a:lnTo>
                <a:lnTo>
                  <a:pt x="7092952" y="12474576"/>
                </a:lnTo>
                <a:lnTo>
                  <a:pt x="7019927" y="12401552"/>
                </a:lnTo>
                <a:lnTo>
                  <a:pt x="6953252" y="12325352"/>
                </a:lnTo>
                <a:lnTo>
                  <a:pt x="6889752" y="12242800"/>
                </a:lnTo>
                <a:lnTo>
                  <a:pt x="6829427" y="12157076"/>
                </a:lnTo>
                <a:lnTo>
                  <a:pt x="6775452" y="12071352"/>
                </a:lnTo>
                <a:lnTo>
                  <a:pt x="6727827" y="11979276"/>
                </a:lnTo>
                <a:lnTo>
                  <a:pt x="6683377" y="11884024"/>
                </a:lnTo>
                <a:lnTo>
                  <a:pt x="6642102" y="11788776"/>
                </a:lnTo>
                <a:lnTo>
                  <a:pt x="6607177" y="11690352"/>
                </a:lnTo>
                <a:lnTo>
                  <a:pt x="6578602" y="11591924"/>
                </a:lnTo>
                <a:lnTo>
                  <a:pt x="6553202" y="11490324"/>
                </a:lnTo>
                <a:lnTo>
                  <a:pt x="6534152" y="11385552"/>
                </a:lnTo>
                <a:lnTo>
                  <a:pt x="6521452" y="11280776"/>
                </a:lnTo>
                <a:lnTo>
                  <a:pt x="6515102" y="11179176"/>
                </a:lnTo>
                <a:lnTo>
                  <a:pt x="6511927" y="11071224"/>
                </a:lnTo>
                <a:lnTo>
                  <a:pt x="6518278" y="10966452"/>
                </a:lnTo>
                <a:lnTo>
                  <a:pt x="6527802" y="10861676"/>
                </a:lnTo>
                <a:lnTo>
                  <a:pt x="6543677" y="10760076"/>
                </a:lnTo>
                <a:lnTo>
                  <a:pt x="6565903" y="10655300"/>
                </a:lnTo>
                <a:lnTo>
                  <a:pt x="6594477" y="10553700"/>
                </a:lnTo>
                <a:lnTo>
                  <a:pt x="6629402" y="10452100"/>
                </a:lnTo>
                <a:lnTo>
                  <a:pt x="6670677" y="10353676"/>
                </a:lnTo>
                <a:lnTo>
                  <a:pt x="6727827" y="10210800"/>
                </a:lnTo>
                <a:lnTo>
                  <a:pt x="6788152" y="10067924"/>
                </a:lnTo>
                <a:lnTo>
                  <a:pt x="6851652" y="9931400"/>
                </a:lnTo>
                <a:lnTo>
                  <a:pt x="6924678" y="9791700"/>
                </a:lnTo>
                <a:lnTo>
                  <a:pt x="6981827" y="9693276"/>
                </a:lnTo>
                <a:lnTo>
                  <a:pt x="7038977" y="9591676"/>
                </a:lnTo>
                <a:lnTo>
                  <a:pt x="7102477" y="9493252"/>
                </a:lnTo>
                <a:lnTo>
                  <a:pt x="7165977" y="9398000"/>
                </a:lnTo>
                <a:lnTo>
                  <a:pt x="7232652" y="9299576"/>
                </a:lnTo>
                <a:lnTo>
                  <a:pt x="7302502" y="9207500"/>
                </a:lnTo>
                <a:lnTo>
                  <a:pt x="7372352" y="9112252"/>
                </a:lnTo>
                <a:lnTo>
                  <a:pt x="7445378" y="9020176"/>
                </a:lnTo>
                <a:lnTo>
                  <a:pt x="7591427" y="8839200"/>
                </a:lnTo>
                <a:lnTo>
                  <a:pt x="7747002" y="8661400"/>
                </a:lnTo>
                <a:lnTo>
                  <a:pt x="7902577" y="8489952"/>
                </a:lnTo>
                <a:lnTo>
                  <a:pt x="8058152" y="8321676"/>
                </a:lnTo>
                <a:lnTo>
                  <a:pt x="8162927" y="8216900"/>
                </a:lnTo>
                <a:lnTo>
                  <a:pt x="8267702" y="8115300"/>
                </a:lnTo>
                <a:lnTo>
                  <a:pt x="8375652" y="8016876"/>
                </a:lnTo>
                <a:lnTo>
                  <a:pt x="8486777" y="7918452"/>
                </a:lnTo>
                <a:lnTo>
                  <a:pt x="8610602" y="7816852"/>
                </a:lnTo>
                <a:lnTo>
                  <a:pt x="8734427" y="7715252"/>
                </a:lnTo>
                <a:lnTo>
                  <a:pt x="8864602" y="7616824"/>
                </a:lnTo>
                <a:lnTo>
                  <a:pt x="8994777" y="7521576"/>
                </a:lnTo>
                <a:lnTo>
                  <a:pt x="9191627" y="7385052"/>
                </a:lnTo>
                <a:lnTo>
                  <a:pt x="9394827" y="7251700"/>
                </a:lnTo>
                <a:lnTo>
                  <a:pt x="9598027" y="7124700"/>
                </a:lnTo>
                <a:lnTo>
                  <a:pt x="9807577" y="7004052"/>
                </a:lnTo>
                <a:lnTo>
                  <a:pt x="9975853" y="6915152"/>
                </a:lnTo>
                <a:lnTo>
                  <a:pt x="10153653" y="6829424"/>
                </a:lnTo>
                <a:lnTo>
                  <a:pt x="10334627" y="6746876"/>
                </a:lnTo>
                <a:lnTo>
                  <a:pt x="10521952" y="6664324"/>
                </a:lnTo>
                <a:lnTo>
                  <a:pt x="10715627" y="6584952"/>
                </a:lnTo>
                <a:lnTo>
                  <a:pt x="10912477" y="6508752"/>
                </a:lnTo>
                <a:close/>
                <a:moveTo>
                  <a:pt x="17319628" y="5895976"/>
                </a:moveTo>
                <a:lnTo>
                  <a:pt x="17354552" y="5895976"/>
                </a:lnTo>
                <a:lnTo>
                  <a:pt x="17386304" y="5895976"/>
                </a:lnTo>
                <a:lnTo>
                  <a:pt x="17411704" y="5899152"/>
                </a:lnTo>
                <a:lnTo>
                  <a:pt x="17449804" y="5905500"/>
                </a:lnTo>
                <a:lnTo>
                  <a:pt x="17468852" y="5915024"/>
                </a:lnTo>
                <a:lnTo>
                  <a:pt x="17475204" y="5918200"/>
                </a:lnTo>
                <a:lnTo>
                  <a:pt x="17516476" y="5930900"/>
                </a:lnTo>
                <a:lnTo>
                  <a:pt x="17551404" y="5946776"/>
                </a:lnTo>
                <a:lnTo>
                  <a:pt x="17583152" y="5965824"/>
                </a:lnTo>
                <a:lnTo>
                  <a:pt x="17608552" y="5991224"/>
                </a:lnTo>
                <a:lnTo>
                  <a:pt x="17627604" y="6019800"/>
                </a:lnTo>
                <a:lnTo>
                  <a:pt x="17640304" y="6051552"/>
                </a:lnTo>
                <a:lnTo>
                  <a:pt x="17649828" y="6086476"/>
                </a:lnTo>
                <a:lnTo>
                  <a:pt x="17656176" y="6124576"/>
                </a:lnTo>
                <a:lnTo>
                  <a:pt x="17656176" y="6165852"/>
                </a:lnTo>
                <a:lnTo>
                  <a:pt x="17653004" y="6210300"/>
                </a:lnTo>
                <a:lnTo>
                  <a:pt x="17643476" y="6257924"/>
                </a:lnTo>
                <a:lnTo>
                  <a:pt x="17630776" y="6308724"/>
                </a:lnTo>
                <a:lnTo>
                  <a:pt x="17614904" y="6362700"/>
                </a:lnTo>
                <a:lnTo>
                  <a:pt x="17592676" y="6419852"/>
                </a:lnTo>
                <a:lnTo>
                  <a:pt x="17570452" y="6477000"/>
                </a:lnTo>
                <a:lnTo>
                  <a:pt x="17541876" y="6537324"/>
                </a:lnTo>
                <a:lnTo>
                  <a:pt x="17510128" y="6600824"/>
                </a:lnTo>
                <a:lnTo>
                  <a:pt x="17475204" y="6664324"/>
                </a:lnTo>
                <a:lnTo>
                  <a:pt x="17399004" y="6800852"/>
                </a:lnTo>
                <a:lnTo>
                  <a:pt x="17313276" y="6940552"/>
                </a:lnTo>
                <a:lnTo>
                  <a:pt x="17214852" y="7086600"/>
                </a:lnTo>
                <a:lnTo>
                  <a:pt x="17110076" y="7235824"/>
                </a:lnTo>
                <a:lnTo>
                  <a:pt x="16998952" y="7388224"/>
                </a:lnTo>
                <a:lnTo>
                  <a:pt x="16884652" y="7540624"/>
                </a:lnTo>
                <a:lnTo>
                  <a:pt x="16764004" y="7696200"/>
                </a:lnTo>
                <a:lnTo>
                  <a:pt x="16640176" y="7851776"/>
                </a:lnTo>
                <a:lnTo>
                  <a:pt x="16513176" y="8004176"/>
                </a:lnTo>
                <a:lnTo>
                  <a:pt x="16265528" y="8296276"/>
                </a:lnTo>
                <a:lnTo>
                  <a:pt x="16024228" y="8572500"/>
                </a:lnTo>
                <a:lnTo>
                  <a:pt x="15805152" y="8816976"/>
                </a:lnTo>
                <a:lnTo>
                  <a:pt x="15617828" y="9023352"/>
                </a:lnTo>
                <a:lnTo>
                  <a:pt x="15468604" y="9178924"/>
                </a:lnTo>
                <a:lnTo>
                  <a:pt x="15338428" y="9318624"/>
                </a:lnTo>
                <a:lnTo>
                  <a:pt x="15227304" y="9436100"/>
                </a:lnTo>
                <a:lnTo>
                  <a:pt x="15116176" y="9556752"/>
                </a:lnTo>
                <a:lnTo>
                  <a:pt x="14893928" y="9810752"/>
                </a:lnTo>
                <a:lnTo>
                  <a:pt x="14668504" y="10074276"/>
                </a:lnTo>
                <a:lnTo>
                  <a:pt x="14449428" y="10340976"/>
                </a:lnTo>
                <a:lnTo>
                  <a:pt x="14236704" y="10607676"/>
                </a:lnTo>
                <a:lnTo>
                  <a:pt x="14030328" y="10874376"/>
                </a:lnTo>
                <a:lnTo>
                  <a:pt x="13830302" y="11131552"/>
                </a:lnTo>
                <a:lnTo>
                  <a:pt x="13646152" y="11382376"/>
                </a:lnTo>
                <a:lnTo>
                  <a:pt x="13474702" y="11614152"/>
                </a:lnTo>
                <a:lnTo>
                  <a:pt x="13319127" y="11830052"/>
                </a:lnTo>
                <a:lnTo>
                  <a:pt x="13061952" y="12188824"/>
                </a:lnTo>
                <a:lnTo>
                  <a:pt x="12896852" y="12426952"/>
                </a:lnTo>
                <a:lnTo>
                  <a:pt x="12836527" y="12512676"/>
                </a:lnTo>
                <a:lnTo>
                  <a:pt x="12823827" y="12541252"/>
                </a:lnTo>
                <a:lnTo>
                  <a:pt x="12811127" y="12573000"/>
                </a:lnTo>
                <a:lnTo>
                  <a:pt x="12804777" y="12601576"/>
                </a:lnTo>
                <a:lnTo>
                  <a:pt x="12798427" y="12630152"/>
                </a:lnTo>
                <a:lnTo>
                  <a:pt x="12795252" y="12655552"/>
                </a:lnTo>
                <a:lnTo>
                  <a:pt x="12792077" y="12684124"/>
                </a:lnTo>
                <a:lnTo>
                  <a:pt x="12795252" y="12709524"/>
                </a:lnTo>
                <a:lnTo>
                  <a:pt x="12795252" y="12734924"/>
                </a:lnTo>
                <a:lnTo>
                  <a:pt x="12807952" y="12782552"/>
                </a:lnTo>
                <a:lnTo>
                  <a:pt x="12823827" y="12827000"/>
                </a:lnTo>
                <a:lnTo>
                  <a:pt x="12842877" y="12868276"/>
                </a:lnTo>
                <a:lnTo>
                  <a:pt x="12868277" y="12906376"/>
                </a:lnTo>
                <a:lnTo>
                  <a:pt x="12893677" y="12941300"/>
                </a:lnTo>
                <a:lnTo>
                  <a:pt x="12919077" y="12969876"/>
                </a:lnTo>
                <a:lnTo>
                  <a:pt x="12947652" y="12995276"/>
                </a:lnTo>
                <a:lnTo>
                  <a:pt x="12969877" y="13017500"/>
                </a:lnTo>
                <a:lnTo>
                  <a:pt x="13007977" y="13046076"/>
                </a:lnTo>
                <a:lnTo>
                  <a:pt x="13023852" y="13058776"/>
                </a:lnTo>
                <a:lnTo>
                  <a:pt x="12966702" y="13049252"/>
                </a:lnTo>
                <a:lnTo>
                  <a:pt x="12915902" y="13039724"/>
                </a:lnTo>
                <a:lnTo>
                  <a:pt x="12868277" y="13023852"/>
                </a:lnTo>
                <a:lnTo>
                  <a:pt x="12827002" y="13004800"/>
                </a:lnTo>
                <a:lnTo>
                  <a:pt x="12788902" y="12985752"/>
                </a:lnTo>
                <a:lnTo>
                  <a:pt x="12757152" y="12966700"/>
                </a:lnTo>
                <a:lnTo>
                  <a:pt x="12728577" y="12944476"/>
                </a:lnTo>
                <a:lnTo>
                  <a:pt x="12703177" y="12922252"/>
                </a:lnTo>
                <a:lnTo>
                  <a:pt x="12680952" y="12900024"/>
                </a:lnTo>
                <a:lnTo>
                  <a:pt x="12661902" y="12877800"/>
                </a:lnTo>
                <a:lnTo>
                  <a:pt x="12636502" y="12839700"/>
                </a:lnTo>
                <a:lnTo>
                  <a:pt x="12620627" y="12814300"/>
                </a:lnTo>
                <a:lnTo>
                  <a:pt x="12617452" y="12804776"/>
                </a:lnTo>
                <a:lnTo>
                  <a:pt x="12607927" y="12833352"/>
                </a:lnTo>
                <a:lnTo>
                  <a:pt x="12604752" y="12865100"/>
                </a:lnTo>
                <a:lnTo>
                  <a:pt x="12607927" y="12893676"/>
                </a:lnTo>
                <a:lnTo>
                  <a:pt x="12614277" y="12925424"/>
                </a:lnTo>
                <a:lnTo>
                  <a:pt x="12623802" y="12954000"/>
                </a:lnTo>
                <a:lnTo>
                  <a:pt x="12636502" y="12985752"/>
                </a:lnTo>
                <a:lnTo>
                  <a:pt x="12649202" y="13014324"/>
                </a:lnTo>
                <a:lnTo>
                  <a:pt x="12665077" y="13039724"/>
                </a:lnTo>
                <a:lnTo>
                  <a:pt x="12700002" y="13087352"/>
                </a:lnTo>
                <a:lnTo>
                  <a:pt x="12728577" y="13125452"/>
                </a:lnTo>
                <a:lnTo>
                  <a:pt x="12760327" y="13160376"/>
                </a:lnTo>
                <a:lnTo>
                  <a:pt x="12696827" y="13131800"/>
                </a:lnTo>
                <a:lnTo>
                  <a:pt x="12642852" y="13103224"/>
                </a:lnTo>
                <a:lnTo>
                  <a:pt x="12595227" y="13071476"/>
                </a:lnTo>
                <a:lnTo>
                  <a:pt x="12550777" y="13036552"/>
                </a:lnTo>
                <a:lnTo>
                  <a:pt x="12515852" y="13001624"/>
                </a:lnTo>
                <a:lnTo>
                  <a:pt x="12487277" y="12966700"/>
                </a:lnTo>
                <a:lnTo>
                  <a:pt x="12461877" y="12928600"/>
                </a:lnTo>
                <a:lnTo>
                  <a:pt x="12442827" y="12890500"/>
                </a:lnTo>
                <a:lnTo>
                  <a:pt x="12426952" y="12852400"/>
                </a:lnTo>
                <a:lnTo>
                  <a:pt x="12417427" y="12814300"/>
                </a:lnTo>
                <a:lnTo>
                  <a:pt x="12411077" y="12776200"/>
                </a:lnTo>
                <a:lnTo>
                  <a:pt x="12411077" y="12734924"/>
                </a:lnTo>
                <a:lnTo>
                  <a:pt x="12411077" y="12696824"/>
                </a:lnTo>
                <a:lnTo>
                  <a:pt x="12414252" y="12655552"/>
                </a:lnTo>
                <a:lnTo>
                  <a:pt x="12423777" y="12617452"/>
                </a:lnTo>
                <a:lnTo>
                  <a:pt x="12433302" y="12579352"/>
                </a:lnTo>
                <a:lnTo>
                  <a:pt x="12442827" y="12541252"/>
                </a:lnTo>
                <a:lnTo>
                  <a:pt x="12455527" y="12506324"/>
                </a:lnTo>
                <a:lnTo>
                  <a:pt x="12487277" y="12436476"/>
                </a:lnTo>
                <a:lnTo>
                  <a:pt x="12522202" y="12376152"/>
                </a:lnTo>
                <a:lnTo>
                  <a:pt x="12553952" y="12319000"/>
                </a:lnTo>
                <a:lnTo>
                  <a:pt x="12585702" y="12274552"/>
                </a:lnTo>
                <a:lnTo>
                  <a:pt x="12611102" y="12242800"/>
                </a:lnTo>
                <a:lnTo>
                  <a:pt x="12633327" y="12211052"/>
                </a:lnTo>
                <a:lnTo>
                  <a:pt x="12814302" y="11976100"/>
                </a:lnTo>
                <a:lnTo>
                  <a:pt x="13096877" y="11598276"/>
                </a:lnTo>
                <a:lnTo>
                  <a:pt x="13366752" y="11226800"/>
                </a:lnTo>
                <a:lnTo>
                  <a:pt x="13500102" y="11039476"/>
                </a:lnTo>
                <a:lnTo>
                  <a:pt x="13630277" y="10855324"/>
                </a:lnTo>
                <a:lnTo>
                  <a:pt x="13760452" y="10664824"/>
                </a:lnTo>
                <a:lnTo>
                  <a:pt x="13887452" y="10474324"/>
                </a:lnTo>
                <a:lnTo>
                  <a:pt x="14023976" y="10277476"/>
                </a:lnTo>
                <a:lnTo>
                  <a:pt x="14411328" y="9709152"/>
                </a:lnTo>
                <a:lnTo>
                  <a:pt x="14776452" y="9163052"/>
                </a:lnTo>
                <a:lnTo>
                  <a:pt x="15113004" y="8655052"/>
                </a:lnTo>
                <a:lnTo>
                  <a:pt x="15411452" y="8204200"/>
                </a:lnTo>
                <a:lnTo>
                  <a:pt x="15846428" y="7527924"/>
                </a:lnTo>
                <a:lnTo>
                  <a:pt x="16011528" y="7273924"/>
                </a:lnTo>
                <a:lnTo>
                  <a:pt x="15897228" y="7350124"/>
                </a:lnTo>
                <a:lnTo>
                  <a:pt x="15763876" y="7435852"/>
                </a:lnTo>
                <a:lnTo>
                  <a:pt x="15617828" y="7524752"/>
                </a:lnTo>
                <a:lnTo>
                  <a:pt x="15455904" y="7620000"/>
                </a:lnTo>
                <a:lnTo>
                  <a:pt x="15113004" y="7816852"/>
                </a:lnTo>
                <a:lnTo>
                  <a:pt x="14766928" y="8010524"/>
                </a:lnTo>
                <a:lnTo>
                  <a:pt x="14446252" y="8185152"/>
                </a:lnTo>
                <a:lnTo>
                  <a:pt x="14179552" y="8328024"/>
                </a:lnTo>
                <a:lnTo>
                  <a:pt x="13931902" y="8461376"/>
                </a:lnTo>
                <a:lnTo>
                  <a:pt x="13944602" y="8451852"/>
                </a:lnTo>
                <a:lnTo>
                  <a:pt x="13970002" y="8435976"/>
                </a:lnTo>
                <a:lnTo>
                  <a:pt x="14046204" y="8369300"/>
                </a:lnTo>
                <a:lnTo>
                  <a:pt x="14306552" y="8143876"/>
                </a:lnTo>
                <a:lnTo>
                  <a:pt x="14658976" y="7829552"/>
                </a:lnTo>
                <a:lnTo>
                  <a:pt x="15055852" y="7473952"/>
                </a:lnTo>
                <a:lnTo>
                  <a:pt x="15792452" y="6807200"/>
                </a:lnTo>
                <a:lnTo>
                  <a:pt x="16122652" y="6505576"/>
                </a:lnTo>
                <a:lnTo>
                  <a:pt x="16198852" y="6451600"/>
                </a:lnTo>
                <a:lnTo>
                  <a:pt x="16271876" y="6400800"/>
                </a:lnTo>
                <a:lnTo>
                  <a:pt x="16344904" y="6353176"/>
                </a:lnTo>
                <a:lnTo>
                  <a:pt x="16411576" y="6311900"/>
                </a:lnTo>
                <a:lnTo>
                  <a:pt x="16478252" y="6273800"/>
                </a:lnTo>
                <a:lnTo>
                  <a:pt x="16541752" y="6238876"/>
                </a:lnTo>
                <a:lnTo>
                  <a:pt x="16602076" y="6210300"/>
                </a:lnTo>
                <a:lnTo>
                  <a:pt x="16659228" y="6181724"/>
                </a:lnTo>
                <a:lnTo>
                  <a:pt x="16716376" y="6159500"/>
                </a:lnTo>
                <a:lnTo>
                  <a:pt x="16770352" y="6137276"/>
                </a:lnTo>
                <a:lnTo>
                  <a:pt x="16868776" y="6105524"/>
                </a:lnTo>
                <a:lnTo>
                  <a:pt x="16957676" y="6083300"/>
                </a:lnTo>
                <a:lnTo>
                  <a:pt x="17037052" y="6070600"/>
                </a:lnTo>
                <a:lnTo>
                  <a:pt x="17106904" y="6064252"/>
                </a:lnTo>
                <a:lnTo>
                  <a:pt x="17167228" y="6064252"/>
                </a:lnTo>
                <a:lnTo>
                  <a:pt x="17218028" y="6067424"/>
                </a:lnTo>
                <a:lnTo>
                  <a:pt x="17259304" y="6073776"/>
                </a:lnTo>
                <a:lnTo>
                  <a:pt x="17294228" y="6080124"/>
                </a:lnTo>
                <a:lnTo>
                  <a:pt x="17316452" y="6089652"/>
                </a:lnTo>
                <a:lnTo>
                  <a:pt x="17332328" y="6096000"/>
                </a:lnTo>
                <a:lnTo>
                  <a:pt x="17329152" y="6083300"/>
                </a:lnTo>
                <a:lnTo>
                  <a:pt x="17322804" y="6073776"/>
                </a:lnTo>
                <a:lnTo>
                  <a:pt x="17316452" y="6064252"/>
                </a:lnTo>
                <a:lnTo>
                  <a:pt x="17303752" y="6054724"/>
                </a:lnTo>
                <a:lnTo>
                  <a:pt x="17281528" y="6038852"/>
                </a:lnTo>
                <a:lnTo>
                  <a:pt x="17249776" y="6026152"/>
                </a:lnTo>
                <a:lnTo>
                  <a:pt x="17214852" y="6016624"/>
                </a:lnTo>
                <a:lnTo>
                  <a:pt x="17176752" y="6010276"/>
                </a:lnTo>
                <a:lnTo>
                  <a:pt x="17135476" y="6003924"/>
                </a:lnTo>
                <a:lnTo>
                  <a:pt x="17094204" y="6003924"/>
                </a:lnTo>
                <a:lnTo>
                  <a:pt x="17014828" y="6000752"/>
                </a:lnTo>
                <a:lnTo>
                  <a:pt x="16948152" y="6003924"/>
                </a:lnTo>
                <a:lnTo>
                  <a:pt x="16881476" y="6007100"/>
                </a:lnTo>
                <a:lnTo>
                  <a:pt x="16967204" y="5975352"/>
                </a:lnTo>
                <a:lnTo>
                  <a:pt x="17043404" y="5953124"/>
                </a:lnTo>
                <a:lnTo>
                  <a:pt x="17113252" y="5930900"/>
                </a:lnTo>
                <a:lnTo>
                  <a:pt x="17173576" y="5918200"/>
                </a:lnTo>
                <a:lnTo>
                  <a:pt x="17227552" y="5905500"/>
                </a:lnTo>
                <a:lnTo>
                  <a:pt x="17278352" y="5899152"/>
                </a:lnTo>
                <a:lnTo>
                  <a:pt x="17319628" y="5895976"/>
                </a:lnTo>
                <a:close/>
                <a:moveTo>
                  <a:pt x="23269574" y="5692776"/>
                </a:moveTo>
                <a:lnTo>
                  <a:pt x="23221950" y="5768976"/>
                </a:lnTo>
                <a:lnTo>
                  <a:pt x="23171150" y="5842000"/>
                </a:lnTo>
                <a:lnTo>
                  <a:pt x="23114002" y="5911852"/>
                </a:lnTo>
                <a:lnTo>
                  <a:pt x="23056850" y="5981700"/>
                </a:lnTo>
                <a:lnTo>
                  <a:pt x="22993350" y="6048376"/>
                </a:lnTo>
                <a:lnTo>
                  <a:pt x="22923502" y="6111876"/>
                </a:lnTo>
                <a:lnTo>
                  <a:pt x="22853650" y="6175376"/>
                </a:lnTo>
                <a:lnTo>
                  <a:pt x="22783802" y="6235700"/>
                </a:lnTo>
                <a:lnTo>
                  <a:pt x="22707602" y="6292852"/>
                </a:lnTo>
                <a:lnTo>
                  <a:pt x="22631402" y="6350000"/>
                </a:lnTo>
                <a:lnTo>
                  <a:pt x="22555202" y="6403976"/>
                </a:lnTo>
                <a:lnTo>
                  <a:pt x="22479002" y="6454776"/>
                </a:lnTo>
                <a:lnTo>
                  <a:pt x="22399626" y="6505576"/>
                </a:lnTo>
                <a:lnTo>
                  <a:pt x="22320250" y="6550024"/>
                </a:lnTo>
                <a:lnTo>
                  <a:pt x="22167850" y="6638924"/>
                </a:lnTo>
                <a:lnTo>
                  <a:pt x="22018626" y="6718300"/>
                </a:lnTo>
                <a:lnTo>
                  <a:pt x="21878926" y="6784976"/>
                </a:lnTo>
                <a:lnTo>
                  <a:pt x="21751926" y="6842124"/>
                </a:lnTo>
                <a:lnTo>
                  <a:pt x="21637626" y="6892924"/>
                </a:lnTo>
                <a:lnTo>
                  <a:pt x="21475702" y="6956424"/>
                </a:lnTo>
                <a:lnTo>
                  <a:pt x="21415374" y="6978652"/>
                </a:lnTo>
                <a:lnTo>
                  <a:pt x="21326474" y="7013576"/>
                </a:lnTo>
                <a:lnTo>
                  <a:pt x="21234402" y="7048500"/>
                </a:lnTo>
                <a:lnTo>
                  <a:pt x="21135974" y="7077076"/>
                </a:lnTo>
                <a:lnTo>
                  <a:pt x="21034374" y="7105652"/>
                </a:lnTo>
                <a:lnTo>
                  <a:pt x="20926426" y="7131052"/>
                </a:lnTo>
                <a:lnTo>
                  <a:pt x="20815302" y="7153276"/>
                </a:lnTo>
                <a:lnTo>
                  <a:pt x="20704176" y="7172324"/>
                </a:lnTo>
                <a:lnTo>
                  <a:pt x="20586704" y="7191376"/>
                </a:lnTo>
                <a:lnTo>
                  <a:pt x="20469228" y="7207252"/>
                </a:lnTo>
                <a:lnTo>
                  <a:pt x="20351752" y="7223124"/>
                </a:lnTo>
                <a:lnTo>
                  <a:pt x="20113628" y="7245352"/>
                </a:lnTo>
                <a:lnTo>
                  <a:pt x="19875504" y="7261224"/>
                </a:lnTo>
                <a:lnTo>
                  <a:pt x="19643728" y="7273924"/>
                </a:lnTo>
                <a:lnTo>
                  <a:pt x="19424652" y="7277100"/>
                </a:lnTo>
                <a:lnTo>
                  <a:pt x="19218276" y="7280276"/>
                </a:lnTo>
                <a:lnTo>
                  <a:pt x="19034128" y="7280276"/>
                </a:lnTo>
                <a:lnTo>
                  <a:pt x="18872204" y="7277100"/>
                </a:lnTo>
                <a:lnTo>
                  <a:pt x="18637252" y="7270752"/>
                </a:lnTo>
                <a:lnTo>
                  <a:pt x="18548352" y="7267576"/>
                </a:lnTo>
                <a:lnTo>
                  <a:pt x="18395952" y="7473952"/>
                </a:lnTo>
                <a:lnTo>
                  <a:pt x="18256252" y="7677152"/>
                </a:lnTo>
                <a:lnTo>
                  <a:pt x="18126076" y="7874000"/>
                </a:lnTo>
                <a:lnTo>
                  <a:pt x="18005428" y="8064500"/>
                </a:lnTo>
                <a:lnTo>
                  <a:pt x="17897476" y="8245476"/>
                </a:lnTo>
                <a:lnTo>
                  <a:pt x="17799052" y="8420100"/>
                </a:lnTo>
                <a:lnTo>
                  <a:pt x="17710152" y="8585200"/>
                </a:lnTo>
                <a:lnTo>
                  <a:pt x="17630776" y="8734424"/>
                </a:lnTo>
                <a:lnTo>
                  <a:pt x="17560928" y="8874124"/>
                </a:lnTo>
                <a:lnTo>
                  <a:pt x="17503776" y="9001124"/>
                </a:lnTo>
                <a:lnTo>
                  <a:pt x="17452976" y="9109076"/>
                </a:lnTo>
                <a:lnTo>
                  <a:pt x="17414876" y="9201152"/>
                </a:lnTo>
                <a:lnTo>
                  <a:pt x="17360904" y="9328152"/>
                </a:lnTo>
                <a:lnTo>
                  <a:pt x="17345028" y="9375776"/>
                </a:lnTo>
                <a:lnTo>
                  <a:pt x="17484728" y="9321800"/>
                </a:lnTo>
                <a:lnTo>
                  <a:pt x="17624428" y="9274176"/>
                </a:lnTo>
                <a:lnTo>
                  <a:pt x="17760952" y="9232900"/>
                </a:lnTo>
                <a:lnTo>
                  <a:pt x="17894304" y="9191624"/>
                </a:lnTo>
                <a:lnTo>
                  <a:pt x="18021304" y="9156700"/>
                </a:lnTo>
                <a:lnTo>
                  <a:pt x="18148304" y="9121776"/>
                </a:lnTo>
                <a:lnTo>
                  <a:pt x="18272128" y="9093200"/>
                </a:lnTo>
                <a:lnTo>
                  <a:pt x="18392776" y="9064624"/>
                </a:lnTo>
                <a:lnTo>
                  <a:pt x="18510252" y="9042400"/>
                </a:lnTo>
                <a:lnTo>
                  <a:pt x="18624552" y="9020176"/>
                </a:lnTo>
                <a:lnTo>
                  <a:pt x="18840452" y="8988424"/>
                </a:lnTo>
                <a:lnTo>
                  <a:pt x="19040476" y="8963024"/>
                </a:lnTo>
                <a:lnTo>
                  <a:pt x="19224628" y="8943976"/>
                </a:lnTo>
                <a:lnTo>
                  <a:pt x="19389728" y="8934452"/>
                </a:lnTo>
                <a:lnTo>
                  <a:pt x="19535776" y="8931276"/>
                </a:lnTo>
                <a:lnTo>
                  <a:pt x="19662776" y="8931276"/>
                </a:lnTo>
                <a:lnTo>
                  <a:pt x="19770728" y="8931276"/>
                </a:lnTo>
                <a:lnTo>
                  <a:pt x="19853276" y="8937624"/>
                </a:lnTo>
                <a:lnTo>
                  <a:pt x="19916776" y="8940800"/>
                </a:lnTo>
                <a:lnTo>
                  <a:pt x="19967576" y="8947152"/>
                </a:lnTo>
                <a:lnTo>
                  <a:pt x="20056476" y="8956676"/>
                </a:lnTo>
                <a:lnTo>
                  <a:pt x="20139028" y="8972552"/>
                </a:lnTo>
                <a:lnTo>
                  <a:pt x="20215228" y="8988424"/>
                </a:lnTo>
                <a:lnTo>
                  <a:pt x="20288252" y="9010652"/>
                </a:lnTo>
                <a:lnTo>
                  <a:pt x="20354928" y="9032876"/>
                </a:lnTo>
                <a:lnTo>
                  <a:pt x="20418428" y="9058276"/>
                </a:lnTo>
                <a:lnTo>
                  <a:pt x="20475576" y="9083676"/>
                </a:lnTo>
                <a:lnTo>
                  <a:pt x="20526376" y="9115424"/>
                </a:lnTo>
                <a:lnTo>
                  <a:pt x="20577176" y="9144000"/>
                </a:lnTo>
                <a:lnTo>
                  <a:pt x="20621628" y="9175752"/>
                </a:lnTo>
                <a:lnTo>
                  <a:pt x="20659728" y="9210676"/>
                </a:lnTo>
                <a:lnTo>
                  <a:pt x="20697828" y="9242424"/>
                </a:lnTo>
                <a:lnTo>
                  <a:pt x="20729576" y="9277352"/>
                </a:lnTo>
                <a:lnTo>
                  <a:pt x="20761326" y="9312276"/>
                </a:lnTo>
                <a:lnTo>
                  <a:pt x="20786726" y="9347200"/>
                </a:lnTo>
                <a:lnTo>
                  <a:pt x="20808950" y="9382124"/>
                </a:lnTo>
                <a:lnTo>
                  <a:pt x="20828002" y="9417052"/>
                </a:lnTo>
                <a:lnTo>
                  <a:pt x="20847050" y="9451976"/>
                </a:lnTo>
                <a:lnTo>
                  <a:pt x="20875626" y="9515476"/>
                </a:lnTo>
                <a:lnTo>
                  <a:pt x="20894674" y="9575800"/>
                </a:lnTo>
                <a:lnTo>
                  <a:pt x="20907374" y="9629776"/>
                </a:lnTo>
                <a:lnTo>
                  <a:pt x="20913726" y="9674224"/>
                </a:lnTo>
                <a:lnTo>
                  <a:pt x="20916902" y="9709152"/>
                </a:lnTo>
                <a:lnTo>
                  <a:pt x="20916902" y="9740900"/>
                </a:lnTo>
                <a:lnTo>
                  <a:pt x="20916902" y="9807576"/>
                </a:lnTo>
                <a:lnTo>
                  <a:pt x="20913726" y="9874252"/>
                </a:lnTo>
                <a:lnTo>
                  <a:pt x="20907374" y="9937752"/>
                </a:lnTo>
                <a:lnTo>
                  <a:pt x="20897850" y="10001252"/>
                </a:lnTo>
                <a:lnTo>
                  <a:pt x="20885150" y="10061576"/>
                </a:lnTo>
                <a:lnTo>
                  <a:pt x="20872450" y="10121900"/>
                </a:lnTo>
                <a:lnTo>
                  <a:pt x="20856574" y="10179052"/>
                </a:lnTo>
                <a:lnTo>
                  <a:pt x="20840702" y="10233024"/>
                </a:lnTo>
                <a:lnTo>
                  <a:pt x="20821650" y="10287000"/>
                </a:lnTo>
                <a:lnTo>
                  <a:pt x="20802602" y="10337800"/>
                </a:lnTo>
                <a:lnTo>
                  <a:pt x="20761326" y="10433052"/>
                </a:lnTo>
                <a:lnTo>
                  <a:pt x="20713704" y="10521952"/>
                </a:lnTo>
                <a:lnTo>
                  <a:pt x="20666076" y="10601324"/>
                </a:lnTo>
                <a:lnTo>
                  <a:pt x="20618452" y="10674352"/>
                </a:lnTo>
                <a:lnTo>
                  <a:pt x="20574004" y="10734676"/>
                </a:lnTo>
                <a:lnTo>
                  <a:pt x="20529552" y="10788652"/>
                </a:lnTo>
                <a:lnTo>
                  <a:pt x="20491452" y="10833100"/>
                </a:lnTo>
                <a:lnTo>
                  <a:pt x="20434304" y="10893424"/>
                </a:lnTo>
                <a:lnTo>
                  <a:pt x="20412076" y="10912476"/>
                </a:lnTo>
                <a:lnTo>
                  <a:pt x="20488276" y="10788652"/>
                </a:lnTo>
                <a:lnTo>
                  <a:pt x="20551776" y="10677524"/>
                </a:lnTo>
                <a:lnTo>
                  <a:pt x="20605752" y="10572752"/>
                </a:lnTo>
                <a:lnTo>
                  <a:pt x="20650204" y="10474324"/>
                </a:lnTo>
                <a:lnTo>
                  <a:pt x="20685128" y="10388600"/>
                </a:lnTo>
                <a:lnTo>
                  <a:pt x="20713704" y="10309224"/>
                </a:lnTo>
                <a:lnTo>
                  <a:pt x="20735928" y="10239376"/>
                </a:lnTo>
                <a:lnTo>
                  <a:pt x="20751802" y="10175876"/>
                </a:lnTo>
                <a:lnTo>
                  <a:pt x="20761326" y="10121900"/>
                </a:lnTo>
                <a:lnTo>
                  <a:pt x="20767674" y="10077452"/>
                </a:lnTo>
                <a:lnTo>
                  <a:pt x="20770850" y="10039352"/>
                </a:lnTo>
                <a:lnTo>
                  <a:pt x="20770850" y="10007600"/>
                </a:lnTo>
                <a:lnTo>
                  <a:pt x="20767674" y="9966324"/>
                </a:lnTo>
                <a:lnTo>
                  <a:pt x="20764502" y="9953624"/>
                </a:lnTo>
                <a:lnTo>
                  <a:pt x="20758150" y="9902824"/>
                </a:lnTo>
                <a:lnTo>
                  <a:pt x="20745450" y="9855200"/>
                </a:lnTo>
                <a:lnTo>
                  <a:pt x="20729576" y="9813924"/>
                </a:lnTo>
                <a:lnTo>
                  <a:pt x="20713704" y="9772652"/>
                </a:lnTo>
                <a:lnTo>
                  <a:pt x="20691476" y="9734552"/>
                </a:lnTo>
                <a:lnTo>
                  <a:pt x="20666076" y="9699624"/>
                </a:lnTo>
                <a:lnTo>
                  <a:pt x="20640676" y="9667876"/>
                </a:lnTo>
                <a:lnTo>
                  <a:pt x="20612104" y="9639300"/>
                </a:lnTo>
                <a:lnTo>
                  <a:pt x="20583528" y="9613900"/>
                </a:lnTo>
                <a:lnTo>
                  <a:pt x="20551776" y="9588500"/>
                </a:lnTo>
                <a:lnTo>
                  <a:pt x="20516852" y="9566276"/>
                </a:lnTo>
                <a:lnTo>
                  <a:pt x="20485104" y="9547224"/>
                </a:lnTo>
                <a:lnTo>
                  <a:pt x="20450176" y="9531352"/>
                </a:lnTo>
                <a:lnTo>
                  <a:pt x="20412076" y="9515476"/>
                </a:lnTo>
                <a:lnTo>
                  <a:pt x="20342228" y="9490076"/>
                </a:lnTo>
                <a:lnTo>
                  <a:pt x="20269204" y="9467852"/>
                </a:lnTo>
                <a:lnTo>
                  <a:pt x="20202528" y="9455152"/>
                </a:lnTo>
                <a:lnTo>
                  <a:pt x="20139028" y="9445624"/>
                </a:lnTo>
                <a:lnTo>
                  <a:pt x="20081876" y="9439276"/>
                </a:lnTo>
                <a:lnTo>
                  <a:pt x="19999328" y="9436100"/>
                </a:lnTo>
                <a:lnTo>
                  <a:pt x="19967576" y="9439276"/>
                </a:lnTo>
                <a:lnTo>
                  <a:pt x="20037428" y="9455152"/>
                </a:lnTo>
                <a:lnTo>
                  <a:pt x="20104104" y="9474200"/>
                </a:lnTo>
                <a:lnTo>
                  <a:pt x="20164428" y="9496424"/>
                </a:lnTo>
                <a:lnTo>
                  <a:pt x="20218404" y="9521824"/>
                </a:lnTo>
                <a:lnTo>
                  <a:pt x="20269204" y="9547224"/>
                </a:lnTo>
                <a:lnTo>
                  <a:pt x="20313652" y="9575800"/>
                </a:lnTo>
                <a:lnTo>
                  <a:pt x="20354928" y="9607552"/>
                </a:lnTo>
                <a:lnTo>
                  <a:pt x="20389852" y="9639300"/>
                </a:lnTo>
                <a:lnTo>
                  <a:pt x="20424776" y="9671052"/>
                </a:lnTo>
                <a:lnTo>
                  <a:pt x="20453352" y="9702800"/>
                </a:lnTo>
                <a:lnTo>
                  <a:pt x="20475576" y="9737724"/>
                </a:lnTo>
                <a:lnTo>
                  <a:pt x="20497804" y="9772652"/>
                </a:lnTo>
                <a:lnTo>
                  <a:pt x="20516852" y="9807576"/>
                </a:lnTo>
                <a:lnTo>
                  <a:pt x="20532728" y="9842500"/>
                </a:lnTo>
                <a:lnTo>
                  <a:pt x="20545428" y="9877424"/>
                </a:lnTo>
                <a:lnTo>
                  <a:pt x="20554952" y="9909176"/>
                </a:lnTo>
                <a:lnTo>
                  <a:pt x="20564476" y="9944100"/>
                </a:lnTo>
                <a:lnTo>
                  <a:pt x="20567652" y="9979024"/>
                </a:lnTo>
                <a:lnTo>
                  <a:pt x="20574004" y="10042524"/>
                </a:lnTo>
                <a:lnTo>
                  <a:pt x="20577176" y="10099676"/>
                </a:lnTo>
                <a:lnTo>
                  <a:pt x="20570828" y="10150476"/>
                </a:lnTo>
                <a:lnTo>
                  <a:pt x="20567652" y="10194924"/>
                </a:lnTo>
                <a:lnTo>
                  <a:pt x="20561304" y="10226676"/>
                </a:lnTo>
                <a:lnTo>
                  <a:pt x="20551776" y="10255252"/>
                </a:lnTo>
                <a:lnTo>
                  <a:pt x="20539076" y="10302876"/>
                </a:lnTo>
                <a:lnTo>
                  <a:pt x="20523204" y="10350500"/>
                </a:lnTo>
                <a:lnTo>
                  <a:pt x="20500976" y="10398124"/>
                </a:lnTo>
                <a:lnTo>
                  <a:pt x="20478752" y="10445752"/>
                </a:lnTo>
                <a:lnTo>
                  <a:pt x="20427952" y="10547352"/>
                </a:lnTo>
                <a:lnTo>
                  <a:pt x="20367628" y="10645776"/>
                </a:lnTo>
                <a:lnTo>
                  <a:pt x="20304128" y="10744200"/>
                </a:lnTo>
                <a:lnTo>
                  <a:pt x="20234276" y="10839452"/>
                </a:lnTo>
                <a:lnTo>
                  <a:pt x="20161252" y="10931524"/>
                </a:lnTo>
                <a:lnTo>
                  <a:pt x="20091404" y="11020424"/>
                </a:lnTo>
                <a:lnTo>
                  <a:pt x="20018376" y="11102976"/>
                </a:lnTo>
                <a:lnTo>
                  <a:pt x="19951704" y="11179176"/>
                </a:lnTo>
                <a:lnTo>
                  <a:pt x="19837404" y="11303000"/>
                </a:lnTo>
                <a:lnTo>
                  <a:pt x="19754852" y="11385552"/>
                </a:lnTo>
                <a:lnTo>
                  <a:pt x="19726276" y="11414124"/>
                </a:lnTo>
                <a:lnTo>
                  <a:pt x="19627852" y="11525252"/>
                </a:lnTo>
                <a:lnTo>
                  <a:pt x="19526252" y="11633200"/>
                </a:lnTo>
                <a:lnTo>
                  <a:pt x="19421476" y="11734800"/>
                </a:lnTo>
                <a:lnTo>
                  <a:pt x="19319876" y="11836400"/>
                </a:lnTo>
                <a:lnTo>
                  <a:pt x="19215104" y="11931652"/>
                </a:lnTo>
                <a:lnTo>
                  <a:pt x="19107152" y="12023724"/>
                </a:lnTo>
                <a:lnTo>
                  <a:pt x="19002376" y="12112624"/>
                </a:lnTo>
                <a:lnTo>
                  <a:pt x="18897604" y="12198352"/>
                </a:lnTo>
                <a:lnTo>
                  <a:pt x="18792828" y="12280900"/>
                </a:lnTo>
                <a:lnTo>
                  <a:pt x="18688052" y="12357100"/>
                </a:lnTo>
                <a:lnTo>
                  <a:pt x="18586452" y="12433300"/>
                </a:lnTo>
                <a:lnTo>
                  <a:pt x="18484852" y="12503152"/>
                </a:lnTo>
                <a:lnTo>
                  <a:pt x="18288004" y="12633324"/>
                </a:lnTo>
                <a:lnTo>
                  <a:pt x="18100676" y="12750800"/>
                </a:lnTo>
                <a:lnTo>
                  <a:pt x="17922876" y="12852400"/>
                </a:lnTo>
                <a:lnTo>
                  <a:pt x="17764128" y="12941300"/>
                </a:lnTo>
                <a:lnTo>
                  <a:pt x="17621252" y="13017500"/>
                </a:lnTo>
                <a:lnTo>
                  <a:pt x="17497428" y="13077824"/>
                </a:lnTo>
                <a:lnTo>
                  <a:pt x="17399004" y="13125452"/>
                </a:lnTo>
                <a:lnTo>
                  <a:pt x="17322804" y="13157200"/>
                </a:lnTo>
                <a:lnTo>
                  <a:pt x="17262476" y="13185776"/>
                </a:lnTo>
                <a:lnTo>
                  <a:pt x="17116428" y="13236576"/>
                </a:lnTo>
                <a:lnTo>
                  <a:pt x="16979904" y="13284200"/>
                </a:lnTo>
                <a:lnTo>
                  <a:pt x="16846552" y="13325476"/>
                </a:lnTo>
                <a:lnTo>
                  <a:pt x="16719552" y="13363576"/>
                </a:lnTo>
                <a:lnTo>
                  <a:pt x="16595728" y="13398500"/>
                </a:lnTo>
                <a:lnTo>
                  <a:pt x="16475076" y="13427076"/>
                </a:lnTo>
                <a:lnTo>
                  <a:pt x="16363952" y="13449300"/>
                </a:lnTo>
                <a:lnTo>
                  <a:pt x="16252828" y="13471524"/>
                </a:lnTo>
                <a:lnTo>
                  <a:pt x="16151228" y="13487400"/>
                </a:lnTo>
                <a:lnTo>
                  <a:pt x="16049628" y="13503276"/>
                </a:lnTo>
                <a:lnTo>
                  <a:pt x="15957552" y="13512800"/>
                </a:lnTo>
                <a:lnTo>
                  <a:pt x="15865476" y="13522324"/>
                </a:lnTo>
                <a:lnTo>
                  <a:pt x="15782928" y="13525500"/>
                </a:lnTo>
                <a:lnTo>
                  <a:pt x="15700376" y="13528676"/>
                </a:lnTo>
                <a:lnTo>
                  <a:pt x="15624176" y="13528676"/>
                </a:lnTo>
                <a:lnTo>
                  <a:pt x="15554328" y="13528676"/>
                </a:lnTo>
                <a:lnTo>
                  <a:pt x="15424152" y="13522324"/>
                </a:lnTo>
                <a:lnTo>
                  <a:pt x="15313028" y="13509624"/>
                </a:lnTo>
                <a:lnTo>
                  <a:pt x="15220952" y="13493752"/>
                </a:lnTo>
                <a:lnTo>
                  <a:pt x="15144752" y="13474700"/>
                </a:lnTo>
                <a:lnTo>
                  <a:pt x="15087604" y="13458824"/>
                </a:lnTo>
                <a:lnTo>
                  <a:pt x="15046328" y="13446124"/>
                </a:lnTo>
                <a:lnTo>
                  <a:pt x="15011404" y="13430252"/>
                </a:lnTo>
                <a:lnTo>
                  <a:pt x="15128876" y="13446124"/>
                </a:lnTo>
                <a:lnTo>
                  <a:pt x="15240004" y="13458824"/>
                </a:lnTo>
                <a:lnTo>
                  <a:pt x="15347952" y="13468352"/>
                </a:lnTo>
                <a:lnTo>
                  <a:pt x="15452728" y="13474700"/>
                </a:lnTo>
                <a:lnTo>
                  <a:pt x="15554328" y="13477876"/>
                </a:lnTo>
                <a:lnTo>
                  <a:pt x="15652752" y="13477876"/>
                </a:lnTo>
                <a:lnTo>
                  <a:pt x="15748004" y="13474700"/>
                </a:lnTo>
                <a:lnTo>
                  <a:pt x="15840076" y="13471524"/>
                </a:lnTo>
                <a:lnTo>
                  <a:pt x="15925804" y="13462000"/>
                </a:lnTo>
                <a:lnTo>
                  <a:pt x="16011528" y="13452476"/>
                </a:lnTo>
                <a:lnTo>
                  <a:pt x="16090904" y="13442952"/>
                </a:lnTo>
                <a:lnTo>
                  <a:pt x="16167104" y="13430252"/>
                </a:lnTo>
                <a:lnTo>
                  <a:pt x="16240128" y="13417552"/>
                </a:lnTo>
                <a:lnTo>
                  <a:pt x="16309976" y="13401676"/>
                </a:lnTo>
                <a:lnTo>
                  <a:pt x="16436976" y="13369924"/>
                </a:lnTo>
                <a:lnTo>
                  <a:pt x="16551276" y="13335000"/>
                </a:lnTo>
                <a:lnTo>
                  <a:pt x="16649704" y="13300076"/>
                </a:lnTo>
                <a:lnTo>
                  <a:pt x="16735428" y="13265152"/>
                </a:lnTo>
                <a:lnTo>
                  <a:pt x="16802104" y="13233400"/>
                </a:lnTo>
                <a:lnTo>
                  <a:pt x="16856076" y="13208000"/>
                </a:lnTo>
                <a:lnTo>
                  <a:pt x="16894176" y="13185776"/>
                </a:lnTo>
                <a:lnTo>
                  <a:pt x="16925928" y="13166724"/>
                </a:lnTo>
                <a:lnTo>
                  <a:pt x="16846552" y="13198476"/>
                </a:lnTo>
                <a:lnTo>
                  <a:pt x="16764004" y="13230224"/>
                </a:lnTo>
                <a:lnTo>
                  <a:pt x="16675104" y="13255624"/>
                </a:lnTo>
                <a:lnTo>
                  <a:pt x="16583028" y="13277852"/>
                </a:lnTo>
                <a:lnTo>
                  <a:pt x="16487776" y="13296900"/>
                </a:lnTo>
                <a:lnTo>
                  <a:pt x="16395704" y="13315952"/>
                </a:lnTo>
                <a:lnTo>
                  <a:pt x="16306804" y="13328652"/>
                </a:lnTo>
                <a:lnTo>
                  <a:pt x="16217904" y="13341352"/>
                </a:lnTo>
                <a:lnTo>
                  <a:pt x="16059152" y="13357224"/>
                </a:lnTo>
                <a:lnTo>
                  <a:pt x="15932152" y="13369924"/>
                </a:lnTo>
                <a:lnTo>
                  <a:pt x="15814676" y="13373100"/>
                </a:lnTo>
                <a:lnTo>
                  <a:pt x="15728952" y="13376276"/>
                </a:lnTo>
                <a:lnTo>
                  <a:pt x="15646404" y="13379452"/>
                </a:lnTo>
                <a:lnTo>
                  <a:pt x="15570204" y="13376276"/>
                </a:lnTo>
                <a:lnTo>
                  <a:pt x="15497176" y="13376276"/>
                </a:lnTo>
                <a:lnTo>
                  <a:pt x="15427328" y="13369924"/>
                </a:lnTo>
                <a:lnTo>
                  <a:pt x="15363828" y="13363576"/>
                </a:lnTo>
                <a:lnTo>
                  <a:pt x="15303504" y="13357224"/>
                </a:lnTo>
                <a:lnTo>
                  <a:pt x="15246352" y="13344524"/>
                </a:lnTo>
                <a:lnTo>
                  <a:pt x="15192376" y="13335000"/>
                </a:lnTo>
                <a:lnTo>
                  <a:pt x="15144752" y="13322300"/>
                </a:lnTo>
                <a:lnTo>
                  <a:pt x="15100304" y="13306424"/>
                </a:lnTo>
                <a:lnTo>
                  <a:pt x="15055852" y="13290552"/>
                </a:lnTo>
                <a:lnTo>
                  <a:pt x="15017752" y="13274676"/>
                </a:lnTo>
                <a:lnTo>
                  <a:pt x="14982828" y="13255624"/>
                </a:lnTo>
                <a:lnTo>
                  <a:pt x="14954252" y="13236576"/>
                </a:lnTo>
                <a:lnTo>
                  <a:pt x="14925676" y="13214352"/>
                </a:lnTo>
                <a:lnTo>
                  <a:pt x="14900276" y="13192124"/>
                </a:lnTo>
                <a:lnTo>
                  <a:pt x="14878052" y="13169900"/>
                </a:lnTo>
                <a:lnTo>
                  <a:pt x="14855828" y="13147676"/>
                </a:lnTo>
                <a:lnTo>
                  <a:pt x="14839952" y="13122276"/>
                </a:lnTo>
                <a:lnTo>
                  <a:pt x="14827252" y="13096876"/>
                </a:lnTo>
                <a:lnTo>
                  <a:pt x="14814552" y="13071476"/>
                </a:lnTo>
                <a:lnTo>
                  <a:pt x="14805028" y="13042900"/>
                </a:lnTo>
                <a:lnTo>
                  <a:pt x="14798676" y="13014324"/>
                </a:lnTo>
                <a:lnTo>
                  <a:pt x="14792328" y="12988924"/>
                </a:lnTo>
                <a:lnTo>
                  <a:pt x="14789152" y="12960352"/>
                </a:lnTo>
                <a:lnTo>
                  <a:pt x="14789152" y="12928600"/>
                </a:lnTo>
                <a:lnTo>
                  <a:pt x="14792328" y="12900024"/>
                </a:lnTo>
                <a:lnTo>
                  <a:pt x="14798676" y="12839700"/>
                </a:lnTo>
                <a:lnTo>
                  <a:pt x="14814552" y="12779376"/>
                </a:lnTo>
                <a:lnTo>
                  <a:pt x="14833604" y="12719052"/>
                </a:lnTo>
                <a:lnTo>
                  <a:pt x="14859004" y="12658724"/>
                </a:lnTo>
                <a:lnTo>
                  <a:pt x="14887576" y="12598400"/>
                </a:lnTo>
                <a:lnTo>
                  <a:pt x="14916152" y="12538076"/>
                </a:lnTo>
                <a:lnTo>
                  <a:pt x="14951076" y="12480924"/>
                </a:lnTo>
                <a:lnTo>
                  <a:pt x="14986004" y="12426952"/>
                </a:lnTo>
                <a:lnTo>
                  <a:pt x="15059028" y="12325352"/>
                </a:lnTo>
                <a:lnTo>
                  <a:pt x="15125704" y="12242800"/>
                </a:lnTo>
                <a:lnTo>
                  <a:pt x="15179676" y="12176124"/>
                </a:lnTo>
                <a:lnTo>
                  <a:pt x="15233652" y="12118976"/>
                </a:lnTo>
                <a:lnTo>
                  <a:pt x="15252704" y="12153900"/>
                </a:lnTo>
                <a:lnTo>
                  <a:pt x="15274928" y="12185652"/>
                </a:lnTo>
                <a:lnTo>
                  <a:pt x="15300328" y="12217400"/>
                </a:lnTo>
                <a:lnTo>
                  <a:pt x="15325728" y="12249152"/>
                </a:lnTo>
                <a:lnTo>
                  <a:pt x="15351128" y="12277724"/>
                </a:lnTo>
                <a:lnTo>
                  <a:pt x="15379704" y="12303124"/>
                </a:lnTo>
                <a:lnTo>
                  <a:pt x="15408276" y="12328524"/>
                </a:lnTo>
                <a:lnTo>
                  <a:pt x="15436852" y="12353924"/>
                </a:lnTo>
                <a:lnTo>
                  <a:pt x="15500352" y="12395200"/>
                </a:lnTo>
                <a:lnTo>
                  <a:pt x="15570204" y="12433300"/>
                </a:lnTo>
                <a:lnTo>
                  <a:pt x="15640052" y="12465052"/>
                </a:lnTo>
                <a:lnTo>
                  <a:pt x="15713076" y="12493624"/>
                </a:lnTo>
                <a:lnTo>
                  <a:pt x="15792452" y="12515852"/>
                </a:lnTo>
                <a:lnTo>
                  <a:pt x="15871828" y="12534900"/>
                </a:lnTo>
                <a:lnTo>
                  <a:pt x="15951204" y="12547600"/>
                </a:lnTo>
                <a:lnTo>
                  <a:pt x="16033752" y="12557124"/>
                </a:lnTo>
                <a:lnTo>
                  <a:pt x="16116304" y="12563476"/>
                </a:lnTo>
                <a:lnTo>
                  <a:pt x="16198852" y="12569824"/>
                </a:lnTo>
                <a:lnTo>
                  <a:pt x="16281404" y="12569824"/>
                </a:lnTo>
                <a:lnTo>
                  <a:pt x="16363952" y="12566652"/>
                </a:lnTo>
                <a:lnTo>
                  <a:pt x="16443328" y="12563476"/>
                </a:lnTo>
                <a:lnTo>
                  <a:pt x="16522704" y="12557124"/>
                </a:lnTo>
                <a:lnTo>
                  <a:pt x="16671928" y="12541252"/>
                </a:lnTo>
                <a:lnTo>
                  <a:pt x="16811628" y="12519024"/>
                </a:lnTo>
                <a:lnTo>
                  <a:pt x="16932276" y="12496800"/>
                </a:lnTo>
                <a:lnTo>
                  <a:pt x="17033876" y="12474576"/>
                </a:lnTo>
                <a:lnTo>
                  <a:pt x="17113252" y="12455524"/>
                </a:lnTo>
                <a:lnTo>
                  <a:pt x="17176752" y="12439652"/>
                </a:lnTo>
                <a:lnTo>
                  <a:pt x="17322804" y="12401552"/>
                </a:lnTo>
                <a:lnTo>
                  <a:pt x="17462504" y="12360276"/>
                </a:lnTo>
                <a:lnTo>
                  <a:pt x="17599028" y="12315824"/>
                </a:lnTo>
                <a:lnTo>
                  <a:pt x="17732376" y="12268200"/>
                </a:lnTo>
                <a:lnTo>
                  <a:pt x="17862552" y="12217400"/>
                </a:lnTo>
                <a:lnTo>
                  <a:pt x="17986376" y="12166600"/>
                </a:lnTo>
                <a:lnTo>
                  <a:pt x="18107028" y="12112624"/>
                </a:lnTo>
                <a:lnTo>
                  <a:pt x="18224504" y="12055476"/>
                </a:lnTo>
                <a:lnTo>
                  <a:pt x="18338804" y="11995152"/>
                </a:lnTo>
                <a:lnTo>
                  <a:pt x="18446752" y="11938000"/>
                </a:lnTo>
                <a:lnTo>
                  <a:pt x="18551528" y="11877676"/>
                </a:lnTo>
                <a:lnTo>
                  <a:pt x="18653128" y="11817352"/>
                </a:lnTo>
                <a:lnTo>
                  <a:pt x="18748376" y="11757024"/>
                </a:lnTo>
                <a:lnTo>
                  <a:pt x="18840452" y="11696700"/>
                </a:lnTo>
                <a:lnTo>
                  <a:pt x="18926176" y="11636376"/>
                </a:lnTo>
                <a:lnTo>
                  <a:pt x="19008728" y="11576052"/>
                </a:lnTo>
                <a:lnTo>
                  <a:pt x="19161128" y="11461752"/>
                </a:lnTo>
                <a:lnTo>
                  <a:pt x="19291304" y="11353800"/>
                </a:lnTo>
                <a:lnTo>
                  <a:pt x="19405604" y="11255376"/>
                </a:lnTo>
                <a:lnTo>
                  <a:pt x="19497676" y="11166476"/>
                </a:lnTo>
                <a:lnTo>
                  <a:pt x="19570704" y="11096624"/>
                </a:lnTo>
                <a:lnTo>
                  <a:pt x="19624676" y="11042652"/>
                </a:lnTo>
                <a:lnTo>
                  <a:pt x="19669128" y="10995024"/>
                </a:lnTo>
                <a:lnTo>
                  <a:pt x="19716752" y="10950576"/>
                </a:lnTo>
                <a:lnTo>
                  <a:pt x="19758028" y="10906124"/>
                </a:lnTo>
                <a:lnTo>
                  <a:pt x="19796128" y="10861676"/>
                </a:lnTo>
                <a:lnTo>
                  <a:pt x="19824704" y="10820400"/>
                </a:lnTo>
                <a:lnTo>
                  <a:pt x="19850104" y="10779124"/>
                </a:lnTo>
                <a:lnTo>
                  <a:pt x="19869152" y="10737852"/>
                </a:lnTo>
                <a:lnTo>
                  <a:pt x="19885028" y="10699752"/>
                </a:lnTo>
                <a:lnTo>
                  <a:pt x="19897728" y="10661652"/>
                </a:lnTo>
                <a:lnTo>
                  <a:pt x="19904076" y="10623552"/>
                </a:lnTo>
                <a:lnTo>
                  <a:pt x="19907252" y="10588624"/>
                </a:lnTo>
                <a:lnTo>
                  <a:pt x="19907252" y="10553700"/>
                </a:lnTo>
                <a:lnTo>
                  <a:pt x="19900904" y="10521952"/>
                </a:lnTo>
                <a:lnTo>
                  <a:pt x="19894552" y="10490200"/>
                </a:lnTo>
                <a:lnTo>
                  <a:pt x="19885028" y="10461624"/>
                </a:lnTo>
                <a:lnTo>
                  <a:pt x="19875504" y="10429876"/>
                </a:lnTo>
                <a:lnTo>
                  <a:pt x="19862804" y="10404476"/>
                </a:lnTo>
                <a:lnTo>
                  <a:pt x="19846928" y="10379076"/>
                </a:lnTo>
                <a:lnTo>
                  <a:pt x="19831052" y="10353676"/>
                </a:lnTo>
                <a:lnTo>
                  <a:pt x="19796128" y="10309224"/>
                </a:lnTo>
                <a:lnTo>
                  <a:pt x="19758028" y="10271124"/>
                </a:lnTo>
                <a:lnTo>
                  <a:pt x="19723104" y="10236200"/>
                </a:lnTo>
                <a:lnTo>
                  <a:pt x="19691352" y="10210800"/>
                </a:lnTo>
                <a:lnTo>
                  <a:pt x="19665952" y="10194924"/>
                </a:lnTo>
                <a:lnTo>
                  <a:pt x="19643728" y="10179052"/>
                </a:lnTo>
                <a:lnTo>
                  <a:pt x="19608804" y="10153652"/>
                </a:lnTo>
                <a:lnTo>
                  <a:pt x="19570704" y="10128252"/>
                </a:lnTo>
                <a:lnTo>
                  <a:pt x="19532604" y="10109200"/>
                </a:lnTo>
                <a:lnTo>
                  <a:pt x="19491328" y="10090152"/>
                </a:lnTo>
                <a:lnTo>
                  <a:pt x="19446876" y="10074276"/>
                </a:lnTo>
                <a:lnTo>
                  <a:pt x="19402428" y="10061576"/>
                </a:lnTo>
                <a:lnTo>
                  <a:pt x="19351628" y="10048876"/>
                </a:lnTo>
                <a:lnTo>
                  <a:pt x="19304004" y="10039352"/>
                </a:lnTo>
                <a:lnTo>
                  <a:pt x="19250028" y="10033000"/>
                </a:lnTo>
                <a:lnTo>
                  <a:pt x="19199228" y="10026652"/>
                </a:lnTo>
                <a:lnTo>
                  <a:pt x="19142076" y="10023476"/>
                </a:lnTo>
                <a:lnTo>
                  <a:pt x="19084928" y="10023476"/>
                </a:lnTo>
                <a:lnTo>
                  <a:pt x="18967452" y="10026652"/>
                </a:lnTo>
                <a:lnTo>
                  <a:pt x="18846804" y="10036176"/>
                </a:lnTo>
                <a:lnTo>
                  <a:pt x="18719804" y="10052052"/>
                </a:lnTo>
                <a:lnTo>
                  <a:pt x="18589628" y="10071100"/>
                </a:lnTo>
                <a:lnTo>
                  <a:pt x="18456276" y="10096500"/>
                </a:lnTo>
                <a:lnTo>
                  <a:pt x="18319752" y="10128252"/>
                </a:lnTo>
                <a:lnTo>
                  <a:pt x="18183228" y="10163176"/>
                </a:lnTo>
                <a:lnTo>
                  <a:pt x="18046704" y="10201276"/>
                </a:lnTo>
                <a:lnTo>
                  <a:pt x="17913352" y="10242552"/>
                </a:lnTo>
                <a:lnTo>
                  <a:pt x="17776828" y="10283824"/>
                </a:lnTo>
                <a:lnTo>
                  <a:pt x="17643476" y="10331452"/>
                </a:lnTo>
                <a:lnTo>
                  <a:pt x="17513304" y="10375900"/>
                </a:lnTo>
                <a:lnTo>
                  <a:pt x="17265652" y="10467976"/>
                </a:lnTo>
                <a:lnTo>
                  <a:pt x="17040228" y="10560052"/>
                </a:lnTo>
                <a:lnTo>
                  <a:pt x="16840204" y="10645776"/>
                </a:lnTo>
                <a:lnTo>
                  <a:pt x="16675104" y="10718800"/>
                </a:lnTo>
                <a:lnTo>
                  <a:pt x="16548104" y="10775952"/>
                </a:lnTo>
                <a:lnTo>
                  <a:pt x="16436976" y="10826752"/>
                </a:lnTo>
                <a:lnTo>
                  <a:pt x="16325852" y="10890252"/>
                </a:lnTo>
                <a:lnTo>
                  <a:pt x="16214728" y="10944224"/>
                </a:lnTo>
                <a:lnTo>
                  <a:pt x="16109952" y="10988676"/>
                </a:lnTo>
                <a:lnTo>
                  <a:pt x="16008352" y="11029952"/>
                </a:lnTo>
                <a:lnTo>
                  <a:pt x="15913104" y="11064876"/>
                </a:lnTo>
                <a:lnTo>
                  <a:pt x="15824204" y="11096624"/>
                </a:lnTo>
                <a:lnTo>
                  <a:pt x="15738476" y="11118852"/>
                </a:lnTo>
                <a:lnTo>
                  <a:pt x="15662276" y="11141076"/>
                </a:lnTo>
                <a:lnTo>
                  <a:pt x="15592428" y="11156952"/>
                </a:lnTo>
                <a:lnTo>
                  <a:pt x="15528928" y="11169652"/>
                </a:lnTo>
                <a:lnTo>
                  <a:pt x="15427328" y="11185524"/>
                </a:lnTo>
                <a:lnTo>
                  <a:pt x="15363828" y="11191876"/>
                </a:lnTo>
                <a:lnTo>
                  <a:pt x="15341604" y="11191876"/>
                </a:lnTo>
                <a:lnTo>
                  <a:pt x="15313028" y="11182352"/>
                </a:lnTo>
                <a:lnTo>
                  <a:pt x="15284452" y="11169652"/>
                </a:lnTo>
                <a:lnTo>
                  <a:pt x="15262228" y="11156952"/>
                </a:lnTo>
                <a:lnTo>
                  <a:pt x="15243176" y="11137900"/>
                </a:lnTo>
                <a:lnTo>
                  <a:pt x="15224128" y="11118852"/>
                </a:lnTo>
                <a:lnTo>
                  <a:pt x="15211428" y="11099800"/>
                </a:lnTo>
                <a:lnTo>
                  <a:pt x="15198728" y="11077576"/>
                </a:lnTo>
                <a:lnTo>
                  <a:pt x="15189204" y="11055352"/>
                </a:lnTo>
                <a:lnTo>
                  <a:pt x="15182852" y="11029952"/>
                </a:lnTo>
                <a:lnTo>
                  <a:pt x="15176504" y="11004552"/>
                </a:lnTo>
                <a:lnTo>
                  <a:pt x="15173328" y="10950576"/>
                </a:lnTo>
                <a:lnTo>
                  <a:pt x="15173328" y="10896600"/>
                </a:lnTo>
                <a:lnTo>
                  <a:pt x="15179676" y="10842624"/>
                </a:lnTo>
                <a:lnTo>
                  <a:pt x="15192376" y="10788652"/>
                </a:lnTo>
                <a:lnTo>
                  <a:pt x="15205076" y="10734676"/>
                </a:lnTo>
                <a:lnTo>
                  <a:pt x="15217776" y="10687052"/>
                </a:lnTo>
                <a:lnTo>
                  <a:pt x="15233652" y="10645776"/>
                </a:lnTo>
                <a:lnTo>
                  <a:pt x="15259052" y="10585452"/>
                </a:lnTo>
                <a:lnTo>
                  <a:pt x="15268576" y="10560052"/>
                </a:lnTo>
                <a:lnTo>
                  <a:pt x="15284452" y="10518776"/>
                </a:lnTo>
                <a:lnTo>
                  <a:pt x="15300328" y="10474324"/>
                </a:lnTo>
                <a:lnTo>
                  <a:pt x="15344776" y="10382252"/>
                </a:lnTo>
                <a:lnTo>
                  <a:pt x="15398752" y="10277476"/>
                </a:lnTo>
                <a:lnTo>
                  <a:pt x="15465428" y="10166352"/>
                </a:lnTo>
                <a:lnTo>
                  <a:pt x="15541628" y="10048876"/>
                </a:lnTo>
                <a:lnTo>
                  <a:pt x="15627352" y="9925052"/>
                </a:lnTo>
                <a:lnTo>
                  <a:pt x="15722604" y="9794876"/>
                </a:lnTo>
                <a:lnTo>
                  <a:pt x="15824204" y="9661524"/>
                </a:lnTo>
                <a:lnTo>
                  <a:pt x="15928976" y="9525000"/>
                </a:lnTo>
                <a:lnTo>
                  <a:pt x="16043276" y="9385300"/>
                </a:lnTo>
                <a:lnTo>
                  <a:pt x="16160752" y="9242424"/>
                </a:lnTo>
                <a:lnTo>
                  <a:pt x="16281404" y="9096376"/>
                </a:lnTo>
                <a:lnTo>
                  <a:pt x="16532228" y="8807452"/>
                </a:lnTo>
                <a:lnTo>
                  <a:pt x="16783052" y="8524876"/>
                </a:lnTo>
                <a:lnTo>
                  <a:pt x="17033876" y="8248652"/>
                </a:lnTo>
                <a:lnTo>
                  <a:pt x="17275176" y="7991476"/>
                </a:lnTo>
                <a:lnTo>
                  <a:pt x="17497428" y="7753352"/>
                </a:lnTo>
                <a:lnTo>
                  <a:pt x="17697452" y="7546976"/>
                </a:lnTo>
                <a:lnTo>
                  <a:pt x="17992728" y="7245352"/>
                </a:lnTo>
                <a:lnTo>
                  <a:pt x="18103852" y="7131052"/>
                </a:lnTo>
                <a:lnTo>
                  <a:pt x="18075276" y="7086600"/>
                </a:lnTo>
                <a:lnTo>
                  <a:pt x="18049876" y="7042152"/>
                </a:lnTo>
                <a:lnTo>
                  <a:pt x="18030828" y="6997700"/>
                </a:lnTo>
                <a:lnTo>
                  <a:pt x="18011776" y="6953252"/>
                </a:lnTo>
                <a:lnTo>
                  <a:pt x="17999076" y="6908800"/>
                </a:lnTo>
                <a:lnTo>
                  <a:pt x="17989552" y="6867524"/>
                </a:lnTo>
                <a:lnTo>
                  <a:pt x="17983204" y="6826252"/>
                </a:lnTo>
                <a:lnTo>
                  <a:pt x="17980028" y="6784976"/>
                </a:lnTo>
                <a:lnTo>
                  <a:pt x="17980028" y="6746876"/>
                </a:lnTo>
                <a:lnTo>
                  <a:pt x="17980028" y="6708776"/>
                </a:lnTo>
                <a:lnTo>
                  <a:pt x="17983204" y="6670676"/>
                </a:lnTo>
                <a:lnTo>
                  <a:pt x="17989552" y="6632576"/>
                </a:lnTo>
                <a:lnTo>
                  <a:pt x="17995904" y="6597652"/>
                </a:lnTo>
                <a:lnTo>
                  <a:pt x="18005428" y="6565900"/>
                </a:lnTo>
                <a:lnTo>
                  <a:pt x="18027652" y="6502400"/>
                </a:lnTo>
                <a:lnTo>
                  <a:pt x="18056228" y="6445252"/>
                </a:lnTo>
                <a:lnTo>
                  <a:pt x="18084804" y="6391276"/>
                </a:lnTo>
                <a:lnTo>
                  <a:pt x="18113376" y="6346824"/>
                </a:lnTo>
                <a:lnTo>
                  <a:pt x="18138776" y="6308724"/>
                </a:lnTo>
                <a:lnTo>
                  <a:pt x="18183228" y="6257924"/>
                </a:lnTo>
                <a:lnTo>
                  <a:pt x="18202276" y="6238876"/>
                </a:lnTo>
                <a:lnTo>
                  <a:pt x="18256252" y="6188076"/>
                </a:lnTo>
                <a:lnTo>
                  <a:pt x="18310228" y="6146800"/>
                </a:lnTo>
                <a:lnTo>
                  <a:pt x="18361028" y="6111876"/>
                </a:lnTo>
                <a:lnTo>
                  <a:pt x="18411828" y="6083300"/>
                </a:lnTo>
                <a:lnTo>
                  <a:pt x="18462628" y="6057900"/>
                </a:lnTo>
                <a:lnTo>
                  <a:pt x="18510252" y="6042024"/>
                </a:lnTo>
                <a:lnTo>
                  <a:pt x="18554704" y="6029324"/>
                </a:lnTo>
                <a:lnTo>
                  <a:pt x="18595976" y="6019800"/>
                </a:lnTo>
                <a:lnTo>
                  <a:pt x="18634076" y="6016624"/>
                </a:lnTo>
                <a:lnTo>
                  <a:pt x="18665828" y="6013452"/>
                </a:lnTo>
                <a:lnTo>
                  <a:pt x="18722976" y="6016624"/>
                </a:lnTo>
                <a:lnTo>
                  <a:pt x="18757904" y="6019800"/>
                </a:lnTo>
                <a:lnTo>
                  <a:pt x="18770604" y="6022976"/>
                </a:lnTo>
                <a:lnTo>
                  <a:pt x="18776952" y="6073776"/>
                </a:lnTo>
                <a:lnTo>
                  <a:pt x="18789652" y="6121400"/>
                </a:lnTo>
                <a:lnTo>
                  <a:pt x="18805528" y="6162676"/>
                </a:lnTo>
                <a:lnTo>
                  <a:pt x="18824576" y="6200776"/>
                </a:lnTo>
                <a:lnTo>
                  <a:pt x="18846804" y="6232524"/>
                </a:lnTo>
                <a:lnTo>
                  <a:pt x="18872204" y="6257924"/>
                </a:lnTo>
                <a:lnTo>
                  <a:pt x="18894428" y="6283324"/>
                </a:lnTo>
                <a:lnTo>
                  <a:pt x="18919828" y="6302376"/>
                </a:lnTo>
                <a:lnTo>
                  <a:pt x="18945228" y="6318252"/>
                </a:lnTo>
                <a:lnTo>
                  <a:pt x="18967452" y="6330952"/>
                </a:lnTo>
                <a:lnTo>
                  <a:pt x="19011904" y="6350000"/>
                </a:lnTo>
                <a:lnTo>
                  <a:pt x="19040476" y="6359524"/>
                </a:lnTo>
                <a:lnTo>
                  <a:pt x="19050004" y="6359524"/>
                </a:lnTo>
                <a:lnTo>
                  <a:pt x="19164304" y="6270624"/>
                </a:lnTo>
                <a:lnTo>
                  <a:pt x="19272252" y="6188076"/>
                </a:lnTo>
                <a:lnTo>
                  <a:pt x="19367504" y="6121400"/>
                </a:lnTo>
                <a:lnTo>
                  <a:pt x="19456404" y="6064252"/>
                </a:lnTo>
                <a:lnTo>
                  <a:pt x="19535776" y="6016624"/>
                </a:lnTo>
                <a:lnTo>
                  <a:pt x="19608804" y="5975352"/>
                </a:lnTo>
                <a:lnTo>
                  <a:pt x="19672304" y="5943600"/>
                </a:lnTo>
                <a:lnTo>
                  <a:pt x="19729452" y="5918200"/>
                </a:lnTo>
                <a:lnTo>
                  <a:pt x="19777076" y="5899152"/>
                </a:lnTo>
                <a:lnTo>
                  <a:pt x="19818352" y="5886452"/>
                </a:lnTo>
                <a:lnTo>
                  <a:pt x="19850104" y="5876924"/>
                </a:lnTo>
                <a:lnTo>
                  <a:pt x="19878676" y="5873752"/>
                </a:lnTo>
                <a:lnTo>
                  <a:pt x="19913604" y="5867400"/>
                </a:lnTo>
                <a:lnTo>
                  <a:pt x="19926304" y="5870576"/>
                </a:lnTo>
                <a:lnTo>
                  <a:pt x="19837404" y="5921376"/>
                </a:lnTo>
                <a:lnTo>
                  <a:pt x="19754852" y="5972176"/>
                </a:lnTo>
                <a:lnTo>
                  <a:pt x="19678652" y="6022976"/>
                </a:lnTo>
                <a:lnTo>
                  <a:pt x="19611976" y="6073776"/>
                </a:lnTo>
                <a:lnTo>
                  <a:pt x="19551652" y="6121400"/>
                </a:lnTo>
                <a:lnTo>
                  <a:pt x="19497676" y="6169024"/>
                </a:lnTo>
                <a:lnTo>
                  <a:pt x="19446876" y="6210300"/>
                </a:lnTo>
                <a:lnTo>
                  <a:pt x="19405604" y="6251576"/>
                </a:lnTo>
                <a:lnTo>
                  <a:pt x="19338928" y="6321424"/>
                </a:lnTo>
                <a:lnTo>
                  <a:pt x="19291304" y="6375400"/>
                </a:lnTo>
                <a:lnTo>
                  <a:pt x="19265904" y="6410324"/>
                </a:lnTo>
                <a:lnTo>
                  <a:pt x="19256376" y="6423024"/>
                </a:lnTo>
                <a:lnTo>
                  <a:pt x="19275428" y="6438900"/>
                </a:lnTo>
                <a:lnTo>
                  <a:pt x="19300828" y="6451600"/>
                </a:lnTo>
                <a:lnTo>
                  <a:pt x="19329404" y="6464300"/>
                </a:lnTo>
                <a:lnTo>
                  <a:pt x="19364328" y="6473824"/>
                </a:lnTo>
                <a:lnTo>
                  <a:pt x="19440528" y="6489700"/>
                </a:lnTo>
                <a:lnTo>
                  <a:pt x="19532604" y="6505576"/>
                </a:lnTo>
                <a:lnTo>
                  <a:pt x="19634204" y="6515100"/>
                </a:lnTo>
                <a:lnTo>
                  <a:pt x="19742152" y="6521452"/>
                </a:lnTo>
                <a:lnTo>
                  <a:pt x="19853276" y="6527800"/>
                </a:lnTo>
                <a:lnTo>
                  <a:pt x="19967576" y="6527800"/>
                </a:lnTo>
                <a:lnTo>
                  <a:pt x="20183476" y="6527800"/>
                </a:lnTo>
                <a:lnTo>
                  <a:pt x="20367628" y="6521452"/>
                </a:lnTo>
                <a:lnTo>
                  <a:pt x="20542252" y="6515100"/>
                </a:lnTo>
                <a:lnTo>
                  <a:pt x="20602576" y="6508752"/>
                </a:lnTo>
                <a:lnTo>
                  <a:pt x="20662904" y="6499224"/>
                </a:lnTo>
                <a:lnTo>
                  <a:pt x="20726404" y="6489700"/>
                </a:lnTo>
                <a:lnTo>
                  <a:pt x="20793074" y="6473824"/>
                </a:lnTo>
                <a:lnTo>
                  <a:pt x="20929602" y="6438900"/>
                </a:lnTo>
                <a:lnTo>
                  <a:pt x="21069302" y="6397624"/>
                </a:lnTo>
                <a:lnTo>
                  <a:pt x="21212174" y="6346824"/>
                </a:lnTo>
                <a:lnTo>
                  <a:pt x="21355050" y="6292852"/>
                </a:lnTo>
                <a:lnTo>
                  <a:pt x="21497926" y="6235700"/>
                </a:lnTo>
                <a:lnTo>
                  <a:pt x="21634450" y="6175376"/>
                </a:lnTo>
                <a:lnTo>
                  <a:pt x="21761450" y="6118224"/>
                </a:lnTo>
                <a:lnTo>
                  <a:pt x="21882102" y="6064252"/>
                </a:lnTo>
                <a:lnTo>
                  <a:pt x="22082126" y="5965824"/>
                </a:lnTo>
                <a:lnTo>
                  <a:pt x="22218650" y="5895976"/>
                </a:lnTo>
                <a:lnTo>
                  <a:pt x="22266274" y="5870576"/>
                </a:lnTo>
                <a:lnTo>
                  <a:pt x="22174202" y="5934076"/>
                </a:lnTo>
                <a:lnTo>
                  <a:pt x="22072602" y="5997576"/>
                </a:lnTo>
                <a:lnTo>
                  <a:pt x="21971002" y="6057900"/>
                </a:lnTo>
                <a:lnTo>
                  <a:pt x="21863050" y="6111876"/>
                </a:lnTo>
                <a:lnTo>
                  <a:pt x="21755102" y="6165852"/>
                </a:lnTo>
                <a:lnTo>
                  <a:pt x="21650326" y="6213476"/>
                </a:lnTo>
                <a:lnTo>
                  <a:pt x="21545550" y="6257924"/>
                </a:lnTo>
                <a:lnTo>
                  <a:pt x="21443950" y="6299200"/>
                </a:lnTo>
                <a:lnTo>
                  <a:pt x="21262974" y="6369052"/>
                </a:lnTo>
                <a:lnTo>
                  <a:pt x="21116926" y="6423024"/>
                </a:lnTo>
                <a:lnTo>
                  <a:pt x="20986750" y="6464300"/>
                </a:lnTo>
                <a:lnTo>
                  <a:pt x="21047074" y="6457952"/>
                </a:lnTo>
                <a:lnTo>
                  <a:pt x="21113750" y="6451600"/>
                </a:lnTo>
                <a:lnTo>
                  <a:pt x="21177250" y="6442076"/>
                </a:lnTo>
                <a:lnTo>
                  <a:pt x="21240750" y="6429376"/>
                </a:lnTo>
                <a:lnTo>
                  <a:pt x="21374102" y="6397624"/>
                </a:lnTo>
                <a:lnTo>
                  <a:pt x="21504274" y="6359524"/>
                </a:lnTo>
                <a:lnTo>
                  <a:pt x="21634450" y="6315076"/>
                </a:lnTo>
                <a:lnTo>
                  <a:pt x="21761450" y="6267452"/>
                </a:lnTo>
                <a:lnTo>
                  <a:pt x="21885274" y="6219824"/>
                </a:lnTo>
                <a:lnTo>
                  <a:pt x="22002750" y="6169024"/>
                </a:lnTo>
                <a:lnTo>
                  <a:pt x="22110702" y="6118224"/>
                </a:lnTo>
                <a:lnTo>
                  <a:pt x="22209126" y="6067424"/>
                </a:lnTo>
                <a:lnTo>
                  <a:pt x="22374226" y="5981700"/>
                </a:lnTo>
                <a:lnTo>
                  <a:pt x="22482174" y="5924552"/>
                </a:lnTo>
                <a:lnTo>
                  <a:pt x="22520274" y="5902324"/>
                </a:lnTo>
                <a:lnTo>
                  <a:pt x="22504402" y="5927724"/>
                </a:lnTo>
                <a:lnTo>
                  <a:pt x="22485350" y="5956300"/>
                </a:lnTo>
                <a:lnTo>
                  <a:pt x="22463126" y="5984876"/>
                </a:lnTo>
                <a:lnTo>
                  <a:pt x="22434550" y="6013452"/>
                </a:lnTo>
                <a:lnTo>
                  <a:pt x="22405974" y="6042024"/>
                </a:lnTo>
                <a:lnTo>
                  <a:pt x="22371050" y="6070600"/>
                </a:lnTo>
                <a:lnTo>
                  <a:pt x="22307550" y="6118224"/>
                </a:lnTo>
                <a:lnTo>
                  <a:pt x="22240874" y="6162676"/>
                </a:lnTo>
                <a:lnTo>
                  <a:pt x="22186902" y="6194424"/>
                </a:lnTo>
                <a:lnTo>
                  <a:pt x="22136102" y="6226176"/>
                </a:lnTo>
                <a:lnTo>
                  <a:pt x="22167850" y="6223000"/>
                </a:lnTo>
                <a:lnTo>
                  <a:pt x="22199602" y="6216652"/>
                </a:lnTo>
                <a:lnTo>
                  <a:pt x="22272626" y="6194424"/>
                </a:lnTo>
                <a:lnTo>
                  <a:pt x="22355174" y="6165852"/>
                </a:lnTo>
                <a:lnTo>
                  <a:pt x="22444074" y="6130924"/>
                </a:lnTo>
                <a:lnTo>
                  <a:pt x="22536150" y="6089652"/>
                </a:lnTo>
                <a:lnTo>
                  <a:pt x="22628226" y="6045200"/>
                </a:lnTo>
                <a:lnTo>
                  <a:pt x="22818726" y="5949952"/>
                </a:lnTo>
                <a:lnTo>
                  <a:pt x="22990174" y="5854700"/>
                </a:lnTo>
                <a:lnTo>
                  <a:pt x="23136226" y="5772152"/>
                </a:lnTo>
                <a:lnTo>
                  <a:pt x="23269574" y="5692776"/>
                </a:lnTo>
                <a:close/>
                <a:moveTo>
                  <a:pt x="7197727" y="5232400"/>
                </a:moveTo>
                <a:lnTo>
                  <a:pt x="7235827" y="5235576"/>
                </a:lnTo>
                <a:lnTo>
                  <a:pt x="7273927" y="5238752"/>
                </a:lnTo>
                <a:lnTo>
                  <a:pt x="7312027" y="5241924"/>
                </a:lnTo>
                <a:lnTo>
                  <a:pt x="7346952" y="5251452"/>
                </a:lnTo>
                <a:lnTo>
                  <a:pt x="7381877" y="5260976"/>
                </a:lnTo>
                <a:lnTo>
                  <a:pt x="7416803" y="5273676"/>
                </a:lnTo>
                <a:lnTo>
                  <a:pt x="7448552" y="5289552"/>
                </a:lnTo>
                <a:lnTo>
                  <a:pt x="7480302" y="5305424"/>
                </a:lnTo>
                <a:lnTo>
                  <a:pt x="7512053" y="5327652"/>
                </a:lnTo>
                <a:lnTo>
                  <a:pt x="7540627" y="5349876"/>
                </a:lnTo>
                <a:lnTo>
                  <a:pt x="7569202" y="5378452"/>
                </a:lnTo>
                <a:lnTo>
                  <a:pt x="7597777" y="5407024"/>
                </a:lnTo>
                <a:lnTo>
                  <a:pt x="7620002" y="5435600"/>
                </a:lnTo>
                <a:lnTo>
                  <a:pt x="7635877" y="5461000"/>
                </a:lnTo>
                <a:lnTo>
                  <a:pt x="7651752" y="5489576"/>
                </a:lnTo>
                <a:lnTo>
                  <a:pt x="7664452" y="5518152"/>
                </a:lnTo>
                <a:lnTo>
                  <a:pt x="7673977" y="5546724"/>
                </a:lnTo>
                <a:lnTo>
                  <a:pt x="7683502" y="5572124"/>
                </a:lnTo>
                <a:lnTo>
                  <a:pt x="7693027" y="5629276"/>
                </a:lnTo>
                <a:lnTo>
                  <a:pt x="7689852" y="5683252"/>
                </a:lnTo>
                <a:lnTo>
                  <a:pt x="7683502" y="5737224"/>
                </a:lnTo>
                <a:lnTo>
                  <a:pt x="7673977" y="5788024"/>
                </a:lnTo>
                <a:lnTo>
                  <a:pt x="7664452" y="5842000"/>
                </a:lnTo>
                <a:lnTo>
                  <a:pt x="7648577" y="5889624"/>
                </a:lnTo>
                <a:lnTo>
                  <a:pt x="7632702" y="5940424"/>
                </a:lnTo>
                <a:lnTo>
                  <a:pt x="7616827" y="5988052"/>
                </a:lnTo>
                <a:lnTo>
                  <a:pt x="7594602" y="6035676"/>
                </a:lnTo>
                <a:lnTo>
                  <a:pt x="7572377" y="6080124"/>
                </a:lnTo>
                <a:lnTo>
                  <a:pt x="7550152" y="6127752"/>
                </a:lnTo>
                <a:lnTo>
                  <a:pt x="7524752" y="6169024"/>
                </a:lnTo>
                <a:lnTo>
                  <a:pt x="7496177" y="6213476"/>
                </a:lnTo>
                <a:lnTo>
                  <a:pt x="7435852" y="6299200"/>
                </a:lnTo>
                <a:lnTo>
                  <a:pt x="7369177" y="6378576"/>
                </a:lnTo>
                <a:lnTo>
                  <a:pt x="7299327" y="6457952"/>
                </a:lnTo>
                <a:lnTo>
                  <a:pt x="7226302" y="6530976"/>
                </a:lnTo>
                <a:lnTo>
                  <a:pt x="7150103" y="6604000"/>
                </a:lnTo>
                <a:lnTo>
                  <a:pt x="7070727" y="6677024"/>
                </a:lnTo>
                <a:lnTo>
                  <a:pt x="6908802" y="6810376"/>
                </a:lnTo>
                <a:lnTo>
                  <a:pt x="6746877" y="6943724"/>
                </a:lnTo>
                <a:lnTo>
                  <a:pt x="6518278" y="7115176"/>
                </a:lnTo>
                <a:lnTo>
                  <a:pt x="6410327" y="7204076"/>
                </a:lnTo>
                <a:lnTo>
                  <a:pt x="6305552" y="7289800"/>
                </a:lnTo>
                <a:lnTo>
                  <a:pt x="6162677" y="7385052"/>
                </a:lnTo>
                <a:lnTo>
                  <a:pt x="6019802" y="7470776"/>
                </a:lnTo>
                <a:lnTo>
                  <a:pt x="5870577" y="7556500"/>
                </a:lnTo>
                <a:lnTo>
                  <a:pt x="5718177" y="7635876"/>
                </a:lnTo>
                <a:lnTo>
                  <a:pt x="5565778" y="7712076"/>
                </a:lnTo>
                <a:lnTo>
                  <a:pt x="5410204" y="7781924"/>
                </a:lnTo>
                <a:lnTo>
                  <a:pt x="5308603" y="7820024"/>
                </a:lnTo>
                <a:lnTo>
                  <a:pt x="5235579" y="7848600"/>
                </a:lnTo>
                <a:lnTo>
                  <a:pt x="5175253" y="7870824"/>
                </a:lnTo>
                <a:lnTo>
                  <a:pt x="5273678" y="7820024"/>
                </a:lnTo>
                <a:lnTo>
                  <a:pt x="5368928" y="7762876"/>
                </a:lnTo>
                <a:lnTo>
                  <a:pt x="5454653" y="7708900"/>
                </a:lnTo>
                <a:lnTo>
                  <a:pt x="5543553" y="7651752"/>
                </a:lnTo>
                <a:lnTo>
                  <a:pt x="5626102" y="7594600"/>
                </a:lnTo>
                <a:lnTo>
                  <a:pt x="5711827" y="7531100"/>
                </a:lnTo>
                <a:lnTo>
                  <a:pt x="5791202" y="7464424"/>
                </a:lnTo>
                <a:lnTo>
                  <a:pt x="5873752" y="7397752"/>
                </a:lnTo>
                <a:lnTo>
                  <a:pt x="5949953" y="7327900"/>
                </a:lnTo>
                <a:lnTo>
                  <a:pt x="6026152" y="7258052"/>
                </a:lnTo>
                <a:lnTo>
                  <a:pt x="6102352" y="7181852"/>
                </a:lnTo>
                <a:lnTo>
                  <a:pt x="6175377" y="7108824"/>
                </a:lnTo>
                <a:lnTo>
                  <a:pt x="6245227" y="7029452"/>
                </a:lnTo>
                <a:lnTo>
                  <a:pt x="6311902" y="6953252"/>
                </a:lnTo>
                <a:lnTo>
                  <a:pt x="6378577" y="6870700"/>
                </a:lnTo>
                <a:lnTo>
                  <a:pt x="6445252" y="6791324"/>
                </a:lnTo>
                <a:lnTo>
                  <a:pt x="6505577" y="6705600"/>
                </a:lnTo>
                <a:lnTo>
                  <a:pt x="6565903" y="6623052"/>
                </a:lnTo>
                <a:lnTo>
                  <a:pt x="6648452" y="6511924"/>
                </a:lnTo>
                <a:lnTo>
                  <a:pt x="6683377" y="6461124"/>
                </a:lnTo>
                <a:lnTo>
                  <a:pt x="6715127" y="6410324"/>
                </a:lnTo>
                <a:lnTo>
                  <a:pt x="6756402" y="6343652"/>
                </a:lnTo>
                <a:lnTo>
                  <a:pt x="6788152" y="6280152"/>
                </a:lnTo>
                <a:lnTo>
                  <a:pt x="6816727" y="6216652"/>
                </a:lnTo>
                <a:lnTo>
                  <a:pt x="6838952" y="6159500"/>
                </a:lnTo>
                <a:lnTo>
                  <a:pt x="6854827" y="6105524"/>
                </a:lnTo>
                <a:lnTo>
                  <a:pt x="6867527" y="6051552"/>
                </a:lnTo>
                <a:lnTo>
                  <a:pt x="6877053" y="6000752"/>
                </a:lnTo>
                <a:lnTo>
                  <a:pt x="6880227" y="5956300"/>
                </a:lnTo>
                <a:lnTo>
                  <a:pt x="6883402" y="5908676"/>
                </a:lnTo>
                <a:lnTo>
                  <a:pt x="6880227" y="5867400"/>
                </a:lnTo>
                <a:lnTo>
                  <a:pt x="6873877" y="5829300"/>
                </a:lnTo>
                <a:lnTo>
                  <a:pt x="6867527" y="5791200"/>
                </a:lnTo>
                <a:lnTo>
                  <a:pt x="6854827" y="5756276"/>
                </a:lnTo>
                <a:lnTo>
                  <a:pt x="6842127" y="5724524"/>
                </a:lnTo>
                <a:lnTo>
                  <a:pt x="6826252" y="5692776"/>
                </a:lnTo>
                <a:lnTo>
                  <a:pt x="6810378" y="5667376"/>
                </a:lnTo>
                <a:lnTo>
                  <a:pt x="6794502" y="5638800"/>
                </a:lnTo>
                <a:lnTo>
                  <a:pt x="6775452" y="5616576"/>
                </a:lnTo>
                <a:lnTo>
                  <a:pt x="6734177" y="5575300"/>
                </a:lnTo>
                <a:lnTo>
                  <a:pt x="6696077" y="5540376"/>
                </a:lnTo>
                <a:lnTo>
                  <a:pt x="6657977" y="5514976"/>
                </a:lnTo>
                <a:lnTo>
                  <a:pt x="6623052" y="5495924"/>
                </a:lnTo>
                <a:lnTo>
                  <a:pt x="6597652" y="5480052"/>
                </a:lnTo>
                <a:lnTo>
                  <a:pt x="6572252" y="5470524"/>
                </a:lnTo>
                <a:lnTo>
                  <a:pt x="6594477" y="5445124"/>
                </a:lnTo>
                <a:lnTo>
                  <a:pt x="6619877" y="5422900"/>
                </a:lnTo>
                <a:lnTo>
                  <a:pt x="6645277" y="5400676"/>
                </a:lnTo>
                <a:lnTo>
                  <a:pt x="6673852" y="5381624"/>
                </a:lnTo>
                <a:lnTo>
                  <a:pt x="6731002" y="5346700"/>
                </a:lnTo>
                <a:lnTo>
                  <a:pt x="6791328" y="5318124"/>
                </a:lnTo>
                <a:lnTo>
                  <a:pt x="6851652" y="5292724"/>
                </a:lnTo>
                <a:lnTo>
                  <a:pt x="6911977" y="5273676"/>
                </a:lnTo>
                <a:lnTo>
                  <a:pt x="6972302" y="5257800"/>
                </a:lnTo>
                <a:lnTo>
                  <a:pt x="7032627" y="5248276"/>
                </a:lnTo>
                <a:lnTo>
                  <a:pt x="7115177" y="5235576"/>
                </a:lnTo>
                <a:lnTo>
                  <a:pt x="7197727" y="5232400"/>
                </a:lnTo>
                <a:close/>
                <a:moveTo>
                  <a:pt x="4940302" y="5194300"/>
                </a:moveTo>
                <a:lnTo>
                  <a:pt x="5003804" y="5194300"/>
                </a:lnTo>
                <a:lnTo>
                  <a:pt x="5064128" y="5197476"/>
                </a:lnTo>
                <a:lnTo>
                  <a:pt x="5127628" y="5203824"/>
                </a:lnTo>
                <a:lnTo>
                  <a:pt x="5191127" y="5213352"/>
                </a:lnTo>
                <a:lnTo>
                  <a:pt x="5254629" y="5226052"/>
                </a:lnTo>
                <a:lnTo>
                  <a:pt x="5314952" y="5245100"/>
                </a:lnTo>
                <a:lnTo>
                  <a:pt x="5375278" y="5267324"/>
                </a:lnTo>
                <a:lnTo>
                  <a:pt x="5438779" y="5295900"/>
                </a:lnTo>
                <a:lnTo>
                  <a:pt x="5499102" y="5327652"/>
                </a:lnTo>
                <a:lnTo>
                  <a:pt x="5556253" y="5368924"/>
                </a:lnTo>
                <a:lnTo>
                  <a:pt x="5597527" y="5397500"/>
                </a:lnTo>
                <a:lnTo>
                  <a:pt x="5632452" y="5432424"/>
                </a:lnTo>
                <a:lnTo>
                  <a:pt x="5661027" y="5467352"/>
                </a:lnTo>
                <a:lnTo>
                  <a:pt x="5689602" y="5502276"/>
                </a:lnTo>
                <a:lnTo>
                  <a:pt x="5711827" y="5540376"/>
                </a:lnTo>
                <a:lnTo>
                  <a:pt x="5730877" y="5581652"/>
                </a:lnTo>
                <a:lnTo>
                  <a:pt x="5743577" y="5622924"/>
                </a:lnTo>
                <a:lnTo>
                  <a:pt x="5756277" y="5664200"/>
                </a:lnTo>
                <a:lnTo>
                  <a:pt x="5762627" y="5708652"/>
                </a:lnTo>
                <a:lnTo>
                  <a:pt x="5765802" y="5753100"/>
                </a:lnTo>
                <a:lnTo>
                  <a:pt x="5768977" y="5800724"/>
                </a:lnTo>
                <a:lnTo>
                  <a:pt x="5765802" y="5848352"/>
                </a:lnTo>
                <a:lnTo>
                  <a:pt x="5759452" y="5895976"/>
                </a:lnTo>
                <a:lnTo>
                  <a:pt x="5749928" y="5943600"/>
                </a:lnTo>
                <a:lnTo>
                  <a:pt x="5737227" y="5991224"/>
                </a:lnTo>
                <a:lnTo>
                  <a:pt x="5724528" y="6042024"/>
                </a:lnTo>
                <a:lnTo>
                  <a:pt x="5702302" y="6118224"/>
                </a:lnTo>
                <a:lnTo>
                  <a:pt x="5676902" y="6194424"/>
                </a:lnTo>
                <a:lnTo>
                  <a:pt x="5648329" y="6267452"/>
                </a:lnTo>
                <a:lnTo>
                  <a:pt x="5616577" y="6337300"/>
                </a:lnTo>
                <a:lnTo>
                  <a:pt x="5581652" y="6403976"/>
                </a:lnTo>
                <a:lnTo>
                  <a:pt x="5543553" y="6470652"/>
                </a:lnTo>
                <a:lnTo>
                  <a:pt x="5502278" y="6530976"/>
                </a:lnTo>
                <a:lnTo>
                  <a:pt x="5461003" y="6591300"/>
                </a:lnTo>
                <a:lnTo>
                  <a:pt x="5419729" y="6648452"/>
                </a:lnTo>
                <a:lnTo>
                  <a:pt x="5375278" y="6702424"/>
                </a:lnTo>
                <a:lnTo>
                  <a:pt x="5330828" y="6750052"/>
                </a:lnTo>
                <a:lnTo>
                  <a:pt x="5286378" y="6797676"/>
                </a:lnTo>
                <a:lnTo>
                  <a:pt x="5203828" y="6883400"/>
                </a:lnTo>
                <a:lnTo>
                  <a:pt x="5127628" y="6953252"/>
                </a:lnTo>
                <a:lnTo>
                  <a:pt x="5060954" y="7010400"/>
                </a:lnTo>
                <a:lnTo>
                  <a:pt x="5006977" y="7048500"/>
                </a:lnTo>
                <a:lnTo>
                  <a:pt x="4959353" y="7083424"/>
                </a:lnTo>
                <a:lnTo>
                  <a:pt x="4927604" y="7108824"/>
                </a:lnTo>
                <a:lnTo>
                  <a:pt x="4892678" y="7131052"/>
                </a:lnTo>
                <a:lnTo>
                  <a:pt x="4860928" y="7153276"/>
                </a:lnTo>
                <a:lnTo>
                  <a:pt x="4826003" y="7172324"/>
                </a:lnTo>
                <a:lnTo>
                  <a:pt x="4752979" y="7207252"/>
                </a:lnTo>
                <a:lnTo>
                  <a:pt x="4683128" y="7232652"/>
                </a:lnTo>
                <a:lnTo>
                  <a:pt x="4610103" y="7254876"/>
                </a:lnTo>
                <a:lnTo>
                  <a:pt x="4540254" y="7267576"/>
                </a:lnTo>
                <a:lnTo>
                  <a:pt x="4473577" y="7277100"/>
                </a:lnTo>
                <a:lnTo>
                  <a:pt x="4410078" y="7283452"/>
                </a:lnTo>
                <a:lnTo>
                  <a:pt x="4346578" y="7286624"/>
                </a:lnTo>
                <a:lnTo>
                  <a:pt x="4292603" y="7286624"/>
                </a:lnTo>
                <a:lnTo>
                  <a:pt x="4200529" y="7280276"/>
                </a:lnTo>
                <a:lnTo>
                  <a:pt x="4140203" y="7270752"/>
                </a:lnTo>
                <a:lnTo>
                  <a:pt x="4117978" y="7267576"/>
                </a:lnTo>
                <a:lnTo>
                  <a:pt x="4076703" y="7248524"/>
                </a:lnTo>
                <a:lnTo>
                  <a:pt x="4044953" y="7229476"/>
                </a:lnTo>
                <a:lnTo>
                  <a:pt x="4016379" y="7204076"/>
                </a:lnTo>
                <a:lnTo>
                  <a:pt x="3997329" y="7178676"/>
                </a:lnTo>
                <a:lnTo>
                  <a:pt x="3981452" y="7150100"/>
                </a:lnTo>
                <a:lnTo>
                  <a:pt x="3971927" y="7124700"/>
                </a:lnTo>
                <a:lnTo>
                  <a:pt x="3965578" y="7096124"/>
                </a:lnTo>
                <a:lnTo>
                  <a:pt x="3962403" y="7067552"/>
                </a:lnTo>
                <a:lnTo>
                  <a:pt x="3962403" y="7038976"/>
                </a:lnTo>
                <a:lnTo>
                  <a:pt x="3965578" y="7013576"/>
                </a:lnTo>
                <a:lnTo>
                  <a:pt x="3975103" y="6969124"/>
                </a:lnTo>
                <a:lnTo>
                  <a:pt x="3981452" y="6940552"/>
                </a:lnTo>
                <a:lnTo>
                  <a:pt x="3987803" y="6931024"/>
                </a:lnTo>
                <a:lnTo>
                  <a:pt x="4006854" y="6981824"/>
                </a:lnTo>
                <a:lnTo>
                  <a:pt x="4029078" y="7026276"/>
                </a:lnTo>
                <a:lnTo>
                  <a:pt x="4057653" y="7061200"/>
                </a:lnTo>
                <a:lnTo>
                  <a:pt x="4086229" y="7089776"/>
                </a:lnTo>
                <a:lnTo>
                  <a:pt x="4117978" y="7115176"/>
                </a:lnTo>
                <a:lnTo>
                  <a:pt x="4152904" y="7131052"/>
                </a:lnTo>
                <a:lnTo>
                  <a:pt x="4184653" y="7143752"/>
                </a:lnTo>
                <a:lnTo>
                  <a:pt x="4219579" y="7153276"/>
                </a:lnTo>
                <a:lnTo>
                  <a:pt x="4251328" y="7159624"/>
                </a:lnTo>
                <a:lnTo>
                  <a:pt x="4279903" y="7162800"/>
                </a:lnTo>
                <a:lnTo>
                  <a:pt x="4330702" y="7162800"/>
                </a:lnTo>
                <a:lnTo>
                  <a:pt x="4365629" y="7156452"/>
                </a:lnTo>
                <a:lnTo>
                  <a:pt x="4378328" y="7156452"/>
                </a:lnTo>
                <a:lnTo>
                  <a:pt x="4413253" y="7159624"/>
                </a:lnTo>
                <a:lnTo>
                  <a:pt x="4448177" y="7159624"/>
                </a:lnTo>
                <a:lnTo>
                  <a:pt x="4483103" y="7156452"/>
                </a:lnTo>
                <a:lnTo>
                  <a:pt x="4518028" y="7153276"/>
                </a:lnTo>
                <a:lnTo>
                  <a:pt x="4584703" y="7140576"/>
                </a:lnTo>
                <a:lnTo>
                  <a:pt x="4648202" y="7124700"/>
                </a:lnTo>
                <a:lnTo>
                  <a:pt x="4711703" y="7099300"/>
                </a:lnTo>
                <a:lnTo>
                  <a:pt x="4772028" y="7070724"/>
                </a:lnTo>
                <a:lnTo>
                  <a:pt x="4829179" y="7042152"/>
                </a:lnTo>
                <a:lnTo>
                  <a:pt x="4879978" y="7010400"/>
                </a:lnTo>
                <a:lnTo>
                  <a:pt x="4927604" y="6975476"/>
                </a:lnTo>
                <a:lnTo>
                  <a:pt x="4972053" y="6943724"/>
                </a:lnTo>
                <a:lnTo>
                  <a:pt x="5041904" y="6886576"/>
                </a:lnTo>
                <a:lnTo>
                  <a:pt x="5086353" y="6845300"/>
                </a:lnTo>
                <a:lnTo>
                  <a:pt x="5099052" y="6829424"/>
                </a:lnTo>
                <a:lnTo>
                  <a:pt x="5048252" y="6867524"/>
                </a:lnTo>
                <a:lnTo>
                  <a:pt x="5000628" y="6902452"/>
                </a:lnTo>
                <a:lnTo>
                  <a:pt x="4949828" y="6934200"/>
                </a:lnTo>
                <a:lnTo>
                  <a:pt x="4902203" y="6959600"/>
                </a:lnTo>
                <a:lnTo>
                  <a:pt x="4854578" y="6985000"/>
                </a:lnTo>
                <a:lnTo>
                  <a:pt x="4810129" y="7007224"/>
                </a:lnTo>
                <a:lnTo>
                  <a:pt x="4765677" y="7023100"/>
                </a:lnTo>
                <a:lnTo>
                  <a:pt x="4721228" y="7038976"/>
                </a:lnTo>
                <a:lnTo>
                  <a:pt x="4679953" y="7051676"/>
                </a:lnTo>
                <a:lnTo>
                  <a:pt x="4638678" y="7061200"/>
                </a:lnTo>
                <a:lnTo>
                  <a:pt x="4562478" y="7077076"/>
                </a:lnTo>
                <a:lnTo>
                  <a:pt x="4492628" y="7080252"/>
                </a:lnTo>
                <a:lnTo>
                  <a:pt x="4425953" y="7080252"/>
                </a:lnTo>
                <a:lnTo>
                  <a:pt x="4368803" y="7077076"/>
                </a:lnTo>
                <a:lnTo>
                  <a:pt x="4318004" y="7067552"/>
                </a:lnTo>
                <a:lnTo>
                  <a:pt x="4273552" y="7054852"/>
                </a:lnTo>
                <a:lnTo>
                  <a:pt x="4235453" y="7042152"/>
                </a:lnTo>
                <a:lnTo>
                  <a:pt x="4206878" y="7029452"/>
                </a:lnTo>
                <a:lnTo>
                  <a:pt x="4184653" y="7019924"/>
                </a:lnTo>
                <a:lnTo>
                  <a:pt x="4165603" y="7010400"/>
                </a:lnTo>
                <a:lnTo>
                  <a:pt x="4140203" y="6988176"/>
                </a:lnTo>
                <a:lnTo>
                  <a:pt x="4114804" y="6965952"/>
                </a:lnTo>
                <a:lnTo>
                  <a:pt x="4095753" y="6943724"/>
                </a:lnTo>
                <a:lnTo>
                  <a:pt x="4079877" y="6921500"/>
                </a:lnTo>
                <a:lnTo>
                  <a:pt x="4067178" y="6896100"/>
                </a:lnTo>
                <a:lnTo>
                  <a:pt x="4054478" y="6873876"/>
                </a:lnTo>
                <a:lnTo>
                  <a:pt x="4048127" y="6848476"/>
                </a:lnTo>
                <a:lnTo>
                  <a:pt x="4041778" y="6826252"/>
                </a:lnTo>
                <a:lnTo>
                  <a:pt x="4038602" y="6800852"/>
                </a:lnTo>
                <a:lnTo>
                  <a:pt x="4038602" y="6775452"/>
                </a:lnTo>
                <a:lnTo>
                  <a:pt x="4041778" y="6753224"/>
                </a:lnTo>
                <a:lnTo>
                  <a:pt x="4044953" y="6731000"/>
                </a:lnTo>
                <a:lnTo>
                  <a:pt x="4054478" y="6683376"/>
                </a:lnTo>
                <a:lnTo>
                  <a:pt x="4073528" y="6638924"/>
                </a:lnTo>
                <a:lnTo>
                  <a:pt x="4092578" y="6600824"/>
                </a:lnTo>
                <a:lnTo>
                  <a:pt x="4114804" y="6562724"/>
                </a:lnTo>
                <a:lnTo>
                  <a:pt x="4140203" y="6527800"/>
                </a:lnTo>
                <a:lnTo>
                  <a:pt x="4162428" y="6499224"/>
                </a:lnTo>
                <a:lnTo>
                  <a:pt x="4197352" y="6457952"/>
                </a:lnTo>
                <a:lnTo>
                  <a:pt x="4213228" y="6442076"/>
                </a:lnTo>
                <a:lnTo>
                  <a:pt x="4254503" y="6413500"/>
                </a:lnTo>
                <a:lnTo>
                  <a:pt x="4292603" y="6388100"/>
                </a:lnTo>
                <a:lnTo>
                  <a:pt x="4327529" y="6372224"/>
                </a:lnTo>
                <a:lnTo>
                  <a:pt x="4356104" y="6356352"/>
                </a:lnTo>
                <a:lnTo>
                  <a:pt x="4381502" y="6350000"/>
                </a:lnTo>
                <a:lnTo>
                  <a:pt x="4400553" y="6343652"/>
                </a:lnTo>
                <a:lnTo>
                  <a:pt x="4419603" y="6340476"/>
                </a:lnTo>
                <a:lnTo>
                  <a:pt x="4435478" y="6343652"/>
                </a:lnTo>
                <a:lnTo>
                  <a:pt x="4445003" y="6343652"/>
                </a:lnTo>
                <a:lnTo>
                  <a:pt x="4454528" y="6350000"/>
                </a:lnTo>
                <a:lnTo>
                  <a:pt x="4467228" y="6359524"/>
                </a:lnTo>
                <a:lnTo>
                  <a:pt x="4473577" y="6369052"/>
                </a:lnTo>
                <a:lnTo>
                  <a:pt x="4473577" y="6375400"/>
                </a:lnTo>
                <a:lnTo>
                  <a:pt x="4422778" y="6410324"/>
                </a:lnTo>
                <a:lnTo>
                  <a:pt x="4384679" y="6448424"/>
                </a:lnTo>
                <a:lnTo>
                  <a:pt x="4352928" y="6483352"/>
                </a:lnTo>
                <a:lnTo>
                  <a:pt x="4327529" y="6518276"/>
                </a:lnTo>
                <a:lnTo>
                  <a:pt x="4308479" y="6550024"/>
                </a:lnTo>
                <a:lnTo>
                  <a:pt x="4298954" y="6581776"/>
                </a:lnTo>
                <a:lnTo>
                  <a:pt x="4292603" y="6610352"/>
                </a:lnTo>
                <a:lnTo>
                  <a:pt x="4289427" y="6638924"/>
                </a:lnTo>
                <a:lnTo>
                  <a:pt x="4289427" y="6664324"/>
                </a:lnTo>
                <a:lnTo>
                  <a:pt x="4292603" y="6686552"/>
                </a:lnTo>
                <a:lnTo>
                  <a:pt x="4298954" y="6705600"/>
                </a:lnTo>
                <a:lnTo>
                  <a:pt x="4302128" y="6721476"/>
                </a:lnTo>
                <a:lnTo>
                  <a:pt x="4314827" y="6746876"/>
                </a:lnTo>
                <a:lnTo>
                  <a:pt x="4321178" y="6753224"/>
                </a:lnTo>
                <a:lnTo>
                  <a:pt x="4362453" y="6778624"/>
                </a:lnTo>
                <a:lnTo>
                  <a:pt x="4400553" y="6800852"/>
                </a:lnTo>
                <a:lnTo>
                  <a:pt x="4441829" y="6819900"/>
                </a:lnTo>
                <a:lnTo>
                  <a:pt x="4479928" y="6829424"/>
                </a:lnTo>
                <a:lnTo>
                  <a:pt x="4514852" y="6838952"/>
                </a:lnTo>
                <a:lnTo>
                  <a:pt x="4552953" y="6842124"/>
                </a:lnTo>
                <a:lnTo>
                  <a:pt x="4587878" y="6842124"/>
                </a:lnTo>
                <a:lnTo>
                  <a:pt x="4622802" y="6838952"/>
                </a:lnTo>
                <a:lnTo>
                  <a:pt x="4654554" y="6835776"/>
                </a:lnTo>
                <a:lnTo>
                  <a:pt x="4686303" y="6826252"/>
                </a:lnTo>
                <a:lnTo>
                  <a:pt x="4718053" y="6813552"/>
                </a:lnTo>
                <a:lnTo>
                  <a:pt x="4749803" y="6800852"/>
                </a:lnTo>
                <a:lnTo>
                  <a:pt x="4778378" y="6784976"/>
                </a:lnTo>
                <a:lnTo>
                  <a:pt x="4803778" y="6765924"/>
                </a:lnTo>
                <a:lnTo>
                  <a:pt x="4854578" y="6727824"/>
                </a:lnTo>
                <a:lnTo>
                  <a:pt x="4902203" y="6686552"/>
                </a:lnTo>
                <a:lnTo>
                  <a:pt x="4943478" y="6642100"/>
                </a:lnTo>
                <a:lnTo>
                  <a:pt x="4978403" y="6597652"/>
                </a:lnTo>
                <a:lnTo>
                  <a:pt x="5006977" y="6556376"/>
                </a:lnTo>
                <a:lnTo>
                  <a:pt x="5045078" y="6492876"/>
                </a:lnTo>
                <a:lnTo>
                  <a:pt x="5060954" y="6470652"/>
                </a:lnTo>
                <a:lnTo>
                  <a:pt x="5076828" y="6426200"/>
                </a:lnTo>
                <a:lnTo>
                  <a:pt x="5092703" y="6381752"/>
                </a:lnTo>
                <a:lnTo>
                  <a:pt x="5105403" y="6340476"/>
                </a:lnTo>
                <a:lnTo>
                  <a:pt x="5111753" y="6299200"/>
                </a:lnTo>
                <a:lnTo>
                  <a:pt x="5118103" y="6257924"/>
                </a:lnTo>
                <a:lnTo>
                  <a:pt x="5121278" y="6216652"/>
                </a:lnTo>
                <a:lnTo>
                  <a:pt x="5121278" y="6178552"/>
                </a:lnTo>
                <a:lnTo>
                  <a:pt x="5118103" y="6140452"/>
                </a:lnTo>
                <a:lnTo>
                  <a:pt x="5114927" y="6102352"/>
                </a:lnTo>
                <a:lnTo>
                  <a:pt x="5108578" y="6067424"/>
                </a:lnTo>
                <a:lnTo>
                  <a:pt x="5092703" y="5997576"/>
                </a:lnTo>
                <a:lnTo>
                  <a:pt x="5070479" y="5934076"/>
                </a:lnTo>
                <a:lnTo>
                  <a:pt x="5041904" y="5873752"/>
                </a:lnTo>
                <a:lnTo>
                  <a:pt x="5013328" y="5819776"/>
                </a:lnTo>
                <a:lnTo>
                  <a:pt x="4984754" y="5772152"/>
                </a:lnTo>
                <a:lnTo>
                  <a:pt x="4953003" y="5730876"/>
                </a:lnTo>
                <a:lnTo>
                  <a:pt x="4927604" y="5695952"/>
                </a:lnTo>
                <a:lnTo>
                  <a:pt x="4883153" y="5648324"/>
                </a:lnTo>
                <a:lnTo>
                  <a:pt x="4867279" y="5629276"/>
                </a:lnTo>
                <a:lnTo>
                  <a:pt x="4822827" y="5594352"/>
                </a:lnTo>
                <a:lnTo>
                  <a:pt x="4778378" y="5565776"/>
                </a:lnTo>
                <a:lnTo>
                  <a:pt x="4733929" y="5540376"/>
                </a:lnTo>
                <a:lnTo>
                  <a:pt x="4692653" y="5518152"/>
                </a:lnTo>
                <a:lnTo>
                  <a:pt x="4648202" y="5499100"/>
                </a:lnTo>
                <a:lnTo>
                  <a:pt x="4606929" y="5483224"/>
                </a:lnTo>
                <a:lnTo>
                  <a:pt x="4568829" y="5470524"/>
                </a:lnTo>
                <a:lnTo>
                  <a:pt x="4527553" y="5464176"/>
                </a:lnTo>
                <a:lnTo>
                  <a:pt x="4489452" y="5457824"/>
                </a:lnTo>
                <a:lnTo>
                  <a:pt x="4451354" y="5451476"/>
                </a:lnTo>
                <a:lnTo>
                  <a:pt x="4416428" y="5451476"/>
                </a:lnTo>
                <a:lnTo>
                  <a:pt x="4381502" y="5451476"/>
                </a:lnTo>
                <a:lnTo>
                  <a:pt x="4346578" y="5454652"/>
                </a:lnTo>
                <a:lnTo>
                  <a:pt x="4314827" y="5461000"/>
                </a:lnTo>
                <a:lnTo>
                  <a:pt x="4251328" y="5473700"/>
                </a:lnTo>
                <a:lnTo>
                  <a:pt x="4194178" y="5492752"/>
                </a:lnTo>
                <a:lnTo>
                  <a:pt x="4143379" y="5511800"/>
                </a:lnTo>
                <a:lnTo>
                  <a:pt x="4102103" y="5534024"/>
                </a:lnTo>
                <a:lnTo>
                  <a:pt x="4064002" y="5556252"/>
                </a:lnTo>
                <a:lnTo>
                  <a:pt x="4035429" y="5575300"/>
                </a:lnTo>
                <a:lnTo>
                  <a:pt x="4013202" y="5591176"/>
                </a:lnTo>
                <a:lnTo>
                  <a:pt x="3994153" y="5607052"/>
                </a:lnTo>
                <a:lnTo>
                  <a:pt x="4022727" y="5568952"/>
                </a:lnTo>
                <a:lnTo>
                  <a:pt x="4051303" y="5530852"/>
                </a:lnTo>
                <a:lnTo>
                  <a:pt x="4083053" y="5495924"/>
                </a:lnTo>
                <a:lnTo>
                  <a:pt x="4114804" y="5464176"/>
                </a:lnTo>
                <a:lnTo>
                  <a:pt x="4149728" y="5432424"/>
                </a:lnTo>
                <a:lnTo>
                  <a:pt x="4184653" y="5407024"/>
                </a:lnTo>
                <a:lnTo>
                  <a:pt x="4219579" y="5381624"/>
                </a:lnTo>
                <a:lnTo>
                  <a:pt x="4257678" y="5356224"/>
                </a:lnTo>
                <a:lnTo>
                  <a:pt x="4295778" y="5337176"/>
                </a:lnTo>
                <a:lnTo>
                  <a:pt x="4333878" y="5318124"/>
                </a:lnTo>
                <a:lnTo>
                  <a:pt x="4410078" y="5286376"/>
                </a:lnTo>
                <a:lnTo>
                  <a:pt x="4486278" y="5257800"/>
                </a:lnTo>
                <a:lnTo>
                  <a:pt x="4559304" y="5238752"/>
                </a:lnTo>
                <a:lnTo>
                  <a:pt x="4686303" y="5216524"/>
                </a:lnTo>
                <a:lnTo>
                  <a:pt x="4813303" y="5200652"/>
                </a:lnTo>
                <a:lnTo>
                  <a:pt x="4876804" y="5197476"/>
                </a:lnTo>
                <a:lnTo>
                  <a:pt x="4940302" y="5194300"/>
                </a:lnTo>
                <a:close/>
                <a:moveTo>
                  <a:pt x="9153525" y="4184652"/>
                </a:moveTo>
                <a:lnTo>
                  <a:pt x="9201151" y="4289424"/>
                </a:lnTo>
                <a:lnTo>
                  <a:pt x="9245600" y="4394200"/>
                </a:lnTo>
                <a:lnTo>
                  <a:pt x="9280525" y="4498976"/>
                </a:lnTo>
                <a:lnTo>
                  <a:pt x="9312275" y="4597400"/>
                </a:lnTo>
                <a:lnTo>
                  <a:pt x="9337676" y="4695824"/>
                </a:lnTo>
                <a:lnTo>
                  <a:pt x="9359901" y="4794252"/>
                </a:lnTo>
                <a:lnTo>
                  <a:pt x="9378950" y="4886324"/>
                </a:lnTo>
                <a:lnTo>
                  <a:pt x="9391650" y="4978400"/>
                </a:lnTo>
                <a:lnTo>
                  <a:pt x="9404351" y="5070476"/>
                </a:lnTo>
                <a:lnTo>
                  <a:pt x="9407525" y="5156200"/>
                </a:lnTo>
                <a:lnTo>
                  <a:pt x="9410701" y="5238752"/>
                </a:lnTo>
                <a:lnTo>
                  <a:pt x="9410701" y="5321300"/>
                </a:lnTo>
                <a:lnTo>
                  <a:pt x="9410701" y="5400676"/>
                </a:lnTo>
                <a:lnTo>
                  <a:pt x="9404351" y="5476876"/>
                </a:lnTo>
                <a:lnTo>
                  <a:pt x="9394825" y="5549900"/>
                </a:lnTo>
                <a:lnTo>
                  <a:pt x="9385300" y="5619752"/>
                </a:lnTo>
                <a:lnTo>
                  <a:pt x="9366250" y="5727700"/>
                </a:lnTo>
                <a:lnTo>
                  <a:pt x="9344026" y="5822952"/>
                </a:lnTo>
                <a:lnTo>
                  <a:pt x="9318625" y="5911852"/>
                </a:lnTo>
                <a:lnTo>
                  <a:pt x="9290050" y="6000752"/>
                </a:lnTo>
                <a:lnTo>
                  <a:pt x="9258300" y="6086476"/>
                </a:lnTo>
                <a:lnTo>
                  <a:pt x="9223375" y="6172200"/>
                </a:lnTo>
                <a:lnTo>
                  <a:pt x="9185275" y="6254752"/>
                </a:lnTo>
                <a:lnTo>
                  <a:pt x="9147175" y="6337300"/>
                </a:lnTo>
                <a:lnTo>
                  <a:pt x="9102725" y="6416676"/>
                </a:lnTo>
                <a:lnTo>
                  <a:pt x="9055100" y="6496052"/>
                </a:lnTo>
                <a:lnTo>
                  <a:pt x="9007475" y="6575424"/>
                </a:lnTo>
                <a:lnTo>
                  <a:pt x="8956675" y="6651624"/>
                </a:lnTo>
                <a:lnTo>
                  <a:pt x="8902700" y="6727824"/>
                </a:lnTo>
                <a:lnTo>
                  <a:pt x="8848725" y="6800852"/>
                </a:lnTo>
                <a:lnTo>
                  <a:pt x="8788400" y="6873876"/>
                </a:lnTo>
                <a:lnTo>
                  <a:pt x="8731250" y="6946900"/>
                </a:lnTo>
                <a:lnTo>
                  <a:pt x="8667750" y="7016752"/>
                </a:lnTo>
                <a:lnTo>
                  <a:pt x="8604250" y="7083424"/>
                </a:lnTo>
                <a:lnTo>
                  <a:pt x="8496300" y="7191376"/>
                </a:lnTo>
                <a:lnTo>
                  <a:pt x="8388350" y="7292976"/>
                </a:lnTo>
                <a:lnTo>
                  <a:pt x="8299450" y="7372352"/>
                </a:lnTo>
                <a:lnTo>
                  <a:pt x="8207376" y="7448552"/>
                </a:lnTo>
                <a:lnTo>
                  <a:pt x="8112125" y="7521576"/>
                </a:lnTo>
                <a:lnTo>
                  <a:pt x="8013700" y="7591424"/>
                </a:lnTo>
                <a:lnTo>
                  <a:pt x="7915275" y="7661276"/>
                </a:lnTo>
                <a:lnTo>
                  <a:pt x="7813675" y="7724776"/>
                </a:lnTo>
                <a:lnTo>
                  <a:pt x="7610475" y="7851776"/>
                </a:lnTo>
                <a:lnTo>
                  <a:pt x="7334250" y="8016876"/>
                </a:lnTo>
                <a:lnTo>
                  <a:pt x="7213600" y="8077200"/>
                </a:lnTo>
                <a:lnTo>
                  <a:pt x="7099300" y="8143876"/>
                </a:lnTo>
                <a:lnTo>
                  <a:pt x="6985001" y="8213724"/>
                </a:lnTo>
                <a:lnTo>
                  <a:pt x="6873875" y="8283576"/>
                </a:lnTo>
                <a:lnTo>
                  <a:pt x="6765925" y="8362952"/>
                </a:lnTo>
                <a:lnTo>
                  <a:pt x="6661150" y="8442324"/>
                </a:lnTo>
                <a:lnTo>
                  <a:pt x="6559551" y="8524876"/>
                </a:lnTo>
                <a:lnTo>
                  <a:pt x="6461125" y="8610600"/>
                </a:lnTo>
                <a:lnTo>
                  <a:pt x="6365875" y="8702676"/>
                </a:lnTo>
                <a:lnTo>
                  <a:pt x="6276975" y="8797924"/>
                </a:lnTo>
                <a:lnTo>
                  <a:pt x="6188075" y="8896352"/>
                </a:lnTo>
                <a:lnTo>
                  <a:pt x="6105525" y="8997952"/>
                </a:lnTo>
                <a:lnTo>
                  <a:pt x="6026152" y="9102724"/>
                </a:lnTo>
                <a:lnTo>
                  <a:pt x="5949950" y="9210676"/>
                </a:lnTo>
                <a:lnTo>
                  <a:pt x="5876926" y="9324976"/>
                </a:lnTo>
                <a:lnTo>
                  <a:pt x="5810251" y="9442452"/>
                </a:lnTo>
                <a:lnTo>
                  <a:pt x="5851525" y="9413876"/>
                </a:lnTo>
                <a:lnTo>
                  <a:pt x="5892802" y="9388476"/>
                </a:lnTo>
                <a:lnTo>
                  <a:pt x="5981700" y="9340852"/>
                </a:lnTo>
                <a:lnTo>
                  <a:pt x="6153150" y="9258300"/>
                </a:lnTo>
                <a:lnTo>
                  <a:pt x="6238875" y="9217024"/>
                </a:lnTo>
                <a:lnTo>
                  <a:pt x="6280150" y="9191624"/>
                </a:lnTo>
                <a:lnTo>
                  <a:pt x="6321425" y="9166224"/>
                </a:lnTo>
                <a:lnTo>
                  <a:pt x="6359526" y="9137652"/>
                </a:lnTo>
                <a:lnTo>
                  <a:pt x="6400801" y="9105900"/>
                </a:lnTo>
                <a:lnTo>
                  <a:pt x="6435725" y="9070976"/>
                </a:lnTo>
                <a:lnTo>
                  <a:pt x="6473825" y="9029700"/>
                </a:lnTo>
                <a:lnTo>
                  <a:pt x="6454775" y="9061452"/>
                </a:lnTo>
                <a:lnTo>
                  <a:pt x="6435725" y="9086852"/>
                </a:lnTo>
                <a:lnTo>
                  <a:pt x="6391275" y="9137652"/>
                </a:lnTo>
                <a:lnTo>
                  <a:pt x="6346825" y="9182100"/>
                </a:lnTo>
                <a:lnTo>
                  <a:pt x="6296025" y="9223376"/>
                </a:lnTo>
                <a:lnTo>
                  <a:pt x="6242050" y="9258300"/>
                </a:lnTo>
                <a:lnTo>
                  <a:pt x="6188075" y="9290052"/>
                </a:lnTo>
                <a:lnTo>
                  <a:pt x="6130925" y="9321800"/>
                </a:lnTo>
                <a:lnTo>
                  <a:pt x="6070600" y="9350376"/>
                </a:lnTo>
                <a:lnTo>
                  <a:pt x="5953125" y="9404352"/>
                </a:lnTo>
                <a:lnTo>
                  <a:pt x="5838825" y="9458324"/>
                </a:lnTo>
                <a:lnTo>
                  <a:pt x="5784851" y="9486900"/>
                </a:lnTo>
                <a:lnTo>
                  <a:pt x="5730875" y="9518652"/>
                </a:lnTo>
                <a:lnTo>
                  <a:pt x="5680075" y="9553576"/>
                </a:lnTo>
                <a:lnTo>
                  <a:pt x="5635625" y="9591676"/>
                </a:lnTo>
                <a:lnTo>
                  <a:pt x="5549901" y="9648824"/>
                </a:lnTo>
                <a:lnTo>
                  <a:pt x="5508626" y="9680576"/>
                </a:lnTo>
                <a:lnTo>
                  <a:pt x="5470527" y="9712324"/>
                </a:lnTo>
                <a:lnTo>
                  <a:pt x="5368927" y="9788524"/>
                </a:lnTo>
                <a:lnTo>
                  <a:pt x="5270501" y="9867900"/>
                </a:lnTo>
                <a:lnTo>
                  <a:pt x="5200650" y="9921876"/>
                </a:lnTo>
                <a:lnTo>
                  <a:pt x="5133977" y="9979024"/>
                </a:lnTo>
                <a:lnTo>
                  <a:pt x="5067302" y="10036176"/>
                </a:lnTo>
                <a:lnTo>
                  <a:pt x="5000625" y="10093324"/>
                </a:lnTo>
                <a:lnTo>
                  <a:pt x="4892677" y="10191752"/>
                </a:lnTo>
                <a:lnTo>
                  <a:pt x="4791076" y="10287000"/>
                </a:lnTo>
                <a:lnTo>
                  <a:pt x="4635502" y="10442576"/>
                </a:lnTo>
                <a:lnTo>
                  <a:pt x="4489451" y="10598152"/>
                </a:lnTo>
                <a:lnTo>
                  <a:pt x="4356101" y="10750552"/>
                </a:lnTo>
                <a:lnTo>
                  <a:pt x="4232276" y="10902952"/>
                </a:lnTo>
                <a:lnTo>
                  <a:pt x="4117976" y="11055352"/>
                </a:lnTo>
                <a:lnTo>
                  <a:pt x="4013201" y="11201400"/>
                </a:lnTo>
                <a:lnTo>
                  <a:pt x="3917951" y="11347452"/>
                </a:lnTo>
                <a:lnTo>
                  <a:pt x="3829051" y="11493500"/>
                </a:lnTo>
                <a:lnTo>
                  <a:pt x="3752851" y="11633200"/>
                </a:lnTo>
                <a:lnTo>
                  <a:pt x="3679825" y="11772900"/>
                </a:lnTo>
                <a:lnTo>
                  <a:pt x="3616325" y="11906252"/>
                </a:lnTo>
                <a:lnTo>
                  <a:pt x="3559176" y="12036424"/>
                </a:lnTo>
                <a:lnTo>
                  <a:pt x="3508375" y="12163424"/>
                </a:lnTo>
                <a:lnTo>
                  <a:pt x="3463925" y="12287252"/>
                </a:lnTo>
                <a:lnTo>
                  <a:pt x="3425826" y="12407900"/>
                </a:lnTo>
                <a:lnTo>
                  <a:pt x="3394076" y="12522200"/>
                </a:lnTo>
                <a:lnTo>
                  <a:pt x="3365501" y="12630152"/>
                </a:lnTo>
                <a:lnTo>
                  <a:pt x="3343275" y="12734924"/>
                </a:lnTo>
                <a:lnTo>
                  <a:pt x="3324225" y="12833352"/>
                </a:lnTo>
                <a:lnTo>
                  <a:pt x="3311526" y="12928600"/>
                </a:lnTo>
                <a:lnTo>
                  <a:pt x="3298826" y="13014324"/>
                </a:lnTo>
                <a:lnTo>
                  <a:pt x="3289300" y="13096876"/>
                </a:lnTo>
                <a:lnTo>
                  <a:pt x="3282951" y="13169900"/>
                </a:lnTo>
                <a:lnTo>
                  <a:pt x="3279775" y="13239752"/>
                </a:lnTo>
                <a:lnTo>
                  <a:pt x="3279775" y="13354052"/>
                </a:lnTo>
                <a:lnTo>
                  <a:pt x="3282951" y="13436600"/>
                </a:lnTo>
                <a:lnTo>
                  <a:pt x="3286125" y="13490576"/>
                </a:lnTo>
                <a:lnTo>
                  <a:pt x="3289300" y="13506452"/>
                </a:lnTo>
                <a:lnTo>
                  <a:pt x="3397250" y="13484224"/>
                </a:lnTo>
                <a:lnTo>
                  <a:pt x="3511551" y="13458824"/>
                </a:lnTo>
                <a:lnTo>
                  <a:pt x="3635375" y="13436600"/>
                </a:lnTo>
                <a:lnTo>
                  <a:pt x="3765550" y="13414376"/>
                </a:lnTo>
                <a:lnTo>
                  <a:pt x="4041775" y="13376276"/>
                </a:lnTo>
                <a:lnTo>
                  <a:pt x="4340226" y="13338176"/>
                </a:lnTo>
                <a:lnTo>
                  <a:pt x="4654551" y="13306424"/>
                </a:lnTo>
                <a:lnTo>
                  <a:pt x="4987926" y="13274676"/>
                </a:lnTo>
                <a:lnTo>
                  <a:pt x="5330826" y="13249276"/>
                </a:lnTo>
                <a:lnTo>
                  <a:pt x="5686425" y="13223876"/>
                </a:lnTo>
                <a:lnTo>
                  <a:pt x="6172200" y="13198476"/>
                </a:lnTo>
                <a:lnTo>
                  <a:pt x="6661150" y="13176252"/>
                </a:lnTo>
                <a:lnTo>
                  <a:pt x="7150100" y="13157200"/>
                </a:lnTo>
                <a:lnTo>
                  <a:pt x="7632700" y="13141324"/>
                </a:lnTo>
                <a:lnTo>
                  <a:pt x="8216900" y="13125452"/>
                </a:lnTo>
                <a:lnTo>
                  <a:pt x="8763000" y="13115924"/>
                </a:lnTo>
                <a:lnTo>
                  <a:pt x="9261475" y="13109576"/>
                </a:lnTo>
                <a:lnTo>
                  <a:pt x="9699625" y="13106400"/>
                </a:lnTo>
                <a:lnTo>
                  <a:pt x="10337800" y="13103224"/>
                </a:lnTo>
                <a:lnTo>
                  <a:pt x="10575925" y="13103224"/>
                </a:lnTo>
                <a:lnTo>
                  <a:pt x="10798175" y="13106400"/>
                </a:lnTo>
                <a:lnTo>
                  <a:pt x="11023600" y="13112752"/>
                </a:lnTo>
                <a:lnTo>
                  <a:pt x="11252200" y="13122276"/>
                </a:lnTo>
                <a:lnTo>
                  <a:pt x="11480800" y="13134976"/>
                </a:lnTo>
                <a:lnTo>
                  <a:pt x="11709400" y="13147676"/>
                </a:lnTo>
                <a:lnTo>
                  <a:pt x="11938000" y="13166724"/>
                </a:lnTo>
                <a:lnTo>
                  <a:pt x="12166600" y="13188952"/>
                </a:lnTo>
                <a:lnTo>
                  <a:pt x="12395200" y="13211176"/>
                </a:lnTo>
                <a:lnTo>
                  <a:pt x="12620625" y="13236576"/>
                </a:lnTo>
                <a:lnTo>
                  <a:pt x="12842875" y="13261976"/>
                </a:lnTo>
                <a:lnTo>
                  <a:pt x="13277850" y="13319124"/>
                </a:lnTo>
                <a:lnTo>
                  <a:pt x="13696950" y="13379452"/>
                </a:lnTo>
                <a:lnTo>
                  <a:pt x="14093828" y="13442952"/>
                </a:lnTo>
                <a:lnTo>
                  <a:pt x="14462128" y="13506452"/>
                </a:lnTo>
                <a:lnTo>
                  <a:pt x="14798676" y="13569952"/>
                </a:lnTo>
                <a:lnTo>
                  <a:pt x="15093952" y="13627100"/>
                </a:lnTo>
                <a:lnTo>
                  <a:pt x="15351128" y="13677900"/>
                </a:lnTo>
                <a:lnTo>
                  <a:pt x="15713076" y="13754100"/>
                </a:lnTo>
                <a:lnTo>
                  <a:pt x="15840076" y="13782676"/>
                </a:lnTo>
                <a:lnTo>
                  <a:pt x="15995652" y="13823952"/>
                </a:lnTo>
                <a:lnTo>
                  <a:pt x="16144876" y="13865224"/>
                </a:lnTo>
                <a:lnTo>
                  <a:pt x="16430628" y="13950952"/>
                </a:lnTo>
                <a:lnTo>
                  <a:pt x="16700500" y="14039852"/>
                </a:lnTo>
                <a:lnTo>
                  <a:pt x="16954500" y="14131924"/>
                </a:lnTo>
                <a:lnTo>
                  <a:pt x="17192624" y="14224000"/>
                </a:lnTo>
                <a:lnTo>
                  <a:pt x="17411700" y="14316076"/>
                </a:lnTo>
                <a:lnTo>
                  <a:pt x="17621252" y="14411324"/>
                </a:lnTo>
                <a:lnTo>
                  <a:pt x="17811752" y="14506576"/>
                </a:lnTo>
                <a:lnTo>
                  <a:pt x="17992724" y="14605000"/>
                </a:lnTo>
                <a:lnTo>
                  <a:pt x="18157824" y="14700252"/>
                </a:lnTo>
                <a:lnTo>
                  <a:pt x="18310224" y="14795500"/>
                </a:lnTo>
                <a:lnTo>
                  <a:pt x="18453100" y="14890752"/>
                </a:lnTo>
                <a:lnTo>
                  <a:pt x="18580100" y="14982828"/>
                </a:lnTo>
                <a:lnTo>
                  <a:pt x="18697576" y="15074900"/>
                </a:lnTo>
                <a:lnTo>
                  <a:pt x="18805524" y="15166976"/>
                </a:lnTo>
                <a:lnTo>
                  <a:pt x="18903952" y="15252700"/>
                </a:lnTo>
                <a:lnTo>
                  <a:pt x="18989676" y="15338428"/>
                </a:lnTo>
                <a:lnTo>
                  <a:pt x="19069052" y="15420976"/>
                </a:lnTo>
                <a:lnTo>
                  <a:pt x="19135724" y="15503524"/>
                </a:lnTo>
                <a:lnTo>
                  <a:pt x="19196052" y="15576552"/>
                </a:lnTo>
                <a:lnTo>
                  <a:pt x="19250024" y="15649576"/>
                </a:lnTo>
                <a:lnTo>
                  <a:pt x="19294476" y="15716252"/>
                </a:lnTo>
                <a:lnTo>
                  <a:pt x="19335752" y="15779752"/>
                </a:lnTo>
                <a:lnTo>
                  <a:pt x="19367500" y="15836900"/>
                </a:lnTo>
                <a:lnTo>
                  <a:pt x="19396076" y="15890876"/>
                </a:lnTo>
                <a:lnTo>
                  <a:pt x="19415124" y="15935324"/>
                </a:lnTo>
                <a:lnTo>
                  <a:pt x="19446876" y="16011524"/>
                </a:lnTo>
                <a:lnTo>
                  <a:pt x="19462752" y="16055976"/>
                </a:lnTo>
                <a:lnTo>
                  <a:pt x="19465924" y="16071852"/>
                </a:lnTo>
                <a:lnTo>
                  <a:pt x="19392900" y="15979776"/>
                </a:lnTo>
                <a:lnTo>
                  <a:pt x="19319876" y="15890876"/>
                </a:lnTo>
                <a:lnTo>
                  <a:pt x="19240500" y="15801976"/>
                </a:lnTo>
                <a:lnTo>
                  <a:pt x="19161124" y="15716252"/>
                </a:lnTo>
                <a:lnTo>
                  <a:pt x="19078576" y="15636876"/>
                </a:lnTo>
                <a:lnTo>
                  <a:pt x="18996024" y="15557500"/>
                </a:lnTo>
                <a:lnTo>
                  <a:pt x="18910300" y="15478124"/>
                </a:lnTo>
                <a:lnTo>
                  <a:pt x="18821400" y="15405100"/>
                </a:lnTo>
                <a:lnTo>
                  <a:pt x="18729324" y="15332076"/>
                </a:lnTo>
                <a:lnTo>
                  <a:pt x="18637252" y="15262228"/>
                </a:lnTo>
                <a:lnTo>
                  <a:pt x="18545176" y="15195552"/>
                </a:lnTo>
                <a:lnTo>
                  <a:pt x="18449924" y="15128876"/>
                </a:lnTo>
                <a:lnTo>
                  <a:pt x="18354676" y="15068552"/>
                </a:lnTo>
                <a:lnTo>
                  <a:pt x="18256252" y="15008228"/>
                </a:lnTo>
                <a:lnTo>
                  <a:pt x="18157824" y="14947900"/>
                </a:lnTo>
                <a:lnTo>
                  <a:pt x="18059400" y="14893924"/>
                </a:lnTo>
                <a:lnTo>
                  <a:pt x="17957800" y="14839952"/>
                </a:lnTo>
                <a:lnTo>
                  <a:pt x="17859376" y="14789152"/>
                </a:lnTo>
                <a:lnTo>
                  <a:pt x="17757776" y="14738352"/>
                </a:lnTo>
                <a:lnTo>
                  <a:pt x="17653000" y="14690724"/>
                </a:lnTo>
                <a:lnTo>
                  <a:pt x="17449800" y="14601828"/>
                </a:lnTo>
                <a:lnTo>
                  <a:pt x="17243424" y="14519276"/>
                </a:lnTo>
                <a:lnTo>
                  <a:pt x="17040224" y="14443076"/>
                </a:lnTo>
                <a:lnTo>
                  <a:pt x="16833852" y="14376400"/>
                </a:lnTo>
                <a:lnTo>
                  <a:pt x="16633828" y="14316076"/>
                </a:lnTo>
                <a:lnTo>
                  <a:pt x="16436976" y="14258924"/>
                </a:lnTo>
                <a:lnTo>
                  <a:pt x="16243300" y="14211300"/>
                </a:lnTo>
                <a:lnTo>
                  <a:pt x="16055976" y="14166852"/>
                </a:lnTo>
                <a:lnTo>
                  <a:pt x="15875000" y="14128752"/>
                </a:lnTo>
                <a:lnTo>
                  <a:pt x="15700376" y="14097000"/>
                </a:lnTo>
                <a:lnTo>
                  <a:pt x="15535276" y="14068428"/>
                </a:lnTo>
                <a:lnTo>
                  <a:pt x="15376528" y="14043028"/>
                </a:lnTo>
                <a:lnTo>
                  <a:pt x="15230476" y="14020800"/>
                </a:lnTo>
                <a:lnTo>
                  <a:pt x="15097128" y="14004924"/>
                </a:lnTo>
                <a:lnTo>
                  <a:pt x="14865352" y="13979524"/>
                </a:lnTo>
                <a:lnTo>
                  <a:pt x="14687552" y="13966828"/>
                </a:lnTo>
                <a:lnTo>
                  <a:pt x="14576428" y="13960476"/>
                </a:lnTo>
                <a:lnTo>
                  <a:pt x="14538328" y="13957300"/>
                </a:lnTo>
                <a:lnTo>
                  <a:pt x="14754228" y="13995400"/>
                </a:lnTo>
                <a:lnTo>
                  <a:pt x="14966952" y="14036676"/>
                </a:lnTo>
                <a:lnTo>
                  <a:pt x="15176500" y="14087476"/>
                </a:lnTo>
                <a:lnTo>
                  <a:pt x="15379700" y="14138276"/>
                </a:lnTo>
                <a:lnTo>
                  <a:pt x="15579728" y="14195428"/>
                </a:lnTo>
                <a:lnTo>
                  <a:pt x="15776576" y="14255752"/>
                </a:lnTo>
                <a:lnTo>
                  <a:pt x="15970252" y="14319252"/>
                </a:lnTo>
                <a:lnTo>
                  <a:pt x="16154400" y="14385924"/>
                </a:lnTo>
                <a:lnTo>
                  <a:pt x="16338552" y="14455776"/>
                </a:lnTo>
                <a:lnTo>
                  <a:pt x="16513176" y="14525628"/>
                </a:lnTo>
                <a:lnTo>
                  <a:pt x="16684628" y="14598652"/>
                </a:lnTo>
                <a:lnTo>
                  <a:pt x="16849724" y="14671676"/>
                </a:lnTo>
                <a:lnTo>
                  <a:pt x="17008476" y="14747876"/>
                </a:lnTo>
                <a:lnTo>
                  <a:pt x="17160876" y="14820900"/>
                </a:lnTo>
                <a:lnTo>
                  <a:pt x="17310100" y="14893924"/>
                </a:lnTo>
                <a:lnTo>
                  <a:pt x="17449800" y="14970124"/>
                </a:lnTo>
                <a:lnTo>
                  <a:pt x="17583152" y="15039976"/>
                </a:lnTo>
                <a:lnTo>
                  <a:pt x="17710152" y="15113000"/>
                </a:lnTo>
                <a:lnTo>
                  <a:pt x="17938752" y="15246352"/>
                </a:lnTo>
                <a:lnTo>
                  <a:pt x="18138776" y="15373352"/>
                </a:lnTo>
                <a:lnTo>
                  <a:pt x="18307052" y="15481300"/>
                </a:lnTo>
                <a:lnTo>
                  <a:pt x="18440400" y="15573376"/>
                </a:lnTo>
                <a:lnTo>
                  <a:pt x="18538824" y="15643228"/>
                </a:lnTo>
                <a:lnTo>
                  <a:pt x="18618200" y="15703552"/>
                </a:lnTo>
                <a:lnTo>
                  <a:pt x="18421352" y="15595600"/>
                </a:lnTo>
                <a:lnTo>
                  <a:pt x="18221324" y="15490828"/>
                </a:lnTo>
                <a:lnTo>
                  <a:pt x="18021300" y="15392400"/>
                </a:lnTo>
                <a:lnTo>
                  <a:pt x="17821276" y="15293976"/>
                </a:lnTo>
                <a:lnTo>
                  <a:pt x="17621252" y="15198724"/>
                </a:lnTo>
                <a:lnTo>
                  <a:pt x="17418052" y="15109828"/>
                </a:lnTo>
                <a:lnTo>
                  <a:pt x="17218024" y="15020924"/>
                </a:lnTo>
                <a:lnTo>
                  <a:pt x="17014824" y="14938376"/>
                </a:lnTo>
                <a:lnTo>
                  <a:pt x="16811624" y="14855828"/>
                </a:lnTo>
                <a:lnTo>
                  <a:pt x="16611600" y="14776452"/>
                </a:lnTo>
                <a:lnTo>
                  <a:pt x="16408400" y="14703428"/>
                </a:lnTo>
                <a:lnTo>
                  <a:pt x="16205200" y="14630400"/>
                </a:lnTo>
                <a:lnTo>
                  <a:pt x="16002000" y="14560552"/>
                </a:lnTo>
                <a:lnTo>
                  <a:pt x="15798800" y="14493876"/>
                </a:lnTo>
                <a:lnTo>
                  <a:pt x="15592428" y="14430376"/>
                </a:lnTo>
                <a:lnTo>
                  <a:pt x="15389228" y="14370052"/>
                </a:lnTo>
                <a:lnTo>
                  <a:pt x="15186028" y="14312900"/>
                </a:lnTo>
                <a:lnTo>
                  <a:pt x="14982828" y="14255752"/>
                </a:lnTo>
                <a:lnTo>
                  <a:pt x="14779628" y="14204952"/>
                </a:lnTo>
                <a:lnTo>
                  <a:pt x="14576428" y="14154152"/>
                </a:lnTo>
                <a:lnTo>
                  <a:pt x="14373228" y="14106524"/>
                </a:lnTo>
                <a:lnTo>
                  <a:pt x="14170028" y="14062076"/>
                </a:lnTo>
                <a:lnTo>
                  <a:pt x="13963650" y="14017628"/>
                </a:lnTo>
                <a:lnTo>
                  <a:pt x="13760450" y="13979524"/>
                </a:lnTo>
                <a:lnTo>
                  <a:pt x="13560425" y="13941428"/>
                </a:lnTo>
                <a:lnTo>
                  <a:pt x="13357225" y="13906500"/>
                </a:lnTo>
                <a:lnTo>
                  <a:pt x="13154025" y="13874752"/>
                </a:lnTo>
                <a:lnTo>
                  <a:pt x="12950825" y="13843000"/>
                </a:lnTo>
                <a:lnTo>
                  <a:pt x="12750800" y="13814424"/>
                </a:lnTo>
                <a:lnTo>
                  <a:pt x="12547600" y="13789024"/>
                </a:lnTo>
                <a:lnTo>
                  <a:pt x="12347575" y="13766800"/>
                </a:lnTo>
                <a:lnTo>
                  <a:pt x="12147550" y="13744576"/>
                </a:lnTo>
                <a:lnTo>
                  <a:pt x="11947525" y="13725524"/>
                </a:lnTo>
                <a:lnTo>
                  <a:pt x="11747500" y="13706476"/>
                </a:lnTo>
                <a:lnTo>
                  <a:pt x="11547475" y="13693776"/>
                </a:lnTo>
                <a:lnTo>
                  <a:pt x="11350625" y="13681076"/>
                </a:lnTo>
                <a:lnTo>
                  <a:pt x="11153775" y="13668376"/>
                </a:lnTo>
                <a:lnTo>
                  <a:pt x="10953750" y="13658852"/>
                </a:lnTo>
                <a:lnTo>
                  <a:pt x="10563225" y="13646152"/>
                </a:lnTo>
                <a:lnTo>
                  <a:pt x="10172700" y="13639800"/>
                </a:lnTo>
                <a:lnTo>
                  <a:pt x="9788526" y="13642976"/>
                </a:lnTo>
                <a:lnTo>
                  <a:pt x="9404351" y="13649324"/>
                </a:lnTo>
                <a:lnTo>
                  <a:pt x="9026525" y="13665200"/>
                </a:lnTo>
                <a:lnTo>
                  <a:pt x="8651875" y="13684252"/>
                </a:lnTo>
                <a:lnTo>
                  <a:pt x="8280400" y="13709652"/>
                </a:lnTo>
                <a:lnTo>
                  <a:pt x="7915275" y="13741400"/>
                </a:lnTo>
                <a:lnTo>
                  <a:pt x="7556500" y="13776324"/>
                </a:lnTo>
                <a:lnTo>
                  <a:pt x="7200900" y="13817600"/>
                </a:lnTo>
                <a:lnTo>
                  <a:pt x="6848475" y="13862052"/>
                </a:lnTo>
                <a:lnTo>
                  <a:pt x="6505575" y="13909676"/>
                </a:lnTo>
                <a:lnTo>
                  <a:pt x="6165850" y="13963652"/>
                </a:lnTo>
                <a:lnTo>
                  <a:pt x="5832475" y="14020800"/>
                </a:lnTo>
                <a:lnTo>
                  <a:pt x="5508626" y="14077952"/>
                </a:lnTo>
                <a:lnTo>
                  <a:pt x="5187952" y="14141452"/>
                </a:lnTo>
                <a:lnTo>
                  <a:pt x="4876802" y="14204952"/>
                </a:lnTo>
                <a:lnTo>
                  <a:pt x="4572001" y="14271628"/>
                </a:lnTo>
                <a:lnTo>
                  <a:pt x="4273551" y="14341476"/>
                </a:lnTo>
                <a:lnTo>
                  <a:pt x="3984626" y="14411324"/>
                </a:lnTo>
                <a:lnTo>
                  <a:pt x="3702051" y="14481176"/>
                </a:lnTo>
                <a:lnTo>
                  <a:pt x="3429000" y="14554200"/>
                </a:lnTo>
                <a:lnTo>
                  <a:pt x="3165476" y="14627228"/>
                </a:lnTo>
                <a:lnTo>
                  <a:pt x="2908301" y="14697076"/>
                </a:lnTo>
                <a:lnTo>
                  <a:pt x="2660650" y="14770100"/>
                </a:lnTo>
                <a:lnTo>
                  <a:pt x="2425700" y="14843124"/>
                </a:lnTo>
                <a:lnTo>
                  <a:pt x="2197101" y="14912976"/>
                </a:lnTo>
                <a:lnTo>
                  <a:pt x="1981200" y="14986000"/>
                </a:lnTo>
                <a:lnTo>
                  <a:pt x="1771650" y="15052676"/>
                </a:lnTo>
                <a:lnTo>
                  <a:pt x="1390650" y="15186028"/>
                </a:lnTo>
                <a:lnTo>
                  <a:pt x="1050925" y="15309852"/>
                </a:lnTo>
                <a:lnTo>
                  <a:pt x="758825" y="15420976"/>
                </a:lnTo>
                <a:lnTo>
                  <a:pt x="514350" y="15516228"/>
                </a:lnTo>
                <a:lnTo>
                  <a:pt x="320676" y="15595600"/>
                </a:lnTo>
                <a:lnTo>
                  <a:pt x="180975" y="15655924"/>
                </a:lnTo>
                <a:lnTo>
                  <a:pt x="63501" y="15706724"/>
                </a:lnTo>
                <a:lnTo>
                  <a:pt x="41275" y="15662276"/>
                </a:lnTo>
                <a:lnTo>
                  <a:pt x="22225" y="15614652"/>
                </a:lnTo>
                <a:lnTo>
                  <a:pt x="9526" y="15570200"/>
                </a:lnTo>
                <a:lnTo>
                  <a:pt x="0" y="15525752"/>
                </a:lnTo>
                <a:lnTo>
                  <a:pt x="0" y="15481300"/>
                </a:lnTo>
                <a:lnTo>
                  <a:pt x="0" y="15436852"/>
                </a:lnTo>
                <a:lnTo>
                  <a:pt x="9526" y="15395576"/>
                </a:lnTo>
                <a:lnTo>
                  <a:pt x="19051" y="15351124"/>
                </a:lnTo>
                <a:lnTo>
                  <a:pt x="31750" y="15309852"/>
                </a:lnTo>
                <a:lnTo>
                  <a:pt x="50800" y="15271752"/>
                </a:lnTo>
                <a:lnTo>
                  <a:pt x="69851" y="15230476"/>
                </a:lnTo>
                <a:lnTo>
                  <a:pt x="95251" y="15192376"/>
                </a:lnTo>
                <a:lnTo>
                  <a:pt x="120651" y="15157452"/>
                </a:lnTo>
                <a:lnTo>
                  <a:pt x="146051" y="15119352"/>
                </a:lnTo>
                <a:lnTo>
                  <a:pt x="206375" y="15052676"/>
                </a:lnTo>
                <a:lnTo>
                  <a:pt x="269876" y="14992352"/>
                </a:lnTo>
                <a:lnTo>
                  <a:pt x="333375" y="14935200"/>
                </a:lnTo>
                <a:lnTo>
                  <a:pt x="393701" y="14887576"/>
                </a:lnTo>
                <a:lnTo>
                  <a:pt x="447675" y="14846300"/>
                </a:lnTo>
                <a:lnTo>
                  <a:pt x="536576" y="14789152"/>
                </a:lnTo>
                <a:lnTo>
                  <a:pt x="568326" y="14770100"/>
                </a:lnTo>
                <a:lnTo>
                  <a:pt x="600075" y="14652628"/>
                </a:lnTo>
                <a:lnTo>
                  <a:pt x="628651" y="14535152"/>
                </a:lnTo>
                <a:lnTo>
                  <a:pt x="663575" y="14417676"/>
                </a:lnTo>
                <a:lnTo>
                  <a:pt x="698500" y="14303376"/>
                </a:lnTo>
                <a:lnTo>
                  <a:pt x="733425" y="14189076"/>
                </a:lnTo>
                <a:lnTo>
                  <a:pt x="771526" y="14077952"/>
                </a:lnTo>
                <a:lnTo>
                  <a:pt x="812801" y="13970000"/>
                </a:lnTo>
                <a:lnTo>
                  <a:pt x="854076" y="13862052"/>
                </a:lnTo>
                <a:lnTo>
                  <a:pt x="939800" y="13649324"/>
                </a:lnTo>
                <a:lnTo>
                  <a:pt x="1031875" y="13446124"/>
                </a:lnTo>
                <a:lnTo>
                  <a:pt x="1127126" y="13246100"/>
                </a:lnTo>
                <a:lnTo>
                  <a:pt x="1225550" y="13055600"/>
                </a:lnTo>
                <a:lnTo>
                  <a:pt x="1282700" y="12947652"/>
                </a:lnTo>
                <a:lnTo>
                  <a:pt x="1339850" y="12839700"/>
                </a:lnTo>
                <a:lnTo>
                  <a:pt x="1409700" y="12700000"/>
                </a:lnTo>
                <a:lnTo>
                  <a:pt x="1485900" y="12563476"/>
                </a:lnTo>
                <a:lnTo>
                  <a:pt x="1565276" y="12430124"/>
                </a:lnTo>
                <a:lnTo>
                  <a:pt x="1647825" y="12296776"/>
                </a:lnTo>
                <a:lnTo>
                  <a:pt x="1736725" y="12166600"/>
                </a:lnTo>
                <a:lnTo>
                  <a:pt x="1828800" y="12039600"/>
                </a:lnTo>
                <a:lnTo>
                  <a:pt x="1924050" y="11912600"/>
                </a:lnTo>
                <a:lnTo>
                  <a:pt x="2022476" y="11788776"/>
                </a:lnTo>
                <a:lnTo>
                  <a:pt x="2124076" y="11668124"/>
                </a:lnTo>
                <a:lnTo>
                  <a:pt x="2228850" y="11550652"/>
                </a:lnTo>
                <a:lnTo>
                  <a:pt x="2336800" y="11436352"/>
                </a:lnTo>
                <a:lnTo>
                  <a:pt x="2444751" y="11322052"/>
                </a:lnTo>
                <a:lnTo>
                  <a:pt x="2559051" y="11210924"/>
                </a:lnTo>
                <a:lnTo>
                  <a:pt x="2673351" y="11106152"/>
                </a:lnTo>
                <a:lnTo>
                  <a:pt x="2790825" y="11001376"/>
                </a:lnTo>
                <a:lnTo>
                  <a:pt x="2908301" y="10899776"/>
                </a:lnTo>
                <a:lnTo>
                  <a:pt x="3038475" y="10788652"/>
                </a:lnTo>
                <a:lnTo>
                  <a:pt x="3121025" y="10718800"/>
                </a:lnTo>
                <a:lnTo>
                  <a:pt x="3149601" y="10696576"/>
                </a:lnTo>
                <a:lnTo>
                  <a:pt x="3063875" y="10744200"/>
                </a:lnTo>
                <a:lnTo>
                  <a:pt x="2981326" y="10795000"/>
                </a:lnTo>
                <a:lnTo>
                  <a:pt x="2898775" y="10848976"/>
                </a:lnTo>
                <a:lnTo>
                  <a:pt x="2819401" y="10902952"/>
                </a:lnTo>
                <a:lnTo>
                  <a:pt x="2740026" y="10956924"/>
                </a:lnTo>
                <a:lnTo>
                  <a:pt x="2663825" y="11014076"/>
                </a:lnTo>
                <a:lnTo>
                  <a:pt x="2511426" y="11131552"/>
                </a:lnTo>
                <a:lnTo>
                  <a:pt x="2365375" y="11252200"/>
                </a:lnTo>
                <a:lnTo>
                  <a:pt x="2222500" y="11379200"/>
                </a:lnTo>
                <a:lnTo>
                  <a:pt x="2085976" y="11512552"/>
                </a:lnTo>
                <a:lnTo>
                  <a:pt x="1952626" y="11649076"/>
                </a:lnTo>
                <a:lnTo>
                  <a:pt x="1822451" y="11788776"/>
                </a:lnTo>
                <a:lnTo>
                  <a:pt x="1698626" y="11931652"/>
                </a:lnTo>
                <a:lnTo>
                  <a:pt x="1577975" y="12077700"/>
                </a:lnTo>
                <a:lnTo>
                  <a:pt x="1460501" y="12230100"/>
                </a:lnTo>
                <a:lnTo>
                  <a:pt x="1343025" y="12382500"/>
                </a:lnTo>
                <a:lnTo>
                  <a:pt x="1231900" y="12538076"/>
                </a:lnTo>
                <a:lnTo>
                  <a:pt x="1123950" y="12696824"/>
                </a:lnTo>
                <a:lnTo>
                  <a:pt x="1016000" y="12855576"/>
                </a:lnTo>
                <a:lnTo>
                  <a:pt x="911226" y="13023852"/>
                </a:lnTo>
                <a:lnTo>
                  <a:pt x="796925" y="13201652"/>
                </a:lnTo>
                <a:lnTo>
                  <a:pt x="692150" y="13379452"/>
                </a:lnTo>
                <a:lnTo>
                  <a:pt x="593726" y="13547724"/>
                </a:lnTo>
                <a:lnTo>
                  <a:pt x="508000" y="13709652"/>
                </a:lnTo>
                <a:lnTo>
                  <a:pt x="428626" y="13865224"/>
                </a:lnTo>
                <a:lnTo>
                  <a:pt x="355600" y="14011276"/>
                </a:lnTo>
                <a:lnTo>
                  <a:pt x="292100" y="14147800"/>
                </a:lnTo>
                <a:lnTo>
                  <a:pt x="234951" y="14271628"/>
                </a:lnTo>
                <a:lnTo>
                  <a:pt x="187327" y="14385924"/>
                </a:lnTo>
                <a:lnTo>
                  <a:pt x="142875" y="14490700"/>
                </a:lnTo>
                <a:lnTo>
                  <a:pt x="82551" y="14652628"/>
                </a:lnTo>
                <a:lnTo>
                  <a:pt x="44451" y="14754228"/>
                </a:lnTo>
                <a:lnTo>
                  <a:pt x="31750" y="14792324"/>
                </a:lnTo>
                <a:lnTo>
                  <a:pt x="38101" y="14649452"/>
                </a:lnTo>
                <a:lnTo>
                  <a:pt x="44451" y="14509752"/>
                </a:lnTo>
                <a:lnTo>
                  <a:pt x="60327" y="14373228"/>
                </a:lnTo>
                <a:lnTo>
                  <a:pt x="76200" y="14236700"/>
                </a:lnTo>
                <a:lnTo>
                  <a:pt x="95251" y="14106524"/>
                </a:lnTo>
                <a:lnTo>
                  <a:pt x="120651" y="13976352"/>
                </a:lnTo>
                <a:lnTo>
                  <a:pt x="146051" y="13849352"/>
                </a:lnTo>
                <a:lnTo>
                  <a:pt x="177801" y="13722352"/>
                </a:lnTo>
                <a:lnTo>
                  <a:pt x="209551" y="13601700"/>
                </a:lnTo>
                <a:lnTo>
                  <a:pt x="247651" y="13481052"/>
                </a:lnTo>
                <a:lnTo>
                  <a:pt x="285751" y="13363576"/>
                </a:lnTo>
                <a:lnTo>
                  <a:pt x="327026" y="13249276"/>
                </a:lnTo>
                <a:lnTo>
                  <a:pt x="368301" y="13138152"/>
                </a:lnTo>
                <a:lnTo>
                  <a:pt x="412751" y="13030200"/>
                </a:lnTo>
                <a:lnTo>
                  <a:pt x="457200" y="12925424"/>
                </a:lnTo>
                <a:lnTo>
                  <a:pt x="504826" y="12823824"/>
                </a:lnTo>
                <a:lnTo>
                  <a:pt x="587376" y="12646024"/>
                </a:lnTo>
                <a:lnTo>
                  <a:pt x="682625" y="12468224"/>
                </a:lnTo>
                <a:lnTo>
                  <a:pt x="777876" y="12290424"/>
                </a:lnTo>
                <a:lnTo>
                  <a:pt x="876300" y="12112624"/>
                </a:lnTo>
                <a:lnTo>
                  <a:pt x="981075" y="11941176"/>
                </a:lnTo>
                <a:lnTo>
                  <a:pt x="1085851" y="11769724"/>
                </a:lnTo>
                <a:lnTo>
                  <a:pt x="1196975" y="11604624"/>
                </a:lnTo>
                <a:lnTo>
                  <a:pt x="1311276" y="11439524"/>
                </a:lnTo>
                <a:lnTo>
                  <a:pt x="1431925" y="11277600"/>
                </a:lnTo>
                <a:lnTo>
                  <a:pt x="1552576" y="11118852"/>
                </a:lnTo>
                <a:lnTo>
                  <a:pt x="1679575" y="10966452"/>
                </a:lnTo>
                <a:lnTo>
                  <a:pt x="1809751" y="10814052"/>
                </a:lnTo>
                <a:lnTo>
                  <a:pt x="1943100" y="10668000"/>
                </a:lnTo>
                <a:lnTo>
                  <a:pt x="2082801" y="10528300"/>
                </a:lnTo>
                <a:lnTo>
                  <a:pt x="2225676" y="10388600"/>
                </a:lnTo>
                <a:lnTo>
                  <a:pt x="2374901" y="10255252"/>
                </a:lnTo>
                <a:lnTo>
                  <a:pt x="2524126" y="10128252"/>
                </a:lnTo>
                <a:lnTo>
                  <a:pt x="2619376" y="10048876"/>
                </a:lnTo>
                <a:lnTo>
                  <a:pt x="2727326" y="9966324"/>
                </a:lnTo>
                <a:lnTo>
                  <a:pt x="2816226" y="9902824"/>
                </a:lnTo>
                <a:lnTo>
                  <a:pt x="2914651" y="9832976"/>
                </a:lnTo>
                <a:lnTo>
                  <a:pt x="3124200" y="9693276"/>
                </a:lnTo>
                <a:lnTo>
                  <a:pt x="3349626" y="9550400"/>
                </a:lnTo>
                <a:lnTo>
                  <a:pt x="3590926" y="9401176"/>
                </a:lnTo>
                <a:lnTo>
                  <a:pt x="3841750" y="9251952"/>
                </a:lnTo>
                <a:lnTo>
                  <a:pt x="4092577" y="9105900"/>
                </a:lnTo>
                <a:lnTo>
                  <a:pt x="4343402" y="8963024"/>
                </a:lnTo>
                <a:lnTo>
                  <a:pt x="4587876" y="8826500"/>
                </a:lnTo>
                <a:lnTo>
                  <a:pt x="4765676" y="8724900"/>
                </a:lnTo>
                <a:lnTo>
                  <a:pt x="5051425" y="8572500"/>
                </a:lnTo>
                <a:lnTo>
                  <a:pt x="5334001" y="8420100"/>
                </a:lnTo>
                <a:lnTo>
                  <a:pt x="5486402" y="8331200"/>
                </a:lnTo>
                <a:lnTo>
                  <a:pt x="5641977" y="8242300"/>
                </a:lnTo>
                <a:lnTo>
                  <a:pt x="5953125" y="8067676"/>
                </a:lnTo>
                <a:lnTo>
                  <a:pt x="6162675" y="7953376"/>
                </a:lnTo>
                <a:lnTo>
                  <a:pt x="6327776" y="7864476"/>
                </a:lnTo>
                <a:lnTo>
                  <a:pt x="6496050" y="7775576"/>
                </a:lnTo>
                <a:lnTo>
                  <a:pt x="6835775" y="7607300"/>
                </a:lnTo>
                <a:lnTo>
                  <a:pt x="7007225" y="7518400"/>
                </a:lnTo>
                <a:lnTo>
                  <a:pt x="7175500" y="7429500"/>
                </a:lnTo>
                <a:lnTo>
                  <a:pt x="7340600" y="7334252"/>
                </a:lnTo>
                <a:lnTo>
                  <a:pt x="7423150" y="7283452"/>
                </a:lnTo>
                <a:lnTo>
                  <a:pt x="7505701" y="7232652"/>
                </a:lnTo>
                <a:lnTo>
                  <a:pt x="7632700" y="7150100"/>
                </a:lnTo>
                <a:lnTo>
                  <a:pt x="7756525" y="7067552"/>
                </a:lnTo>
                <a:lnTo>
                  <a:pt x="7845425" y="7000876"/>
                </a:lnTo>
                <a:lnTo>
                  <a:pt x="7937500" y="6934200"/>
                </a:lnTo>
                <a:lnTo>
                  <a:pt x="8023226" y="6864352"/>
                </a:lnTo>
                <a:lnTo>
                  <a:pt x="8108950" y="6791324"/>
                </a:lnTo>
                <a:lnTo>
                  <a:pt x="8191500" y="6718300"/>
                </a:lnTo>
                <a:lnTo>
                  <a:pt x="8274051" y="6642100"/>
                </a:lnTo>
                <a:lnTo>
                  <a:pt x="8350250" y="6565900"/>
                </a:lnTo>
                <a:lnTo>
                  <a:pt x="8426450" y="6486524"/>
                </a:lnTo>
                <a:lnTo>
                  <a:pt x="8499476" y="6403976"/>
                </a:lnTo>
                <a:lnTo>
                  <a:pt x="8572500" y="6318252"/>
                </a:lnTo>
                <a:lnTo>
                  <a:pt x="8639175" y="6229352"/>
                </a:lnTo>
                <a:lnTo>
                  <a:pt x="8702675" y="6140452"/>
                </a:lnTo>
                <a:lnTo>
                  <a:pt x="8763000" y="6048376"/>
                </a:lnTo>
                <a:lnTo>
                  <a:pt x="8823325" y="5953124"/>
                </a:lnTo>
                <a:lnTo>
                  <a:pt x="8877301" y="5854700"/>
                </a:lnTo>
                <a:lnTo>
                  <a:pt x="8928100" y="5753100"/>
                </a:lnTo>
                <a:lnTo>
                  <a:pt x="8982075" y="5645152"/>
                </a:lnTo>
                <a:lnTo>
                  <a:pt x="9029700" y="5540376"/>
                </a:lnTo>
                <a:lnTo>
                  <a:pt x="9058275" y="5470524"/>
                </a:lnTo>
                <a:lnTo>
                  <a:pt x="9086850" y="5400676"/>
                </a:lnTo>
                <a:lnTo>
                  <a:pt x="9109076" y="5330824"/>
                </a:lnTo>
                <a:lnTo>
                  <a:pt x="9131300" y="5264152"/>
                </a:lnTo>
                <a:lnTo>
                  <a:pt x="9147175" y="5197476"/>
                </a:lnTo>
                <a:lnTo>
                  <a:pt x="9163050" y="5133976"/>
                </a:lnTo>
                <a:lnTo>
                  <a:pt x="9188450" y="5006976"/>
                </a:lnTo>
                <a:lnTo>
                  <a:pt x="9204326" y="4889500"/>
                </a:lnTo>
                <a:lnTo>
                  <a:pt x="9213850" y="4775200"/>
                </a:lnTo>
                <a:lnTo>
                  <a:pt x="9217025" y="4670424"/>
                </a:lnTo>
                <a:lnTo>
                  <a:pt x="9217025" y="4575176"/>
                </a:lnTo>
                <a:lnTo>
                  <a:pt x="9210676" y="4489452"/>
                </a:lnTo>
                <a:lnTo>
                  <a:pt x="9201151" y="4410076"/>
                </a:lnTo>
                <a:lnTo>
                  <a:pt x="9191625" y="4343400"/>
                </a:lnTo>
                <a:lnTo>
                  <a:pt x="9182100" y="4289424"/>
                </a:lnTo>
                <a:lnTo>
                  <a:pt x="9163050" y="4210052"/>
                </a:lnTo>
                <a:lnTo>
                  <a:pt x="9153525" y="4184652"/>
                </a:lnTo>
                <a:close/>
                <a:moveTo>
                  <a:pt x="8061347" y="3154372"/>
                </a:moveTo>
                <a:lnTo>
                  <a:pt x="8115302" y="3178176"/>
                </a:lnTo>
                <a:lnTo>
                  <a:pt x="8210552" y="3225800"/>
                </a:lnTo>
                <a:lnTo>
                  <a:pt x="8302627" y="3276600"/>
                </a:lnTo>
                <a:lnTo>
                  <a:pt x="8388352" y="3330576"/>
                </a:lnTo>
                <a:lnTo>
                  <a:pt x="8467727" y="3384552"/>
                </a:lnTo>
                <a:lnTo>
                  <a:pt x="8537577" y="3438524"/>
                </a:lnTo>
                <a:lnTo>
                  <a:pt x="8604252" y="3495676"/>
                </a:lnTo>
                <a:lnTo>
                  <a:pt x="8664578" y="3549652"/>
                </a:lnTo>
                <a:lnTo>
                  <a:pt x="8721727" y="3606800"/>
                </a:lnTo>
                <a:lnTo>
                  <a:pt x="8772527" y="3663952"/>
                </a:lnTo>
                <a:lnTo>
                  <a:pt x="8816977" y="3721100"/>
                </a:lnTo>
                <a:lnTo>
                  <a:pt x="8858252" y="3775076"/>
                </a:lnTo>
                <a:lnTo>
                  <a:pt x="8893177" y="3829052"/>
                </a:lnTo>
                <a:lnTo>
                  <a:pt x="8924927" y="3883024"/>
                </a:lnTo>
                <a:lnTo>
                  <a:pt x="8953502" y="3937000"/>
                </a:lnTo>
                <a:lnTo>
                  <a:pt x="8978902" y="3987800"/>
                </a:lnTo>
                <a:lnTo>
                  <a:pt x="8997952" y="4035424"/>
                </a:lnTo>
                <a:lnTo>
                  <a:pt x="9017002" y="4083052"/>
                </a:lnTo>
                <a:lnTo>
                  <a:pt x="9045577" y="4171952"/>
                </a:lnTo>
                <a:lnTo>
                  <a:pt x="9064627" y="4244976"/>
                </a:lnTo>
                <a:lnTo>
                  <a:pt x="9074152" y="4308476"/>
                </a:lnTo>
                <a:lnTo>
                  <a:pt x="9077328" y="4356100"/>
                </a:lnTo>
                <a:lnTo>
                  <a:pt x="9080502" y="4397376"/>
                </a:lnTo>
                <a:lnTo>
                  <a:pt x="9083677" y="4473576"/>
                </a:lnTo>
                <a:lnTo>
                  <a:pt x="9083677" y="4549776"/>
                </a:lnTo>
                <a:lnTo>
                  <a:pt x="9080502" y="4625976"/>
                </a:lnTo>
                <a:lnTo>
                  <a:pt x="9077328" y="4702176"/>
                </a:lnTo>
                <a:lnTo>
                  <a:pt x="9067802" y="4775200"/>
                </a:lnTo>
                <a:lnTo>
                  <a:pt x="9058277" y="4845052"/>
                </a:lnTo>
                <a:lnTo>
                  <a:pt x="9048753" y="4918076"/>
                </a:lnTo>
                <a:lnTo>
                  <a:pt x="9032877" y="4984752"/>
                </a:lnTo>
                <a:lnTo>
                  <a:pt x="9017002" y="5054600"/>
                </a:lnTo>
                <a:lnTo>
                  <a:pt x="9001127" y="5121276"/>
                </a:lnTo>
                <a:lnTo>
                  <a:pt x="8982078" y="5184776"/>
                </a:lnTo>
                <a:lnTo>
                  <a:pt x="8959852" y="5251452"/>
                </a:lnTo>
                <a:lnTo>
                  <a:pt x="8915402" y="5375276"/>
                </a:lnTo>
                <a:lnTo>
                  <a:pt x="8864602" y="5492752"/>
                </a:lnTo>
                <a:lnTo>
                  <a:pt x="8823328" y="5581652"/>
                </a:lnTo>
                <a:lnTo>
                  <a:pt x="8778877" y="5667376"/>
                </a:lnTo>
                <a:lnTo>
                  <a:pt x="8718553" y="5772152"/>
                </a:lnTo>
                <a:lnTo>
                  <a:pt x="8655052" y="5876924"/>
                </a:lnTo>
                <a:lnTo>
                  <a:pt x="8588377" y="5978524"/>
                </a:lnTo>
                <a:lnTo>
                  <a:pt x="8521702" y="6080124"/>
                </a:lnTo>
                <a:lnTo>
                  <a:pt x="8448677" y="6178552"/>
                </a:lnTo>
                <a:lnTo>
                  <a:pt x="8372478" y="6273800"/>
                </a:lnTo>
                <a:lnTo>
                  <a:pt x="8296277" y="6369052"/>
                </a:lnTo>
                <a:lnTo>
                  <a:pt x="8216902" y="6464300"/>
                </a:lnTo>
                <a:lnTo>
                  <a:pt x="8131177" y="6553200"/>
                </a:lnTo>
                <a:lnTo>
                  <a:pt x="8045452" y="6642100"/>
                </a:lnTo>
                <a:lnTo>
                  <a:pt x="7956552" y="6731000"/>
                </a:lnTo>
                <a:lnTo>
                  <a:pt x="7867653" y="6813552"/>
                </a:lnTo>
                <a:lnTo>
                  <a:pt x="7772402" y="6896100"/>
                </a:lnTo>
                <a:lnTo>
                  <a:pt x="7677152" y="6975476"/>
                </a:lnTo>
                <a:lnTo>
                  <a:pt x="7578728" y="7051676"/>
                </a:lnTo>
                <a:lnTo>
                  <a:pt x="7480302" y="7124700"/>
                </a:lnTo>
                <a:lnTo>
                  <a:pt x="7362827" y="7204076"/>
                </a:lnTo>
                <a:lnTo>
                  <a:pt x="7242177" y="7280276"/>
                </a:lnTo>
                <a:lnTo>
                  <a:pt x="7118352" y="7353300"/>
                </a:lnTo>
                <a:lnTo>
                  <a:pt x="6994527" y="7419976"/>
                </a:lnTo>
                <a:lnTo>
                  <a:pt x="6867527" y="7480300"/>
                </a:lnTo>
                <a:lnTo>
                  <a:pt x="6737352" y="7540624"/>
                </a:lnTo>
                <a:lnTo>
                  <a:pt x="6607177" y="7594600"/>
                </a:lnTo>
                <a:lnTo>
                  <a:pt x="6477002" y="7651752"/>
                </a:lnTo>
                <a:lnTo>
                  <a:pt x="6210302" y="7759700"/>
                </a:lnTo>
                <a:lnTo>
                  <a:pt x="6073778" y="7813676"/>
                </a:lnTo>
                <a:lnTo>
                  <a:pt x="5937252" y="7861300"/>
                </a:lnTo>
                <a:lnTo>
                  <a:pt x="6067427" y="7813676"/>
                </a:lnTo>
                <a:lnTo>
                  <a:pt x="6197602" y="7759700"/>
                </a:lnTo>
                <a:lnTo>
                  <a:pt x="6337302" y="7689852"/>
                </a:lnTo>
                <a:lnTo>
                  <a:pt x="6477002" y="7620000"/>
                </a:lnTo>
                <a:lnTo>
                  <a:pt x="6616702" y="7546976"/>
                </a:lnTo>
                <a:lnTo>
                  <a:pt x="6753227" y="7470776"/>
                </a:lnTo>
                <a:lnTo>
                  <a:pt x="6892927" y="7385052"/>
                </a:lnTo>
                <a:lnTo>
                  <a:pt x="7029452" y="7296152"/>
                </a:lnTo>
                <a:lnTo>
                  <a:pt x="7096127" y="7248524"/>
                </a:lnTo>
                <a:lnTo>
                  <a:pt x="7162802" y="7200900"/>
                </a:lnTo>
                <a:lnTo>
                  <a:pt x="7229477" y="7150100"/>
                </a:lnTo>
                <a:lnTo>
                  <a:pt x="7296152" y="7096124"/>
                </a:lnTo>
                <a:lnTo>
                  <a:pt x="7426327" y="6991352"/>
                </a:lnTo>
                <a:lnTo>
                  <a:pt x="7550152" y="6883400"/>
                </a:lnTo>
                <a:lnTo>
                  <a:pt x="7626352" y="6813552"/>
                </a:lnTo>
                <a:lnTo>
                  <a:pt x="7702552" y="6743700"/>
                </a:lnTo>
                <a:lnTo>
                  <a:pt x="7775578" y="6670676"/>
                </a:lnTo>
                <a:lnTo>
                  <a:pt x="7845427" y="6597652"/>
                </a:lnTo>
                <a:lnTo>
                  <a:pt x="7915277" y="6521452"/>
                </a:lnTo>
                <a:lnTo>
                  <a:pt x="7985127" y="6445252"/>
                </a:lnTo>
                <a:lnTo>
                  <a:pt x="8051802" y="6369052"/>
                </a:lnTo>
                <a:lnTo>
                  <a:pt x="8115302" y="6289676"/>
                </a:lnTo>
                <a:lnTo>
                  <a:pt x="8178802" y="6210300"/>
                </a:lnTo>
                <a:lnTo>
                  <a:pt x="8242302" y="6127752"/>
                </a:lnTo>
                <a:lnTo>
                  <a:pt x="8302627" y="6045200"/>
                </a:lnTo>
                <a:lnTo>
                  <a:pt x="8359778" y="5959476"/>
                </a:lnTo>
                <a:lnTo>
                  <a:pt x="8416927" y="5876924"/>
                </a:lnTo>
                <a:lnTo>
                  <a:pt x="8470902" y="5788024"/>
                </a:lnTo>
                <a:lnTo>
                  <a:pt x="8524877" y="5699124"/>
                </a:lnTo>
                <a:lnTo>
                  <a:pt x="8575677" y="5610224"/>
                </a:lnTo>
                <a:lnTo>
                  <a:pt x="8642352" y="5489576"/>
                </a:lnTo>
                <a:lnTo>
                  <a:pt x="8696327" y="5375276"/>
                </a:lnTo>
                <a:lnTo>
                  <a:pt x="8737602" y="5280024"/>
                </a:lnTo>
                <a:lnTo>
                  <a:pt x="8775702" y="5194300"/>
                </a:lnTo>
                <a:lnTo>
                  <a:pt x="8804277" y="5114924"/>
                </a:lnTo>
                <a:lnTo>
                  <a:pt x="8829677" y="5041900"/>
                </a:lnTo>
                <a:lnTo>
                  <a:pt x="8851903" y="4975224"/>
                </a:lnTo>
                <a:lnTo>
                  <a:pt x="8867777" y="4914900"/>
                </a:lnTo>
                <a:lnTo>
                  <a:pt x="8883652" y="4860924"/>
                </a:lnTo>
                <a:lnTo>
                  <a:pt x="8893177" y="4813300"/>
                </a:lnTo>
                <a:lnTo>
                  <a:pt x="8902702" y="4737100"/>
                </a:lnTo>
                <a:lnTo>
                  <a:pt x="8909052" y="4679952"/>
                </a:lnTo>
                <a:lnTo>
                  <a:pt x="8909052" y="4648200"/>
                </a:lnTo>
                <a:lnTo>
                  <a:pt x="8905877" y="4638676"/>
                </a:lnTo>
                <a:lnTo>
                  <a:pt x="8902702" y="4514852"/>
                </a:lnTo>
                <a:lnTo>
                  <a:pt x="8890003" y="4397376"/>
                </a:lnTo>
                <a:lnTo>
                  <a:pt x="8874127" y="4283076"/>
                </a:lnTo>
                <a:lnTo>
                  <a:pt x="8851903" y="4178300"/>
                </a:lnTo>
                <a:lnTo>
                  <a:pt x="8823328" y="4079876"/>
                </a:lnTo>
                <a:lnTo>
                  <a:pt x="8791577" y="3984624"/>
                </a:lnTo>
                <a:lnTo>
                  <a:pt x="8756653" y="3895724"/>
                </a:lnTo>
                <a:lnTo>
                  <a:pt x="8718553" y="3813176"/>
                </a:lnTo>
                <a:lnTo>
                  <a:pt x="8677277" y="3736976"/>
                </a:lnTo>
                <a:lnTo>
                  <a:pt x="8632827" y="3663952"/>
                </a:lnTo>
                <a:lnTo>
                  <a:pt x="8585203" y="3597276"/>
                </a:lnTo>
                <a:lnTo>
                  <a:pt x="8537577" y="3533776"/>
                </a:lnTo>
                <a:lnTo>
                  <a:pt x="8486777" y="3476624"/>
                </a:lnTo>
                <a:lnTo>
                  <a:pt x="8435977" y="3422652"/>
                </a:lnTo>
                <a:lnTo>
                  <a:pt x="8382002" y="3375024"/>
                </a:lnTo>
                <a:lnTo>
                  <a:pt x="8331202" y="3330576"/>
                </a:lnTo>
                <a:lnTo>
                  <a:pt x="8280403" y="3289300"/>
                </a:lnTo>
                <a:lnTo>
                  <a:pt x="8226428" y="3251200"/>
                </a:lnTo>
                <a:lnTo>
                  <a:pt x="8175627" y="3219452"/>
                </a:lnTo>
                <a:lnTo>
                  <a:pt x="8124827" y="3187700"/>
                </a:lnTo>
                <a:lnTo>
                  <a:pt x="8077202" y="3162300"/>
                </a:lnTo>
                <a:lnTo>
                  <a:pt x="8061347" y="3154372"/>
                </a:lnTo>
                <a:close/>
                <a:moveTo>
                  <a:pt x="7775578" y="3044824"/>
                </a:moveTo>
                <a:lnTo>
                  <a:pt x="7823202" y="3057524"/>
                </a:lnTo>
                <a:lnTo>
                  <a:pt x="7877177" y="3073400"/>
                </a:lnTo>
                <a:lnTo>
                  <a:pt x="7947027" y="3101976"/>
                </a:lnTo>
                <a:lnTo>
                  <a:pt x="8032752" y="3140076"/>
                </a:lnTo>
                <a:lnTo>
                  <a:pt x="8061347" y="3154372"/>
                </a:lnTo>
                <a:lnTo>
                  <a:pt x="8007352" y="3130552"/>
                </a:lnTo>
                <a:lnTo>
                  <a:pt x="7896228" y="3086100"/>
                </a:lnTo>
                <a:lnTo>
                  <a:pt x="7775578" y="3044824"/>
                </a:lnTo>
                <a:close/>
                <a:moveTo>
                  <a:pt x="6981825" y="2997200"/>
                </a:moveTo>
                <a:lnTo>
                  <a:pt x="7048500" y="2997200"/>
                </a:lnTo>
                <a:lnTo>
                  <a:pt x="7169150" y="3000376"/>
                </a:lnTo>
                <a:lnTo>
                  <a:pt x="7258050" y="3006724"/>
                </a:lnTo>
                <a:lnTo>
                  <a:pt x="7318376" y="3013076"/>
                </a:lnTo>
                <a:lnTo>
                  <a:pt x="7337425" y="3019424"/>
                </a:lnTo>
                <a:lnTo>
                  <a:pt x="7404100" y="3028952"/>
                </a:lnTo>
                <a:lnTo>
                  <a:pt x="7467600" y="3038476"/>
                </a:lnTo>
                <a:lnTo>
                  <a:pt x="7527925" y="3051176"/>
                </a:lnTo>
                <a:lnTo>
                  <a:pt x="7585076" y="3067052"/>
                </a:lnTo>
                <a:lnTo>
                  <a:pt x="7642225" y="3082924"/>
                </a:lnTo>
                <a:lnTo>
                  <a:pt x="7699375" y="3098800"/>
                </a:lnTo>
                <a:lnTo>
                  <a:pt x="7750175" y="3117852"/>
                </a:lnTo>
                <a:lnTo>
                  <a:pt x="7800975" y="3136900"/>
                </a:lnTo>
                <a:lnTo>
                  <a:pt x="7899400" y="3181352"/>
                </a:lnTo>
                <a:lnTo>
                  <a:pt x="7988300" y="3232152"/>
                </a:lnTo>
                <a:lnTo>
                  <a:pt x="8074025" y="3286124"/>
                </a:lnTo>
                <a:lnTo>
                  <a:pt x="8150225" y="3340100"/>
                </a:lnTo>
                <a:lnTo>
                  <a:pt x="8220075" y="3400424"/>
                </a:lnTo>
                <a:lnTo>
                  <a:pt x="8286751" y="3463924"/>
                </a:lnTo>
                <a:lnTo>
                  <a:pt x="8343902" y="3530600"/>
                </a:lnTo>
                <a:lnTo>
                  <a:pt x="8397875" y="3597276"/>
                </a:lnTo>
                <a:lnTo>
                  <a:pt x="8445500" y="3663952"/>
                </a:lnTo>
                <a:lnTo>
                  <a:pt x="8489950" y="3733800"/>
                </a:lnTo>
                <a:lnTo>
                  <a:pt x="8528050" y="3803652"/>
                </a:lnTo>
                <a:lnTo>
                  <a:pt x="8562975" y="3873500"/>
                </a:lnTo>
                <a:lnTo>
                  <a:pt x="8594725" y="3940176"/>
                </a:lnTo>
                <a:lnTo>
                  <a:pt x="8620126" y="4010024"/>
                </a:lnTo>
                <a:lnTo>
                  <a:pt x="8642350" y="4076700"/>
                </a:lnTo>
                <a:lnTo>
                  <a:pt x="8661400" y="4140200"/>
                </a:lnTo>
                <a:lnTo>
                  <a:pt x="8680450" y="4200524"/>
                </a:lnTo>
                <a:lnTo>
                  <a:pt x="8693150" y="4260852"/>
                </a:lnTo>
                <a:lnTo>
                  <a:pt x="8712201" y="4368800"/>
                </a:lnTo>
                <a:lnTo>
                  <a:pt x="8724901" y="4457700"/>
                </a:lnTo>
                <a:lnTo>
                  <a:pt x="8731250" y="4527552"/>
                </a:lnTo>
                <a:lnTo>
                  <a:pt x="8731250" y="4587876"/>
                </a:lnTo>
                <a:lnTo>
                  <a:pt x="8737600" y="4635500"/>
                </a:lnTo>
                <a:lnTo>
                  <a:pt x="8737600" y="4679952"/>
                </a:lnTo>
                <a:lnTo>
                  <a:pt x="8737600" y="4727576"/>
                </a:lnTo>
                <a:lnTo>
                  <a:pt x="8734425" y="4775200"/>
                </a:lnTo>
                <a:lnTo>
                  <a:pt x="8724901" y="4870452"/>
                </a:lnTo>
                <a:lnTo>
                  <a:pt x="8705850" y="4968876"/>
                </a:lnTo>
                <a:lnTo>
                  <a:pt x="8683625" y="5064124"/>
                </a:lnTo>
                <a:lnTo>
                  <a:pt x="8651875" y="5159376"/>
                </a:lnTo>
                <a:lnTo>
                  <a:pt x="8616950" y="5257800"/>
                </a:lnTo>
                <a:lnTo>
                  <a:pt x="8575675" y="5353052"/>
                </a:lnTo>
                <a:lnTo>
                  <a:pt x="8515350" y="5476876"/>
                </a:lnTo>
                <a:lnTo>
                  <a:pt x="8448675" y="5600700"/>
                </a:lnTo>
                <a:lnTo>
                  <a:pt x="8378825" y="5721352"/>
                </a:lnTo>
                <a:lnTo>
                  <a:pt x="8302625" y="5842000"/>
                </a:lnTo>
                <a:lnTo>
                  <a:pt x="8226425" y="5959476"/>
                </a:lnTo>
                <a:lnTo>
                  <a:pt x="8147050" y="6076952"/>
                </a:lnTo>
                <a:lnTo>
                  <a:pt x="8064500" y="6191252"/>
                </a:lnTo>
                <a:lnTo>
                  <a:pt x="7978775" y="6302376"/>
                </a:lnTo>
                <a:lnTo>
                  <a:pt x="7889876" y="6410324"/>
                </a:lnTo>
                <a:lnTo>
                  <a:pt x="7800975" y="6518276"/>
                </a:lnTo>
                <a:lnTo>
                  <a:pt x="7705725" y="6623052"/>
                </a:lnTo>
                <a:lnTo>
                  <a:pt x="7607300" y="6721476"/>
                </a:lnTo>
                <a:lnTo>
                  <a:pt x="7505701" y="6819900"/>
                </a:lnTo>
                <a:lnTo>
                  <a:pt x="7400925" y="6915152"/>
                </a:lnTo>
                <a:lnTo>
                  <a:pt x="7292975" y="7004052"/>
                </a:lnTo>
                <a:lnTo>
                  <a:pt x="7181850" y="7092952"/>
                </a:lnTo>
                <a:lnTo>
                  <a:pt x="7067550" y="7175500"/>
                </a:lnTo>
                <a:lnTo>
                  <a:pt x="6946900" y="7254876"/>
                </a:lnTo>
                <a:lnTo>
                  <a:pt x="6807200" y="7340600"/>
                </a:lnTo>
                <a:lnTo>
                  <a:pt x="6661150" y="7419976"/>
                </a:lnTo>
                <a:lnTo>
                  <a:pt x="6534150" y="7489824"/>
                </a:lnTo>
                <a:lnTo>
                  <a:pt x="6400801" y="7553324"/>
                </a:lnTo>
                <a:lnTo>
                  <a:pt x="6267451" y="7620000"/>
                </a:lnTo>
                <a:lnTo>
                  <a:pt x="6127750" y="7680324"/>
                </a:lnTo>
                <a:lnTo>
                  <a:pt x="5988050" y="7734300"/>
                </a:lnTo>
                <a:lnTo>
                  <a:pt x="5848350" y="7781924"/>
                </a:lnTo>
                <a:lnTo>
                  <a:pt x="5702300" y="7826376"/>
                </a:lnTo>
                <a:lnTo>
                  <a:pt x="5556252" y="7861300"/>
                </a:lnTo>
                <a:lnTo>
                  <a:pt x="5715000" y="7800976"/>
                </a:lnTo>
                <a:lnTo>
                  <a:pt x="5870575" y="7731124"/>
                </a:lnTo>
                <a:lnTo>
                  <a:pt x="6019800" y="7658100"/>
                </a:lnTo>
                <a:lnTo>
                  <a:pt x="6169026" y="7581900"/>
                </a:lnTo>
                <a:lnTo>
                  <a:pt x="6311900" y="7496176"/>
                </a:lnTo>
                <a:lnTo>
                  <a:pt x="6451600" y="7410452"/>
                </a:lnTo>
                <a:lnTo>
                  <a:pt x="6569075" y="7334252"/>
                </a:lnTo>
                <a:lnTo>
                  <a:pt x="6683375" y="7251700"/>
                </a:lnTo>
                <a:lnTo>
                  <a:pt x="6911975" y="7077076"/>
                </a:lnTo>
                <a:lnTo>
                  <a:pt x="7023100" y="6985000"/>
                </a:lnTo>
                <a:lnTo>
                  <a:pt x="7134225" y="6892924"/>
                </a:lnTo>
                <a:lnTo>
                  <a:pt x="7242175" y="6797676"/>
                </a:lnTo>
                <a:lnTo>
                  <a:pt x="7346951" y="6702424"/>
                </a:lnTo>
                <a:lnTo>
                  <a:pt x="7448550" y="6600824"/>
                </a:lnTo>
                <a:lnTo>
                  <a:pt x="7546975" y="6499224"/>
                </a:lnTo>
                <a:lnTo>
                  <a:pt x="7642225" y="6391276"/>
                </a:lnTo>
                <a:lnTo>
                  <a:pt x="7731126" y="6280152"/>
                </a:lnTo>
                <a:lnTo>
                  <a:pt x="7816850" y="6165852"/>
                </a:lnTo>
                <a:lnTo>
                  <a:pt x="7854950" y="6105524"/>
                </a:lnTo>
                <a:lnTo>
                  <a:pt x="7893050" y="6045200"/>
                </a:lnTo>
                <a:lnTo>
                  <a:pt x="7931150" y="5984876"/>
                </a:lnTo>
                <a:lnTo>
                  <a:pt x="7966075" y="5921376"/>
                </a:lnTo>
                <a:lnTo>
                  <a:pt x="7997825" y="5857876"/>
                </a:lnTo>
                <a:lnTo>
                  <a:pt x="8029575" y="5791200"/>
                </a:lnTo>
                <a:lnTo>
                  <a:pt x="8058150" y="5724524"/>
                </a:lnTo>
                <a:lnTo>
                  <a:pt x="8086725" y="5654676"/>
                </a:lnTo>
                <a:lnTo>
                  <a:pt x="8112125" y="5584824"/>
                </a:lnTo>
                <a:lnTo>
                  <a:pt x="8137525" y="5514976"/>
                </a:lnTo>
                <a:lnTo>
                  <a:pt x="8156575" y="5451476"/>
                </a:lnTo>
                <a:lnTo>
                  <a:pt x="8172450" y="5387976"/>
                </a:lnTo>
                <a:lnTo>
                  <a:pt x="8185151" y="5330824"/>
                </a:lnTo>
                <a:lnTo>
                  <a:pt x="8194676" y="5276852"/>
                </a:lnTo>
                <a:lnTo>
                  <a:pt x="8204200" y="5200652"/>
                </a:lnTo>
                <a:lnTo>
                  <a:pt x="8210552" y="5133976"/>
                </a:lnTo>
                <a:lnTo>
                  <a:pt x="8213725" y="5076824"/>
                </a:lnTo>
                <a:lnTo>
                  <a:pt x="8213725" y="5026024"/>
                </a:lnTo>
                <a:lnTo>
                  <a:pt x="8210552" y="4959352"/>
                </a:lnTo>
                <a:lnTo>
                  <a:pt x="8210552" y="4933952"/>
                </a:lnTo>
                <a:lnTo>
                  <a:pt x="8204200" y="4854576"/>
                </a:lnTo>
                <a:lnTo>
                  <a:pt x="8194676" y="4778376"/>
                </a:lnTo>
                <a:lnTo>
                  <a:pt x="8181976" y="4708524"/>
                </a:lnTo>
                <a:lnTo>
                  <a:pt x="8169275" y="4638676"/>
                </a:lnTo>
                <a:lnTo>
                  <a:pt x="8153400" y="4575176"/>
                </a:lnTo>
                <a:lnTo>
                  <a:pt x="8134350" y="4514852"/>
                </a:lnTo>
                <a:lnTo>
                  <a:pt x="8112125" y="4460876"/>
                </a:lnTo>
                <a:lnTo>
                  <a:pt x="8093075" y="4406900"/>
                </a:lnTo>
                <a:lnTo>
                  <a:pt x="8067675" y="4356100"/>
                </a:lnTo>
                <a:lnTo>
                  <a:pt x="8042275" y="4311652"/>
                </a:lnTo>
                <a:lnTo>
                  <a:pt x="8016875" y="4267200"/>
                </a:lnTo>
                <a:lnTo>
                  <a:pt x="7991475" y="4229100"/>
                </a:lnTo>
                <a:lnTo>
                  <a:pt x="7966075" y="4191000"/>
                </a:lnTo>
                <a:lnTo>
                  <a:pt x="7937500" y="4156076"/>
                </a:lnTo>
                <a:lnTo>
                  <a:pt x="7908925" y="4127500"/>
                </a:lnTo>
                <a:lnTo>
                  <a:pt x="7880350" y="4098924"/>
                </a:lnTo>
                <a:lnTo>
                  <a:pt x="7826375" y="4048124"/>
                </a:lnTo>
                <a:lnTo>
                  <a:pt x="7772400" y="4006852"/>
                </a:lnTo>
                <a:lnTo>
                  <a:pt x="7724775" y="3975100"/>
                </a:lnTo>
                <a:lnTo>
                  <a:pt x="7680325" y="3952876"/>
                </a:lnTo>
                <a:lnTo>
                  <a:pt x="7642225" y="3933824"/>
                </a:lnTo>
                <a:lnTo>
                  <a:pt x="7616825" y="3924300"/>
                </a:lnTo>
                <a:lnTo>
                  <a:pt x="7591425" y="3914776"/>
                </a:lnTo>
                <a:lnTo>
                  <a:pt x="7629525" y="3971924"/>
                </a:lnTo>
                <a:lnTo>
                  <a:pt x="7664451" y="4025900"/>
                </a:lnTo>
                <a:lnTo>
                  <a:pt x="7696200" y="4076700"/>
                </a:lnTo>
                <a:lnTo>
                  <a:pt x="7724775" y="4127500"/>
                </a:lnTo>
                <a:lnTo>
                  <a:pt x="7747000" y="4178300"/>
                </a:lnTo>
                <a:lnTo>
                  <a:pt x="7769226" y="4225924"/>
                </a:lnTo>
                <a:lnTo>
                  <a:pt x="7785102" y="4273552"/>
                </a:lnTo>
                <a:lnTo>
                  <a:pt x="7800975" y="4318000"/>
                </a:lnTo>
                <a:lnTo>
                  <a:pt x="7813675" y="4362452"/>
                </a:lnTo>
                <a:lnTo>
                  <a:pt x="7820025" y="4406900"/>
                </a:lnTo>
                <a:lnTo>
                  <a:pt x="7826375" y="4448176"/>
                </a:lnTo>
                <a:lnTo>
                  <a:pt x="7829550" y="4489452"/>
                </a:lnTo>
                <a:lnTo>
                  <a:pt x="7832725" y="4527552"/>
                </a:lnTo>
                <a:lnTo>
                  <a:pt x="7829550" y="4565652"/>
                </a:lnTo>
                <a:lnTo>
                  <a:pt x="7826375" y="4600576"/>
                </a:lnTo>
                <a:lnTo>
                  <a:pt x="7823200" y="4635500"/>
                </a:lnTo>
                <a:lnTo>
                  <a:pt x="7813675" y="4670424"/>
                </a:lnTo>
                <a:lnTo>
                  <a:pt x="7804150" y="4702176"/>
                </a:lnTo>
                <a:lnTo>
                  <a:pt x="7781925" y="4765676"/>
                </a:lnTo>
                <a:lnTo>
                  <a:pt x="7753350" y="4819652"/>
                </a:lnTo>
                <a:lnTo>
                  <a:pt x="7721600" y="4873624"/>
                </a:lnTo>
                <a:lnTo>
                  <a:pt x="7683500" y="4921252"/>
                </a:lnTo>
                <a:lnTo>
                  <a:pt x="7645400" y="4962524"/>
                </a:lnTo>
                <a:lnTo>
                  <a:pt x="7607300" y="5000624"/>
                </a:lnTo>
                <a:lnTo>
                  <a:pt x="7566025" y="5035552"/>
                </a:lnTo>
                <a:lnTo>
                  <a:pt x="7546975" y="5045076"/>
                </a:lnTo>
                <a:lnTo>
                  <a:pt x="7524750" y="5060952"/>
                </a:lnTo>
                <a:lnTo>
                  <a:pt x="7477126" y="5095876"/>
                </a:lnTo>
                <a:lnTo>
                  <a:pt x="7451726" y="5114924"/>
                </a:lnTo>
                <a:lnTo>
                  <a:pt x="7423150" y="5130800"/>
                </a:lnTo>
                <a:lnTo>
                  <a:pt x="7391400" y="5143500"/>
                </a:lnTo>
                <a:lnTo>
                  <a:pt x="7375525" y="5146676"/>
                </a:lnTo>
                <a:lnTo>
                  <a:pt x="7356475" y="5146676"/>
                </a:lnTo>
                <a:lnTo>
                  <a:pt x="7397750" y="5121276"/>
                </a:lnTo>
                <a:lnTo>
                  <a:pt x="7435850" y="5092700"/>
                </a:lnTo>
                <a:lnTo>
                  <a:pt x="7467600" y="5060952"/>
                </a:lnTo>
                <a:lnTo>
                  <a:pt x="7499350" y="5026024"/>
                </a:lnTo>
                <a:lnTo>
                  <a:pt x="7527925" y="4987924"/>
                </a:lnTo>
                <a:lnTo>
                  <a:pt x="7553325" y="4949824"/>
                </a:lnTo>
                <a:lnTo>
                  <a:pt x="7575550" y="4908552"/>
                </a:lnTo>
                <a:lnTo>
                  <a:pt x="7594600" y="4867276"/>
                </a:lnTo>
                <a:lnTo>
                  <a:pt x="7610475" y="4822824"/>
                </a:lnTo>
                <a:lnTo>
                  <a:pt x="7623175" y="4778376"/>
                </a:lnTo>
                <a:lnTo>
                  <a:pt x="7632700" y="4733924"/>
                </a:lnTo>
                <a:lnTo>
                  <a:pt x="7642225" y="4689476"/>
                </a:lnTo>
                <a:lnTo>
                  <a:pt x="7645400" y="4645024"/>
                </a:lnTo>
                <a:lnTo>
                  <a:pt x="7648575" y="4600576"/>
                </a:lnTo>
                <a:lnTo>
                  <a:pt x="7645400" y="4556124"/>
                </a:lnTo>
                <a:lnTo>
                  <a:pt x="7642225" y="4514852"/>
                </a:lnTo>
                <a:lnTo>
                  <a:pt x="7626350" y="4451352"/>
                </a:lnTo>
                <a:lnTo>
                  <a:pt x="7610475" y="4384676"/>
                </a:lnTo>
                <a:lnTo>
                  <a:pt x="7585076" y="4321176"/>
                </a:lnTo>
                <a:lnTo>
                  <a:pt x="7559675" y="4260852"/>
                </a:lnTo>
                <a:lnTo>
                  <a:pt x="7527925" y="4197352"/>
                </a:lnTo>
                <a:lnTo>
                  <a:pt x="7493000" y="4140200"/>
                </a:lnTo>
                <a:lnTo>
                  <a:pt x="7454900" y="4086224"/>
                </a:lnTo>
                <a:lnTo>
                  <a:pt x="7413626" y="4032252"/>
                </a:lnTo>
                <a:lnTo>
                  <a:pt x="7366000" y="3984624"/>
                </a:lnTo>
                <a:lnTo>
                  <a:pt x="7315200" y="3940176"/>
                </a:lnTo>
                <a:lnTo>
                  <a:pt x="7264400" y="3902076"/>
                </a:lnTo>
                <a:lnTo>
                  <a:pt x="7207250" y="3867152"/>
                </a:lnTo>
                <a:lnTo>
                  <a:pt x="7146925" y="3838576"/>
                </a:lnTo>
                <a:lnTo>
                  <a:pt x="7083425" y="3813176"/>
                </a:lnTo>
                <a:lnTo>
                  <a:pt x="7016750" y="3797300"/>
                </a:lnTo>
                <a:lnTo>
                  <a:pt x="6946900" y="3787776"/>
                </a:lnTo>
                <a:lnTo>
                  <a:pt x="7010400" y="3825876"/>
                </a:lnTo>
                <a:lnTo>
                  <a:pt x="7073900" y="3870324"/>
                </a:lnTo>
                <a:lnTo>
                  <a:pt x="7131050" y="3921124"/>
                </a:lnTo>
                <a:lnTo>
                  <a:pt x="7188201" y="3971924"/>
                </a:lnTo>
                <a:lnTo>
                  <a:pt x="7239000" y="4029076"/>
                </a:lnTo>
                <a:lnTo>
                  <a:pt x="7286625" y="4092576"/>
                </a:lnTo>
                <a:lnTo>
                  <a:pt x="7327900" y="4156076"/>
                </a:lnTo>
                <a:lnTo>
                  <a:pt x="7366000" y="4222752"/>
                </a:lnTo>
                <a:lnTo>
                  <a:pt x="7394575" y="4292600"/>
                </a:lnTo>
                <a:lnTo>
                  <a:pt x="7407275" y="4327524"/>
                </a:lnTo>
                <a:lnTo>
                  <a:pt x="7416800" y="4362452"/>
                </a:lnTo>
                <a:lnTo>
                  <a:pt x="7423150" y="4397376"/>
                </a:lnTo>
                <a:lnTo>
                  <a:pt x="7429500" y="4435476"/>
                </a:lnTo>
                <a:lnTo>
                  <a:pt x="7432675" y="4470400"/>
                </a:lnTo>
                <a:lnTo>
                  <a:pt x="7435850" y="4508500"/>
                </a:lnTo>
                <a:lnTo>
                  <a:pt x="7435850" y="4543424"/>
                </a:lnTo>
                <a:lnTo>
                  <a:pt x="7432675" y="4581524"/>
                </a:lnTo>
                <a:lnTo>
                  <a:pt x="7426325" y="4619624"/>
                </a:lnTo>
                <a:lnTo>
                  <a:pt x="7416800" y="4654552"/>
                </a:lnTo>
                <a:lnTo>
                  <a:pt x="7407275" y="4692652"/>
                </a:lnTo>
                <a:lnTo>
                  <a:pt x="7394575" y="4727576"/>
                </a:lnTo>
                <a:lnTo>
                  <a:pt x="7375525" y="4762500"/>
                </a:lnTo>
                <a:lnTo>
                  <a:pt x="7356475" y="4800600"/>
                </a:lnTo>
                <a:lnTo>
                  <a:pt x="7315200" y="4864100"/>
                </a:lnTo>
                <a:lnTo>
                  <a:pt x="7267575" y="4921252"/>
                </a:lnTo>
                <a:lnTo>
                  <a:pt x="7219950" y="4968876"/>
                </a:lnTo>
                <a:lnTo>
                  <a:pt x="7172325" y="5013324"/>
                </a:lnTo>
                <a:lnTo>
                  <a:pt x="7118351" y="5048252"/>
                </a:lnTo>
                <a:lnTo>
                  <a:pt x="7064375" y="5076824"/>
                </a:lnTo>
                <a:lnTo>
                  <a:pt x="7007225" y="5102224"/>
                </a:lnTo>
                <a:lnTo>
                  <a:pt x="6946900" y="5121276"/>
                </a:lnTo>
                <a:lnTo>
                  <a:pt x="6889750" y="5137152"/>
                </a:lnTo>
                <a:lnTo>
                  <a:pt x="6826251" y="5146676"/>
                </a:lnTo>
                <a:lnTo>
                  <a:pt x="6762750" y="5153024"/>
                </a:lnTo>
                <a:lnTo>
                  <a:pt x="6699250" y="5153024"/>
                </a:lnTo>
                <a:lnTo>
                  <a:pt x="6632575" y="5153024"/>
                </a:lnTo>
                <a:lnTo>
                  <a:pt x="6565900" y="5149852"/>
                </a:lnTo>
                <a:lnTo>
                  <a:pt x="6499225" y="5143500"/>
                </a:lnTo>
                <a:lnTo>
                  <a:pt x="6432550" y="5133976"/>
                </a:lnTo>
                <a:lnTo>
                  <a:pt x="6292851" y="5111752"/>
                </a:lnTo>
                <a:lnTo>
                  <a:pt x="6153150" y="5083176"/>
                </a:lnTo>
                <a:lnTo>
                  <a:pt x="6013450" y="5057776"/>
                </a:lnTo>
                <a:lnTo>
                  <a:pt x="5873750" y="5029200"/>
                </a:lnTo>
                <a:lnTo>
                  <a:pt x="5737225" y="5010152"/>
                </a:lnTo>
                <a:lnTo>
                  <a:pt x="5670550" y="5003800"/>
                </a:lnTo>
                <a:lnTo>
                  <a:pt x="5603875" y="4997452"/>
                </a:lnTo>
                <a:lnTo>
                  <a:pt x="5537202" y="4997452"/>
                </a:lnTo>
                <a:lnTo>
                  <a:pt x="5473702" y="4997452"/>
                </a:lnTo>
                <a:lnTo>
                  <a:pt x="5410202" y="5003800"/>
                </a:lnTo>
                <a:lnTo>
                  <a:pt x="5346701" y="5010152"/>
                </a:lnTo>
                <a:lnTo>
                  <a:pt x="5194302" y="5006976"/>
                </a:lnTo>
                <a:lnTo>
                  <a:pt x="5048252" y="5013324"/>
                </a:lnTo>
                <a:lnTo>
                  <a:pt x="4914902" y="5022852"/>
                </a:lnTo>
                <a:lnTo>
                  <a:pt x="4791076" y="5041900"/>
                </a:lnTo>
                <a:lnTo>
                  <a:pt x="4676777" y="5064124"/>
                </a:lnTo>
                <a:lnTo>
                  <a:pt x="4568827" y="5092700"/>
                </a:lnTo>
                <a:lnTo>
                  <a:pt x="4473576" y="5124452"/>
                </a:lnTo>
                <a:lnTo>
                  <a:pt x="4381501" y="5159376"/>
                </a:lnTo>
                <a:lnTo>
                  <a:pt x="4302127" y="5194300"/>
                </a:lnTo>
                <a:lnTo>
                  <a:pt x="4229102" y="5235576"/>
                </a:lnTo>
                <a:lnTo>
                  <a:pt x="4162427" y="5276852"/>
                </a:lnTo>
                <a:lnTo>
                  <a:pt x="4102102" y="5318124"/>
                </a:lnTo>
                <a:lnTo>
                  <a:pt x="4048126" y="5362576"/>
                </a:lnTo>
                <a:lnTo>
                  <a:pt x="4000502" y="5403852"/>
                </a:lnTo>
                <a:lnTo>
                  <a:pt x="3962401" y="5445124"/>
                </a:lnTo>
                <a:lnTo>
                  <a:pt x="3924301" y="5483224"/>
                </a:lnTo>
                <a:lnTo>
                  <a:pt x="3895725" y="5521324"/>
                </a:lnTo>
                <a:lnTo>
                  <a:pt x="3870326" y="5553076"/>
                </a:lnTo>
                <a:lnTo>
                  <a:pt x="3835401" y="5610224"/>
                </a:lnTo>
                <a:lnTo>
                  <a:pt x="3816351" y="5648324"/>
                </a:lnTo>
                <a:lnTo>
                  <a:pt x="3810001" y="5661024"/>
                </a:lnTo>
                <a:lnTo>
                  <a:pt x="3790951" y="5692776"/>
                </a:lnTo>
                <a:lnTo>
                  <a:pt x="3771900" y="5721352"/>
                </a:lnTo>
                <a:lnTo>
                  <a:pt x="3752851" y="5746752"/>
                </a:lnTo>
                <a:lnTo>
                  <a:pt x="3733801" y="5772152"/>
                </a:lnTo>
                <a:lnTo>
                  <a:pt x="3711575" y="5791200"/>
                </a:lnTo>
                <a:lnTo>
                  <a:pt x="3692525" y="5807076"/>
                </a:lnTo>
                <a:lnTo>
                  <a:pt x="3670300" y="5822952"/>
                </a:lnTo>
                <a:lnTo>
                  <a:pt x="3648076" y="5835652"/>
                </a:lnTo>
                <a:lnTo>
                  <a:pt x="3625851" y="5845176"/>
                </a:lnTo>
                <a:lnTo>
                  <a:pt x="3603626" y="5851524"/>
                </a:lnTo>
                <a:lnTo>
                  <a:pt x="3559176" y="5864224"/>
                </a:lnTo>
                <a:lnTo>
                  <a:pt x="3517901" y="5867400"/>
                </a:lnTo>
                <a:lnTo>
                  <a:pt x="3473450" y="5867400"/>
                </a:lnTo>
                <a:lnTo>
                  <a:pt x="3435350" y="5861052"/>
                </a:lnTo>
                <a:lnTo>
                  <a:pt x="3397250" y="5851524"/>
                </a:lnTo>
                <a:lnTo>
                  <a:pt x="3362325" y="5842000"/>
                </a:lnTo>
                <a:lnTo>
                  <a:pt x="3333751" y="5829300"/>
                </a:lnTo>
                <a:lnTo>
                  <a:pt x="3292476" y="5810252"/>
                </a:lnTo>
                <a:lnTo>
                  <a:pt x="3276601" y="5800724"/>
                </a:lnTo>
                <a:lnTo>
                  <a:pt x="3254375" y="5762624"/>
                </a:lnTo>
                <a:lnTo>
                  <a:pt x="3238500" y="5724524"/>
                </a:lnTo>
                <a:lnTo>
                  <a:pt x="3225801" y="5686424"/>
                </a:lnTo>
                <a:lnTo>
                  <a:pt x="3222626" y="5645152"/>
                </a:lnTo>
                <a:lnTo>
                  <a:pt x="3222626" y="5603876"/>
                </a:lnTo>
                <a:lnTo>
                  <a:pt x="3228975" y="5565776"/>
                </a:lnTo>
                <a:lnTo>
                  <a:pt x="3238500" y="5524500"/>
                </a:lnTo>
                <a:lnTo>
                  <a:pt x="3254375" y="5483224"/>
                </a:lnTo>
                <a:lnTo>
                  <a:pt x="3273426" y="5441952"/>
                </a:lnTo>
                <a:lnTo>
                  <a:pt x="3295650" y="5403852"/>
                </a:lnTo>
                <a:lnTo>
                  <a:pt x="3321050" y="5362576"/>
                </a:lnTo>
                <a:lnTo>
                  <a:pt x="3349626" y="5324476"/>
                </a:lnTo>
                <a:lnTo>
                  <a:pt x="3378200" y="5286376"/>
                </a:lnTo>
                <a:lnTo>
                  <a:pt x="3409951" y="5248276"/>
                </a:lnTo>
                <a:lnTo>
                  <a:pt x="3479800" y="5175252"/>
                </a:lnTo>
                <a:lnTo>
                  <a:pt x="3552826" y="5108576"/>
                </a:lnTo>
                <a:lnTo>
                  <a:pt x="3625851" y="5048252"/>
                </a:lnTo>
                <a:lnTo>
                  <a:pt x="3695700" y="4994276"/>
                </a:lnTo>
                <a:lnTo>
                  <a:pt x="3762375" y="4946652"/>
                </a:lnTo>
                <a:lnTo>
                  <a:pt x="3860801" y="4876800"/>
                </a:lnTo>
                <a:lnTo>
                  <a:pt x="3898901" y="4854576"/>
                </a:lnTo>
                <a:lnTo>
                  <a:pt x="3854450" y="4864100"/>
                </a:lnTo>
                <a:lnTo>
                  <a:pt x="3806826" y="4876800"/>
                </a:lnTo>
                <a:lnTo>
                  <a:pt x="3762375" y="4892676"/>
                </a:lnTo>
                <a:lnTo>
                  <a:pt x="3714751" y="4914900"/>
                </a:lnTo>
                <a:lnTo>
                  <a:pt x="3670300" y="4937124"/>
                </a:lnTo>
                <a:lnTo>
                  <a:pt x="3625851" y="4965700"/>
                </a:lnTo>
                <a:lnTo>
                  <a:pt x="3581400" y="4994276"/>
                </a:lnTo>
                <a:lnTo>
                  <a:pt x="3536951" y="5026024"/>
                </a:lnTo>
                <a:lnTo>
                  <a:pt x="3451225" y="5092700"/>
                </a:lnTo>
                <a:lnTo>
                  <a:pt x="3368676" y="5168900"/>
                </a:lnTo>
                <a:lnTo>
                  <a:pt x="3292476" y="5245100"/>
                </a:lnTo>
                <a:lnTo>
                  <a:pt x="3219451" y="5324476"/>
                </a:lnTo>
                <a:lnTo>
                  <a:pt x="3149601" y="5403852"/>
                </a:lnTo>
                <a:lnTo>
                  <a:pt x="3089276" y="5480052"/>
                </a:lnTo>
                <a:lnTo>
                  <a:pt x="3035301" y="5549900"/>
                </a:lnTo>
                <a:lnTo>
                  <a:pt x="2990850" y="5610224"/>
                </a:lnTo>
                <a:lnTo>
                  <a:pt x="2927351" y="5702300"/>
                </a:lnTo>
                <a:lnTo>
                  <a:pt x="2901950" y="5737224"/>
                </a:lnTo>
                <a:lnTo>
                  <a:pt x="2838450" y="5727700"/>
                </a:lnTo>
                <a:lnTo>
                  <a:pt x="2778126" y="5718176"/>
                </a:lnTo>
                <a:lnTo>
                  <a:pt x="2670176" y="5692776"/>
                </a:lnTo>
                <a:lnTo>
                  <a:pt x="2578101" y="5667376"/>
                </a:lnTo>
                <a:lnTo>
                  <a:pt x="2505075" y="5641976"/>
                </a:lnTo>
                <a:lnTo>
                  <a:pt x="2447926" y="5616576"/>
                </a:lnTo>
                <a:lnTo>
                  <a:pt x="2406650" y="5597524"/>
                </a:lnTo>
                <a:lnTo>
                  <a:pt x="2371725" y="5578476"/>
                </a:lnTo>
                <a:lnTo>
                  <a:pt x="2339976" y="5549900"/>
                </a:lnTo>
                <a:lnTo>
                  <a:pt x="2317751" y="5521324"/>
                </a:lnTo>
                <a:lnTo>
                  <a:pt x="2298701" y="5495924"/>
                </a:lnTo>
                <a:lnTo>
                  <a:pt x="2286001" y="5470524"/>
                </a:lnTo>
                <a:lnTo>
                  <a:pt x="2279650" y="5448300"/>
                </a:lnTo>
                <a:lnTo>
                  <a:pt x="2276475" y="5429252"/>
                </a:lnTo>
                <a:lnTo>
                  <a:pt x="2279650" y="5410200"/>
                </a:lnTo>
                <a:lnTo>
                  <a:pt x="2282826" y="5394324"/>
                </a:lnTo>
                <a:lnTo>
                  <a:pt x="2289176" y="5381624"/>
                </a:lnTo>
                <a:lnTo>
                  <a:pt x="2298701" y="5368924"/>
                </a:lnTo>
                <a:lnTo>
                  <a:pt x="2314575" y="5349876"/>
                </a:lnTo>
                <a:lnTo>
                  <a:pt x="2327276" y="5337176"/>
                </a:lnTo>
                <a:lnTo>
                  <a:pt x="2333625" y="5334000"/>
                </a:lnTo>
                <a:lnTo>
                  <a:pt x="2384425" y="5302252"/>
                </a:lnTo>
                <a:lnTo>
                  <a:pt x="2432051" y="5273676"/>
                </a:lnTo>
                <a:lnTo>
                  <a:pt x="2473326" y="5241924"/>
                </a:lnTo>
                <a:lnTo>
                  <a:pt x="2514600" y="5210176"/>
                </a:lnTo>
                <a:lnTo>
                  <a:pt x="2581276" y="5153024"/>
                </a:lnTo>
                <a:lnTo>
                  <a:pt x="2635251" y="5099052"/>
                </a:lnTo>
                <a:lnTo>
                  <a:pt x="2676526" y="5051424"/>
                </a:lnTo>
                <a:lnTo>
                  <a:pt x="2708276" y="5016500"/>
                </a:lnTo>
                <a:lnTo>
                  <a:pt x="2730501" y="4984752"/>
                </a:lnTo>
                <a:lnTo>
                  <a:pt x="2765426" y="4924424"/>
                </a:lnTo>
                <a:lnTo>
                  <a:pt x="2794000" y="4870452"/>
                </a:lnTo>
                <a:lnTo>
                  <a:pt x="2813050" y="4816476"/>
                </a:lnTo>
                <a:lnTo>
                  <a:pt x="2822576" y="4772024"/>
                </a:lnTo>
                <a:lnTo>
                  <a:pt x="2825750" y="4727576"/>
                </a:lnTo>
                <a:lnTo>
                  <a:pt x="2822576" y="4689476"/>
                </a:lnTo>
                <a:lnTo>
                  <a:pt x="2813050" y="4654552"/>
                </a:lnTo>
                <a:lnTo>
                  <a:pt x="2803526" y="4622800"/>
                </a:lnTo>
                <a:lnTo>
                  <a:pt x="2787650" y="4594224"/>
                </a:lnTo>
                <a:lnTo>
                  <a:pt x="2774950" y="4572000"/>
                </a:lnTo>
                <a:lnTo>
                  <a:pt x="2759076" y="4549776"/>
                </a:lnTo>
                <a:lnTo>
                  <a:pt x="2743201" y="4533900"/>
                </a:lnTo>
                <a:lnTo>
                  <a:pt x="2717800" y="4514852"/>
                </a:lnTo>
                <a:lnTo>
                  <a:pt x="2705100" y="4505324"/>
                </a:lnTo>
                <a:lnTo>
                  <a:pt x="2698750" y="4492624"/>
                </a:lnTo>
                <a:lnTo>
                  <a:pt x="2695575" y="4476752"/>
                </a:lnTo>
                <a:lnTo>
                  <a:pt x="2695575" y="4464052"/>
                </a:lnTo>
                <a:lnTo>
                  <a:pt x="2698750" y="4451352"/>
                </a:lnTo>
                <a:lnTo>
                  <a:pt x="2701925" y="4438652"/>
                </a:lnTo>
                <a:lnTo>
                  <a:pt x="2711451" y="4425952"/>
                </a:lnTo>
                <a:lnTo>
                  <a:pt x="2724151" y="4413252"/>
                </a:lnTo>
                <a:lnTo>
                  <a:pt x="2736850" y="4400552"/>
                </a:lnTo>
                <a:lnTo>
                  <a:pt x="2771775" y="4378324"/>
                </a:lnTo>
                <a:lnTo>
                  <a:pt x="2813050" y="4359276"/>
                </a:lnTo>
                <a:lnTo>
                  <a:pt x="2857501" y="4340224"/>
                </a:lnTo>
                <a:lnTo>
                  <a:pt x="2905125" y="4324352"/>
                </a:lnTo>
                <a:lnTo>
                  <a:pt x="3003551" y="4295776"/>
                </a:lnTo>
                <a:lnTo>
                  <a:pt x="3095625" y="4276724"/>
                </a:lnTo>
                <a:lnTo>
                  <a:pt x="3184526" y="4257676"/>
                </a:lnTo>
                <a:lnTo>
                  <a:pt x="3419476" y="4276724"/>
                </a:lnTo>
                <a:lnTo>
                  <a:pt x="3635375" y="4289424"/>
                </a:lnTo>
                <a:lnTo>
                  <a:pt x="3829051" y="4298952"/>
                </a:lnTo>
                <a:lnTo>
                  <a:pt x="3997326" y="4305300"/>
                </a:lnTo>
                <a:lnTo>
                  <a:pt x="4146551" y="4308476"/>
                </a:lnTo>
                <a:lnTo>
                  <a:pt x="4273551" y="4305300"/>
                </a:lnTo>
                <a:lnTo>
                  <a:pt x="4381501" y="4305300"/>
                </a:lnTo>
                <a:lnTo>
                  <a:pt x="4467225" y="4302124"/>
                </a:lnTo>
                <a:lnTo>
                  <a:pt x="4581526" y="4292600"/>
                </a:lnTo>
                <a:lnTo>
                  <a:pt x="4616451" y="4289424"/>
                </a:lnTo>
                <a:lnTo>
                  <a:pt x="4670427" y="4289424"/>
                </a:lnTo>
                <a:lnTo>
                  <a:pt x="4718052" y="4283076"/>
                </a:lnTo>
                <a:lnTo>
                  <a:pt x="4768852" y="4276724"/>
                </a:lnTo>
                <a:lnTo>
                  <a:pt x="4816475" y="4264024"/>
                </a:lnTo>
                <a:lnTo>
                  <a:pt x="4860927" y="4251324"/>
                </a:lnTo>
                <a:lnTo>
                  <a:pt x="4908550" y="4235452"/>
                </a:lnTo>
                <a:lnTo>
                  <a:pt x="4953002" y="4216400"/>
                </a:lnTo>
                <a:lnTo>
                  <a:pt x="4997451" y="4194176"/>
                </a:lnTo>
                <a:lnTo>
                  <a:pt x="5083176" y="4146552"/>
                </a:lnTo>
                <a:lnTo>
                  <a:pt x="5168902" y="4092576"/>
                </a:lnTo>
                <a:lnTo>
                  <a:pt x="5254626" y="4035424"/>
                </a:lnTo>
                <a:lnTo>
                  <a:pt x="5337177" y="3978276"/>
                </a:lnTo>
                <a:lnTo>
                  <a:pt x="5321302" y="4022724"/>
                </a:lnTo>
                <a:lnTo>
                  <a:pt x="5305426" y="4067176"/>
                </a:lnTo>
                <a:lnTo>
                  <a:pt x="5289551" y="4111624"/>
                </a:lnTo>
                <a:lnTo>
                  <a:pt x="5267326" y="4149724"/>
                </a:lnTo>
                <a:lnTo>
                  <a:pt x="5245102" y="4191000"/>
                </a:lnTo>
                <a:lnTo>
                  <a:pt x="5219701" y="4225924"/>
                </a:lnTo>
                <a:lnTo>
                  <a:pt x="5194302" y="4264024"/>
                </a:lnTo>
                <a:lnTo>
                  <a:pt x="5165726" y="4298952"/>
                </a:lnTo>
                <a:lnTo>
                  <a:pt x="5108575" y="4362452"/>
                </a:lnTo>
                <a:lnTo>
                  <a:pt x="5048252" y="4425952"/>
                </a:lnTo>
                <a:lnTo>
                  <a:pt x="4924426" y="4546600"/>
                </a:lnTo>
                <a:lnTo>
                  <a:pt x="4965701" y="4552952"/>
                </a:lnTo>
                <a:lnTo>
                  <a:pt x="5006976" y="4562476"/>
                </a:lnTo>
                <a:lnTo>
                  <a:pt x="5086351" y="4584700"/>
                </a:lnTo>
                <a:lnTo>
                  <a:pt x="5165726" y="4606924"/>
                </a:lnTo>
                <a:lnTo>
                  <a:pt x="5241926" y="4629152"/>
                </a:lnTo>
                <a:lnTo>
                  <a:pt x="5318127" y="4648200"/>
                </a:lnTo>
                <a:lnTo>
                  <a:pt x="5356226" y="4654552"/>
                </a:lnTo>
                <a:lnTo>
                  <a:pt x="5397502" y="4657724"/>
                </a:lnTo>
                <a:lnTo>
                  <a:pt x="5435601" y="4657724"/>
                </a:lnTo>
                <a:lnTo>
                  <a:pt x="5476875" y="4657724"/>
                </a:lnTo>
                <a:lnTo>
                  <a:pt x="5514977" y="4651376"/>
                </a:lnTo>
                <a:lnTo>
                  <a:pt x="5556252" y="4641852"/>
                </a:lnTo>
                <a:lnTo>
                  <a:pt x="5524501" y="4581524"/>
                </a:lnTo>
                <a:lnTo>
                  <a:pt x="5495927" y="4521200"/>
                </a:lnTo>
                <a:lnTo>
                  <a:pt x="5476875" y="4460876"/>
                </a:lnTo>
                <a:lnTo>
                  <a:pt x="5457826" y="4403724"/>
                </a:lnTo>
                <a:lnTo>
                  <a:pt x="5448302" y="4343400"/>
                </a:lnTo>
                <a:lnTo>
                  <a:pt x="5441951" y="4283076"/>
                </a:lnTo>
                <a:lnTo>
                  <a:pt x="5438777" y="4222752"/>
                </a:lnTo>
                <a:lnTo>
                  <a:pt x="5441951" y="4165600"/>
                </a:lnTo>
                <a:lnTo>
                  <a:pt x="5448302" y="4105276"/>
                </a:lnTo>
                <a:lnTo>
                  <a:pt x="5457826" y="4048124"/>
                </a:lnTo>
                <a:lnTo>
                  <a:pt x="5473702" y="3990976"/>
                </a:lnTo>
                <a:lnTo>
                  <a:pt x="5492750" y="3933824"/>
                </a:lnTo>
                <a:lnTo>
                  <a:pt x="5514977" y="3876676"/>
                </a:lnTo>
                <a:lnTo>
                  <a:pt x="5540377" y="3822700"/>
                </a:lnTo>
                <a:lnTo>
                  <a:pt x="5568951" y="3768724"/>
                </a:lnTo>
                <a:lnTo>
                  <a:pt x="5603875" y="3714752"/>
                </a:lnTo>
                <a:lnTo>
                  <a:pt x="5638800" y="3663952"/>
                </a:lnTo>
                <a:lnTo>
                  <a:pt x="5676900" y="3613152"/>
                </a:lnTo>
                <a:lnTo>
                  <a:pt x="5715000" y="3562352"/>
                </a:lnTo>
                <a:lnTo>
                  <a:pt x="5759451" y="3514724"/>
                </a:lnTo>
                <a:lnTo>
                  <a:pt x="5803900" y="3470276"/>
                </a:lnTo>
                <a:lnTo>
                  <a:pt x="5851525" y="3425824"/>
                </a:lnTo>
                <a:lnTo>
                  <a:pt x="5899150" y="3384552"/>
                </a:lnTo>
                <a:lnTo>
                  <a:pt x="5949950" y="3343276"/>
                </a:lnTo>
                <a:lnTo>
                  <a:pt x="6000750" y="3305176"/>
                </a:lnTo>
                <a:lnTo>
                  <a:pt x="6054725" y="3267076"/>
                </a:lnTo>
                <a:lnTo>
                  <a:pt x="6108700" y="3235324"/>
                </a:lnTo>
                <a:lnTo>
                  <a:pt x="6165850" y="3203576"/>
                </a:lnTo>
                <a:lnTo>
                  <a:pt x="6219825" y="3171824"/>
                </a:lnTo>
                <a:lnTo>
                  <a:pt x="6276975" y="3146424"/>
                </a:lnTo>
                <a:lnTo>
                  <a:pt x="6334126" y="3121024"/>
                </a:lnTo>
                <a:lnTo>
                  <a:pt x="6391275" y="3098800"/>
                </a:lnTo>
                <a:lnTo>
                  <a:pt x="6483350" y="3070224"/>
                </a:lnTo>
                <a:lnTo>
                  <a:pt x="6575425" y="3048000"/>
                </a:lnTo>
                <a:lnTo>
                  <a:pt x="6661150" y="3028952"/>
                </a:lnTo>
                <a:lnTo>
                  <a:pt x="6746875" y="3016252"/>
                </a:lnTo>
                <a:lnTo>
                  <a:pt x="6829425" y="3006724"/>
                </a:lnTo>
                <a:lnTo>
                  <a:pt x="6908800" y="3000376"/>
                </a:lnTo>
                <a:lnTo>
                  <a:pt x="6981825" y="2997200"/>
                </a:lnTo>
                <a:close/>
                <a:moveTo>
                  <a:pt x="7826375" y="1866900"/>
                </a:moveTo>
                <a:lnTo>
                  <a:pt x="7940675" y="1870076"/>
                </a:lnTo>
                <a:lnTo>
                  <a:pt x="8064500" y="1879600"/>
                </a:lnTo>
                <a:lnTo>
                  <a:pt x="8096250" y="1882776"/>
                </a:lnTo>
                <a:lnTo>
                  <a:pt x="8185151" y="1889124"/>
                </a:lnTo>
                <a:lnTo>
                  <a:pt x="8245475" y="1898652"/>
                </a:lnTo>
                <a:lnTo>
                  <a:pt x="8318501" y="1908176"/>
                </a:lnTo>
                <a:lnTo>
                  <a:pt x="8401050" y="1927224"/>
                </a:lnTo>
                <a:lnTo>
                  <a:pt x="8489950" y="1946276"/>
                </a:lnTo>
                <a:lnTo>
                  <a:pt x="8588375" y="1974852"/>
                </a:lnTo>
                <a:lnTo>
                  <a:pt x="8689975" y="2006600"/>
                </a:lnTo>
                <a:lnTo>
                  <a:pt x="8794750" y="2047876"/>
                </a:lnTo>
                <a:lnTo>
                  <a:pt x="8905875" y="2095500"/>
                </a:lnTo>
                <a:lnTo>
                  <a:pt x="9017000" y="2152652"/>
                </a:lnTo>
                <a:lnTo>
                  <a:pt x="9074150" y="2184400"/>
                </a:lnTo>
                <a:lnTo>
                  <a:pt x="9131300" y="2219324"/>
                </a:lnTo>
                <a:lnTo>
                  <a:pt x="9188450" y="2254252"/>
                </a:lnTo>
                <a:lnTo>
                  <a:pt x="9242425" y="2295524"/>
                </a:lnTo>
                <a:lnTo>
                  <a:pt x="9299575" y="2336800"/>
                </a:lnTo>
                <a:lnTo>
                  <a:pt x="9353550" y="2381252"/>
                </a:lnTo>
                <a:lnTo>
                  <a:pt x="9344026" y="2393952"/>
                </a:lnTo>
                <a:lnTo>
                  <a:pt x="9328150" y="2406652"/>
                </a:lnTo>
                <a:lnTo>
                  <a:pt x="9305925" y="2425700"/>
                </a:lnTo>
                <a:lnTo>
                  <a:pt x="9277351" y="2444752"/>
                </a:lnTo>
                <a:lnTo>
                  <a:pt x="9239250" y="2470152"/>
                </a:lnTo>
                <a:lnTo>
                  <a:pt x="9194800" y="2492376"/>
                </a:lnTo>
                <a:lnTo>
                  <a:pt x="9137651" y="2514600"/>
                </a:lnTo>
                <a:lnTo>
                  <a:pt x="9074150" y="2540000"/>
                </a:lnTo>
                <a:lnTo>
                  <a:pt x="9001125" y="2559052"/>
                </a:lnTo>
                <a:lnTo>
                  <a:pt x="8918575" y="2574924"/>
                </a:lnTo>
                <a:lnTo>
                  <a:pt x="8823325" y="2590800"/>
                </a:lnTo>
                <a:lnTo>
                  <a:pt x="8718550" y="2597152"/>
                </a:lnTo>
                <a:lnTo>
                  <a:pt x="8601075" y="2600324"/>
                </a:lnTo>
                <a:lnTo>
                  <a:pt x="8470900" y="2593976"/>
                </a:lnTo>
                <a:lnTo>
                  <a:pt x="8328025" y="2581276"/>
                </a:lnTo>
                <a:lnTo>
                  <a:pt x="8350250" y="2600324"/>
                </a:lnTo>
                <a:lnTo>
                  <a:pt x="8413750" y="2657476"/>
                </a:lnTo>
                <a:lnTo>
                  <a:pt x="8458200" y="2698752"/>
                </a:lnTo>
                <a:lnTo>
                  <a:pt x="8505825" y="2749552"/>
                </a:lnTo>
                <a:lnTo>
                  <a:pt x="8559800" y="2806700"/>
                </a:lnTo>
                <a:lnTo>
                  <a:pt x="8616950" y="2876552"/>
                </a:lnTo>
                <a:lnTo>
                  <a:pt x="8674100" y="2949576"/>
                </a:lnTo>
                <a:lnTo>
                  <a:pt x="8734425" y="3035300"/>
                </a:lnTo>
                <a:lnTo>
                  <a:pt x="8794750" y="3124200"/>
                </a:lnTo>
                <a:lnTo>
                  <a:pt x="8848725" y="3225800"/>
                </a:lnTo>
                <a:lnTo>
                  <a:pt x="8902700" y="3330576"/>
                </a:lnTo>
                <a:lnTo>
                  <a:pt x="8928100" y="3387724"/>
                </a:lnTo>
                <a:lnTo>
                  <a:pt x="8950326" y="3444876"/>
                </a:lnTo>
                <a:lnTo>
                  <a:pt x="8972550" y="3502024"/>
                </a:lnTo>
                <a:lnTo>
                  <a:pt x="8994775" y="3562352"/>
                </a:lnTo>
                <a:lnTo>
                  <a:pt x="9010651" y="3625852"/>
                </a:lnTo>
                <a:lnTo>
                  <a:pt x="9026525" y="3689352"/>
                </a:lnTo>
                <a:lnTo>
                  <a:pt x="9010651" y="3660776"/>
                </a:lnTo>
                <a:lnTo>
                  <a:pt x="8963025" y="3575052"/>
                </a:lnTo>
                <a:lnTo>
                  <a:pt x="8886825" y="3451224"/>
                </a:lnTo>
                <a:lnTo>
                  <a:pt x="8839200" y="3381376"/>
                </a:lnTo>
                <a:lnTo>
                  <a:pt x="8785225" y="3305176"/>
                </a:lnTo>
                <a:lnTo>
                  <a:pt x="8724901" y="3228976"/>
                </a:lnTo>
                <a:lnTo>
                  <a:pt x="8661400" y="3152776"/>
                </a:lnTo>
                <a:lnTo>
                  <a:pt x="8591551" y="3076576"/>
                </a:lnTo>
                <a:lnTo>
                  <a:pt x="8518525" y="3003552"/>
                </a:lnTo>
                <a:lnTo>
                  <a:pt x="8439150" y="2940052"/>
                </a:lnTo>
                <a:lnTo>
                  <a:pt x="8397875" y="2908300"/>
                </a:lnTo>
                <a:lnTo>
                  <a:pt x="8356600" y="2879724"/>
                </a:lnTo>
                <a:lnTo>
                  <a:pt x="8315325" y="2854324"/>
                </a:lnTo>
                <a:lnTo>
                  <a:pt x="8274051" y="2828924"/>
                </a:lnTo>
                <a:lnTo>
                  <a:pt x="8229600" y="2809876"/>
                </a:lnTo>
                <a:lnTo>
                  <a:pt x="8185151" y="2790824"/>
                </a:lnTo>
                <a:lnTo>
                  <a:pt x="8156575" y="2778124"/>
                </a:lnTo>
                <a:lnTo>
                  <a:pt x="8070850" y="2743200"/>
                </a:lnTo>
                <a:lnTo>
                  <a:pt x="8007350" y="2720976"/>
                </a:lnTo>
                <a:lnTo>
                  <a:pt x="7934325" y="2695576"/>
                </a:lnTo>
                <a:lnTo>
                  <a:pt x="7848600" y="2673352"/>
                </a:lnTo>
                <a:lnTo>
                  <a:pt x="7750175" y="2651124"/>
                </a:lnTo>
                <a:lnTo>
                  <a:pt x="7639051" y="2632076"/>
                </a:lnTo>
                <a:lnTo>
                  <a:pt x="7521575" y="2613024"/>
                </a:lnTo>
                <a:lnTo>
                  <a:pt x="7391400" y="2603500"/>
                </a:lnTo>
                <a:lnTo>
                  <a:pt x="7251701" y="2597152"/>
                </a:lnTo>
                <a:lnTo>
                  <a:pt x="7181850" y="2597152"/>
                </a:lnTo>
                <a:lnTo>
                  <a:pt x="7105650" y="2600324"/>
                </a:lnTo>
                <a:lnTo>
                  <a:pt x="7029451" y="2603500"/>
                </a:lnTo>
                <a:lnTo>
                  <a:pt x="6950075" y="2609852"/>
                </a:lnTo>
                <a:lnTo>
                  <a:pt x="6870701" y="2619376"/>
                </a:lnTo>
                <a:lnTo>
                  <a:pt x="6788150" y="2632076"/>
                </a:lnTo>
                <a:lnTo>
                  <a:pt x="6702425" y="2647952"/>
                </a:lnTo>
                <a:lnTo>
                  <a:pt x="6616700" y="2663824"/>
                </a:lnTo>
                <a:lnTo>
                  <a:pt x="6515100" y="2682876"/>
                </a:lnTo>
                <a:lnTo>
                  <a:pt x="6400801" y="2701924"/>
                </a:lnTo>
                <a:lnTo>
                  <a:pt x="6251575" y="2724152"/>
                </a:lnTo>
                <a:lnTo>
                  <a:pt x="6083300" y="2746376"/>
                </a:lnTo>
                <a:lnTo>
                  <a:pt x="5899150" y="2762252"/>
                </a:lnTo>
                <a:lnTo>
                  <a:pt x="5803900" y="2768600"/>
                </a:lnTo>
                <a:lnTo>
                  <a:pt x="5705475" y="2771776"/>
                </a:lnTo>
                <a:lnTo>
                  <a:pt x="5610225" y="2771776"/>
                </a:lnTo>
                <a:lnTo>
                  <a:pt x="5518152" y="2768600"/>
                </a:lnTo>
                <a:lnTo>
                  <a:pt x="5514977" y="2797176"/>
                </a:lnTo>
                <a:lnTo>
                  <a:pt x="5511802" y="2828924"/>
                </a:lnTo>
                <a:lnTo>
                  <a:pt x="5505452" y="2867024"/>
                </a:lnTo>
                <a:lnTo>
                  <a:pt x="5495927" y="2905124"/>
                </a:lnTo>
                <a:lnTo>
                  <a:pt x="5480052" y="2943224"/>
                </a:lnTo>
                <a:lnTo>
                  <a:pt x="5470527" y="2962276"/>
                </a:lnTo>
                <a:lnTo>
                  <a:pt x="5457826" y="2978152"/>
                </a:lnTo>
                <a:lnTo>
                  <a:pt x="5445127" y="2990852"/>
                </a:lnTo>
                <a:lnTo>
                  <a:pt x="5429252" y="3003552"/>
                </a:lnTo>
                <a:lnTo>
                  <a:pt x="5422902" y="3009900"/>
                </a:lnTo>
                <a:lnTo>
                  <a:pt x="5407027" y="3022600"/>
                </a:lnTo>
                <a:lnTo>
                  <a:pt x="5378452" y="3041652"/>
                </a:lnTo>
                <a:lnTo>
                  <a:pt x="5340352" y="3057524"/>
                </a:lnTo>
                <a:lnTo>
                  <a:pt x="5318127" y="3067052"/>
                </a:lnTo>
                <a:lnTo>
                  <a:pt x="5292725" y="3070224"/>
                </a:lnTo>
                <a:lnTo>
                  <a:pt x="5264151" y="3076576"/>
                </a:lnTo>
                <a:lnTo>
                  <a:pt x="5232401" y="3076576"/>
                </a:lnTo>
                <a:lnTo>
                  <a:pt x="5200650" y="3073400"/>
                </a:lnTo>
                <a:lnTo>
                  <a:pt x="5162551" y="3067052"/>
                </a:lnTo>
                <a:lnTo>
                  <a:pt x="5124451" y="3057524"/>
                </a:lnTo>
                <a:lnTo>
                  <a:pt x="5083176" y="3041652"/>
                </a:lnTo>
                <a:lnTo>
                  <a:pt x="5064126" y="3032124"/>
                </a:lnTo>
                <a:lnTo>
                  <a:pt x="5041901" y="3019424"/>
                </a:lnTo>
                <a:lnTo>
                  <a:pt x="5019677" y="2997200"/>
                </a:lnTo>
                <a:lnTo>
                  <a:pt x="5006976" y="2981324"/>
                </a:lnTo>
                <a:lnTo>
                  <a:pt x="4997451" y="2965452"/>
                </a:lnTo>
                <a:lnTo>
                  <a:pt x="4984752" y="2946400"/>
                </a:lnTo>
                <a:lnTo>
                  <a:pt x="4975226" y="2927352"/>
                </a:lnTo>
                <a:lnTo>
                  <a:pt x="4968877" y="2901952"/>
                </a:lnTo>
                <a:lnTo>
                  <a:pt x="4962526" y="2873376"/>
                </a:lnTo>
                <a:lnTo>
                  <a:pt x="4959350" y="2844800"/>
                </a:lnTo>
                <a:lnTo>
                  <a:pt x="4959350" y="2809876"/>
                </a:lnTo>
                <a:lnTo>
                  <a:pt x="4956176" y="2784476"/>
                </a:lnTo>
                <a:lnTo>
                  <a:pt x="4956176" y="2755900"/>
                </a:lnTo>
                <a:lnTo>
                  <a:pt x="4959350" y="2724152"/>
                </a:lnTo>
                <a:lnTo>
                  <a:pt x="4965701" y="2689224"/>
                </a:lnTo>
                <a:lnTo>
                  <a:pt x="4972051" y="2670176"/>
                </a:lnTo>
                <a:lnTo>
                  <a:pt x="4981576" y="2651124"/>
                </a:lnTo>
                <a:lnTo>
                  <a:pt x="4991101" y="2632076"/>
                </a:lnTo>
                <a:lnTo>
                  <a:pt x="5003802" y="2616200"/>
                </a:lnTo>
                <a:lnTo>
                  <a:pt x="5019677" y="2600324"/>
                </a:lnTo>
                <a:lnTo>
                  <a:pt x="5035551" y="2587624"/>
                </a:lnTo>
                <a:lnTo>
                  <a:pt x="4959350" y="2536824"/>
                </a:lnTo>
                <a:lnTo>
                  <a:pt x="4953002" y="2540000"/>
                </a:lnTo>
                <a:lnTo>
                  <a:pt x="4937127" y="2549524"/>
                </a:lnTo>
                <a:lnTo>
                  <a:pt x="4918077" y="2568576"/>
                </a:lnTo>
                <a:lnTo>
                  <a:pt x="4895852" y="2597152"/>
                </a:lnTo>
                <a:lnTo>
                  <a:pt x="4883151" y="2616200"/>
                </a:lnTo>
                <a:lnTo>
                  <a:pt x="4870451" y="2638424"/>
                </a:lnTo>
                <a:lnTo>
                  <a:pt x="4860927" y="2663824"/>
                </a:lnTo>
                <a:lnTo>
                  <a:pt x="4848226" y="2692400"/>
                </a:lnTo>
                <a:lnTo>
                  <a:pt x="4841876" y="2724152"/>
                </a:lnTo>
                <a:lnTo>
                  <a:pt x="4835527" y="2759076"/>
                </a:lnTo>
                <a:lnTo>
                  <a:pt x="4829176" y="2800352"/>
                </a:lnTo>
                <a:lnTo>
                  <a:pt x="4829176" y="2844800"/>
                </a:lnTo>
                <a:lnTo>
                  <a:pt x="4829176" y="2860676"/>
                </a:lnTo>
                <a:lnTo>
                  <a:pt x="4832351" y="2898776"/>
                </a:lnTo>
                <a:lnTo>
                  <a:pt x="4835527" y="2927352"/>
                </a:lnTo>
                <a:lnTo>
                  <a:pt x="4845052" y="2955924"/>
                </a:lnTo>
                <a:lnTo>
                  <a:pt x="4854576" y="2987676"/>
                </a:lnTo>
                <a:lnTo>
                  <a:pt x="4867275" y="3019424"/>
                </a:lnTo>
                <a:lnTo>
                  <a:pt x="4886326" y="3054352"/>
                </a:lnTo>
                <a:lnTo>
                  <a:pt x="4908550" y="3086100"/>
                </a:lnTo>
                <a:lnTo>
                  <a:pt x="4937127" y="3114676"/>
                </a:lnTo>
                <a:lnTo>
                  <a:pt x="4972051" y="3143252"/>
                </a:lnTo>
                <a:lnTo>
                  <a:pt x="5010152" y="3165476"/>
                </a:lnTo>
                <a:lnTo>
                  <a:pt x="5032376" y="3178176"/>
                </a:lnTo>
                <a:lnTo>
                  <a:pt x="5057776" y="3184524"/>
                </a:lnTo>
                <a:lnTo>
                  <a:pt x="5083176" y="3194052"/>
                </a:lnTo>
                <a:lnTo>
                  <a:pt x="5111752" y="3197224"/>
                </a:lnTo>
                <a:lnTo>
                  <a:pt x="5143501" y="3203576"/>
                </a:lnTo>
                <a:lnTo>
                  <a:pt x="5175251" y="3203576"/>
                </a:lnTo>
                <a:lnTo>
                  <a:pt x="5194302" y="3206752"/>
                </a:lnTo>
                <a:lnTo>
                  <a:pt x="5216525" y="3209924"/>
                </a:lnTo>
                <a:lnTo>
                  <a:pt x="5254626" y="3203576"/>
                </a:lnTo>
                <a:lnTo>
                  <a:pt x="5302252" y="3194052"/>
                </a:lnTo>
                <a:lnTo>
                  <a:pt x="5362576" y="3175000"/>
                </a:lnTo>
                <a:lnTo>
                  <a:pt x="5435601" y="3140076"/>
                </a:lnTo>
                <a:lnTo>
                  <a:pt x="5527676" y="3092452"/>
                </a:lnTo>
                <a:lnTo>
                  <a:pt x="5616576" y="3044824"/>
                </a:lnTo>
                <a:lnTo>
                  <a:pt x="5718176" y="2994024"/>
                </a:lnTo>
                <a:lnTo>
                  <a:pt x="5845175" y="2936876"/>
                </a:lnTo>
                <a:lnTo>
                  <a:pt x="5918200" y="2905124"/>
                </a:lnTo>
                <a:lnTo>
                  <a:pt x="5994400" y="2876552"/>
                </a:lnTo>
                <a:lnTo>
                  <a:pt x="6073775" y="2847976"/>
                </a:lnTo>
                <a:lnTo>
                  <a:pt x="6156325" y="2819400"/>
                </a:lnTo>
                <a:lnTo>
                  <a:pt x="6238875" y="2797176"/>
                </a:lnTo>
                <a:lnTo>
                  <a:pt x="6321425" y="2778124"/>
                </a:lnTo>
                <a:lnTo>
                  <a:pt x="6403975" y="2762252"/>
                </a:lnTo>
                <a:lnTo>
                  <a:pt x="6486526" y="2752724"/>
                </a:lnTo>
                <a:lnTo>
                  <a:pt x="6511926" y="2749552"/>
                </a:lnTo>
                <a:lnTo>
                  <a:pt x="6588125" y="2736852"/>
                </a:lnTo>
                <a:lnTo>
                  <a:pt x="6699250" y="2720976"/>
                </a:lnTo>
                <a:lnTo>
                  <a:pt x="6769100" y="2717800"/>
                </a:lnTo>
                <a:lnTo>
                  <a:pt x="6845300" y="2714624"/>
                </a:lnTo>
                <a:lnTo>
                  <a:pt x="6924675" y="2711452"/>
                </a:lnTo>
                <a:lnTo>
                  <a:pt x="7007225" y="2714624"/>
                </a:lnTo>
                <a:lnTo>
                  <a:pt x="7096126" y="2724152"/>
                </a:lnTo>
                <a:lnTo>
                  <a:pt x="7185026" y="2736852"/>
                </a:lnTo>
                <a:lnTo>
                  <a:pt x="7273925" y="2752724"/>
                </a:lnTo>
                <a:lnTo>
                  <a:pt x="7366000" y="2778124"/>
                </a:lnTo>
                <a:lnTo>
                  <a:pt x="7410451" y="2794000"/>
                </a:lnTo>
                <a:lnTo>
                  <a:pt x="7454900" y="2813052"/>
                </a:lnTo>
                <a:lnTo>
                  <a:pt x="7496175" y="2832100"/>
                </a:lnTo>
                <a:lnTo>
                  <a:pt x="7540625" y="2854324"/>
                </a:lnTo>
                <a:lnTo>
                  <a:pt x="7458075" y="2841624"/>
                </a:lnTo>
                <a:lnTo>
                  <a:pt x="7366000" y="2835276"/>
                </a:lnTo>
                <a:lnTo>
                  <a:pt x="7245350" y="2832100"/>
                </a:lnTo>
                <a:lnTo>
                  <a:pt x="7172325" y="2832100"/>
                </a:lnTo>
                <a:lnTo>
                  <a:pt x="7096126" y="2835276"/>
                </a:lnTo>
                <a:lnTo>
                  <a:pt x="7016750" y="2838452"/>
                </a:lnTo>
                <a:lnTo>
                  <a:pt x="6931025" y="2844800"/>
                </a:lnTo>
                <a:lnTo>
                  <a:pt x="6842125" y="2857500"/>
                </a:lnTo>
                <a:lnTo>
                  <a:pt x="6750050" y="2870200"/>
                </a:lnTo>
                <a:lnTo>
                  <a:pt x="6654800" y="2889252"/>
                </a:lnTo>
                <a:lnTo>
                  <a:pt x="6556375" y="2911476"/>
                </a:lnTo>
                <a:lnTo>
                  <a:pt x="6457950" y="2936876"/>
                </a:lnTo>
                <a:lnTo>
                  <a:pt x="6359526" y="2971800"/>
                </a:lnTo>
                <a:lnTo>
                  <a:pt x="6261101" y="3009900"/>
                </a:lnTo>
                <a:lnTo>
                  <a:pt x="6162675" y="3054352"/>
                </a:lnTo>
                <a:lnTo>
                  <a:pt x="6064250" y="3105152"/>
                </a:lnTo>
                <a:lnTo>
                  <a:pt x="5969001" y="3165476"/>
                </a:lnTo>
                <a:lnTo>
                  <a:pt x="5921375" y="3197224"/>
                </a:lnTo>
                <a:lnTo>
                  <a:pt x="5873750" y="3228976"/>
                </a:lnTo>
                <a:lnTo>
                  <a:pt x="5829300" y="3263900"/>
                </a:lnTo>
                <a:lnTo>
                  <a:pt x="5784851" y="3302000"/>
                </a:lnTo>
                <a:lnTo>
                  <a:pt x="5721350" y="3365500"/>
                </a:lnTo>
                <a:lnTo>
                  <a:pt x="5661025" y="3422652"/>
                </a:lnTo>
                <a:lnTo>
                  <a:pt x="5597525" y="3482976"/>
                </a:lnTo>
                <a:lnTo>
                  <a:pt x="5530852" y="3540124"/>
                </a:lnTo>
                <a:lnTo>
                  <a:pt x="5464177" y="3594100"/>
                </a:lnTo>
                <a:lnTo>
                  <a:pt x="5394327" y="3644900"/>
                </a:lnTo>
                <a:lnTo>
                  <a:pt x="5324476" y="3695700"/>
                </a:lnTo>
                <a:lnTo>
                  <a:pt x="5251452" y="3743324"/>
                </a:lnTo>
                <a:lnTo>
                  <a:pt x="5178426" y="3790952"/>
                </a:lnTo>
                <a:lnTo>
                  <a:pt x="5102227" y="3832224"/>
                </a:lnTo>
                <a:lnTo>
                  <a:pt x="5026027" y="3873500"/>
                </a:lnTo>
                <a:lnTo>
                  <a:pt x="4943476" y="3908424"/>
                </a:lnTo>
                <a:lnTo>
                  <a:pt x="4864101" y="3940176"/>
                </a:lnTo>
                <a:lnTo>
                  <a:pt x="4778376" y="3971924"/>
                </a:lnTo>
                <a:lnTo>
                  <a:pt x="4692652" y="3997324"/>
                </a:lnTo>
                <a:lnTo>
                  <a:pt x="4603752" y="4016376"/>
                </a:lnTo>
                <a:lnTo>
                  <a:pt x="4552951" y="4032252"/>
                </a:lnTo>
                <a:lnTo>
                  <a:pt x="4483100" y="4044952"/>
                </a:lnTo>
                <a:lnTo>
                  <a:pt x="4384677" y="4060824"/>
                </a:lnTo>
                <a:lnTo>
                  <a:pt x="4248151" y="4073524"/>
                </a:lnTo>
                <a:lnTo>
                  <a:pt x="4076701" y="4086224"/>
                </a:lnTo>
                <a:lnTo>
                  <a:pt x="3978277" y="4089400"/>
                </a:lnTo>
                <a:lnTo>
                  <a:pt x="3867151" y="4092576"/>
                </a:lnTo>
                <a:lnTo>
                  <a:pt x="3743326" y="4092576"/>
                </a:lnTo>
                <a:lnTo>
                  <a:pt x="3613150" y="4092576"/>
                </a:lnTo>
                <a:lnTo>
                  <a:pt x="3489325" y="4089400"/>
                </a:lnTo>
                <a:lnTo>
                  <a:pt x="3362325" y="4089400"/>
                </a:lnTo>
                <a:lnTo>
                  <a:pt x="3206751" y="4095752"/>
                </a:lnTo>
                <a:lnTo>
                  <a:pt x="3124200" y="4102100"/>
                </a:lnTo>
                <a:lnTo>
                  <a:pt x="3038475" y="4108452"/>
                </a:lnTo>
                <a:lnTo>
                  <a:pt x="2955925" y="4117976"/>
                </a:lnTo>
                <a:lnTo>
                  <a:pt x="2876551" y="4133852"/>
                </a:lnTo>
                <a:lnTo>
                  <a:pt x="2800351" y="4149724"/>
                </a:lnTo>
                <a:lnTo>
                  <a:pt x="2730501" y="4168776"/>
                </a:lnTo>
                <a:lnTo>
                  <a:pt x="2667001" y="4191000"/>
                </a:lnTo>
                <a:lnTo>
                  <a:pt x="2641600" y="4203700"/>
                </a:lnTo>
                <a:lnTo>
                  <a:pt x="2616201" y="4219576"/>
                </a:lnTo>
                <a:lnTo>
                  <a:pt x="2593976" y="4229100"/>
                </a:lnTo>
                <a:lnTo>
                  <a:pt x="2533650" y="4260852"/>
                </a:lnTo>
                <a:lnTo>
                  <a:pt x="2492376" y="4283076"/>
                </a:lnTo>
                <a:lnTo>
                  <a:pt x="2447926" y="4311652"/>
                </a:lnTo>
                <a:lnTo>
                  <a:pt x="2400301" y="4346576"/>
                </a:lnTo>
                <a:lnTo>
                  <a:pt x="2352675" y="4384676"/>
                </a:lnTo>
                <a:lnTo>
                  <a:pt x="2305050" y="4425952"/>
                </a:lnTo>
                <a:lnTo>
                  <a:pt x="2260600" y="4476752"/>
                </a:lnTo>
                <a:lnTo>
                  <a:pt x="2219325" y="4527552"/>
                </a:lnTo>
                <a:lnTo>
                  <a:pt x="2200275" y="4556124"/>
                </a:lnTo>
                <a:lnTo>
                  <a:pt x="2181225" y="4587876"/>
                </a:lnTo>
                <a:lnTo>
                  <a:pt x="2168525" y="4616452"/>
                </a:lnTo>
                <a:lnTo>
                  <a:pt x="2152651" y="4648200"/>
                </a:lnTo>
                <a:lnTo>
                  <a:pt x="2143126" y="4683124"/>
                </a:lnTo>
                <a:lnTo>
                  <a:pt x="2133601" y="4718052"/>
                </a:lnTo>
                <a:lnTo>
                  <a:pt x="2127250" y="4752976"/>
                </a:lnTo>
                <a:lnTo>
                  <a:pt x="2124076" y="4787900"/>
                </a:lnTo>
                <a:lnTo>
                  <a:pt x="2124076" y="4826000"/>
                </a:lnTo>
                <a:lnTo>
                  <a:pt x="2127250" y="4867276"/>
                </a:lnTo>
                <a:lnTo>
                  <a:pt x="2127250" y="4879976"/>
                </a:lnTo>
                <a:lnTo>
                  <a:pt x="2130425" y="4892676"/>
                </a:lnTo>
                <a:lnTo>
                  <a:pt x="2133601" y="4899024"/>
                </a:lnTo>
                <a:lnTo>
                  <a:pt x="2136775" y="4902200"/>
                </a:lnTo>
                <a:lnTo>
                  <a:pt x="2139951" y="4899024"/>
                </a:lnTo>
                <a:lnTo>
                  <a:pt x="2152651" y="4883152"/>
                </a:lnTo>
                <a:lnTo>
                  <a:pt x="2168525" y="4851400"/>
                </a:lnTo>
                <a:lnTo>
                  <a:pt x="2190751" y="4794252"/>
                </a:lnTo>
                <a:lnTo>
                  <a:pt x="2197101" y="4781552"/>
                </a:lnTo>
                <a:lnTo>
                  <a:pt x="2212975" y="4746624"/>
                </a:lnTo>
                <a:lnTo>
                  <a:pt x="2228850" y="4724400"/>
                </a:lnTo>
                <a:lnTo>
                  <a:pt x="2244726" y="4702176"/>
                </a:lnTo>
                <a:lnTo>
                  <a:pt x="2263776" y="4676776"/>
                </a:lnTo>
                <a:lnTo>
                  <a:pt x="2289176" y="4654552"/>
                </a:lnTo>
                <a:lnTo>
                  <a:pt x="2314575" y="4632324"/>
                </a:lnTo>
                <a:lnTo>
                  <a:pt x="2346325" y="4613276"/>
                </a:lnTo>
                <a:lnTo>
                  <a:pt x="2381251" y="4600576"/>
                </a:lnTo>
                <a:lnTo>
                  <a:pt x="2419351" y="4591052"/>
                </a:lnTo>
                <a:lnTo>
                  <a:pt x="2460625" y="4587876"/>
                </a:lnTo>
                <a:lnTo>
                  <a:pt x="2482851" y="4587876"/>
                </a:lnTo>
                <a:lnTo>
                  <a:pt x="2505075" y="4591052"/>
                </a:lnTo>
                <a:lnTo>
                  <a:pt x="2530475" y="4597400"/>
                </a:lnTo>
                <a:lnTo>
                  <a:pt x="2555876" y="4606924"/>
                </a:lnTo>
                <a:lnTo>
                  <a:pt x="2581276" y="4616452"/>
                </a:lnTo>
                <a:lnTo>
                  <a:pt x="2609850" y="4629152"/>
                </a:lnTo>
                <a:lnTo>
                  <a:pt x="2616201" y="4635500"/>
                </a:lnTo>
                <a:lnTo>
                  <a:pt x="2632076" y="4648200"/>
                </a:lnTo>
                <a:lnTo>
                  <a:pt x="2654300" y="4676776"/>
                </a:lnTo>
                <a:lnTo>
                  <a:pt x="2663825" y="4692652"/>
                </a:lnTo>
                <a:lnTo>
                  <a:pt x="2670176" y="4714876"/>
                </a:lnTo>
                <a:lnTo>
                  <a:pt x="2676526" y="4737100"/>
                </a:lnTo>
                <a:lnTo>
                  <a:pt x="2676526" y="4762500"/>
                </a:lnTo>
                <a:lnTo>
                  <a:pt x="2673351" y="4791076"/>
                </a:lnTo>
                <a:lnTo>
                  <a:pt x="2667001" y="4822824"/>
                </a:lnTo>
                <a:lnTo>
                  <a:pt x="2654300" y="4857752"/>
                </a:lnTo>
                <a:lnTo>
                  <a:pt x="2635251" y="4899024"/>
                </a:lnTo>
                <a:lnTo>
                  <a:pt x="2609850" y="4940300"/>
                </a:lnTo>
                <a:lnTo>
                  <a:pt x="2574926" y="4984752"/>
                </a:lnTo>
                <a:lnTo>
                  <a:pt x="2562225" y="5000624"/>
                </a:lnTo>
                <a:lnTo>
                  <a:pt x="2546350" y="5019676"/>
                </a:lnTo>
                <a:lnTo>
                  <a:pt x="2524126" y="5045076"/>
                </a:lnTo>
                <a:lnTo>
                  <a:pt x="2492376" y="5073652"/>
                </a:lnTo>
                <a:lnTo>
                  <a:pt x="2454275" y="5105400"/>
                </a:lnTo>
                <a:lnTo>
                  <a:pt x="2406650" y="5137152"/>
                </a:lnTo>
                <a:lnTo>
                  <a:pt x="2349500" y="5175252"/>
                </a:lnTo>
                <a:lnTo>
                  <a:pt x="2339976" y="5181600"/>
                </a:lnTo>
                <a:lnTo>
                  <a:pt x="2314575" y="5194300"/>
                </a:lnTo>
                <a:lnTo>
                  <a:pt x="2273300" y="5213352"/>
                </a:lnTo>
                <a:lnTo>
                  <a:pt x="2247901" y="5219700"/>
                </a:lnTo>
                <a:lnTo>
                  <a:pt x="2222500" y="5226052"/>
                </a:lnTo>
                <a:lnTo>
                  <a:pt x="2190751" y="5229224"/>
                </a:lnTo>
                <a:lnTo>
                  <a:pt x="2162175" y="5229224"/>
                </a:lnTo>
                <a:lnTo>
                  <a:pt x="2130425" y="5226052"/>
                </a:lnTo>
                <a:lnTo>
                  <a:pt x="2095500" y="5216524"/>
                </a:lnTo>
                <a:lnTo>
                  <a:pt x="2060576" y="5200652"/>
                </a:lnTo>
                <a:lnTo>
                  <a:pt x="2025651" y="5178424"/>
                </a:lnTo>
                <a:lnTo>
                  <a:pt x="1990726" y="5149852"/>
                </a:lnTo>
                <a:lnTo>
                  <a:pt x="1958976" y="5114924"/>
                </a:lnTo>
                <a:lnTo>
                  <a:pt x="1949451" y="5105400"/>
                </a:lnTo>
                <a:lnTo>
                  <a:pt x="1933576" y="5076824"/>
                </a:lnTo>
                <a:lnTo>
                  <a:pt x="1920875" y="5054600"/>
                </a:lnTo>
                <a:lnTo>
                  <a:pt x="1911350" y="5026024"/>
                </a:lnTo>
                <a:lnTo>
                  <a:pt x="1901826" y="4994276"/>
                </a:lnTo>
                <a:lnTo>
                  <a:pt x="1895475" y="4959352"/>
                </a:lnTo>
                <a:lnTo>
                  <a:pt x="1889125" y="4918076"/>
                </a:lnTo>
                <a:lnTo>
                  <a:pt x="1889125" y="4873624"/>
                </a:lnTo>
                <a:lnTo>
                  <a:pt x="1892300" y="4822824"/>
                </a:lnTo>
                <a:lnTo>
                  <a:pt x="1901826" y="4765676"/>
                </a:lnTo>
                <a:lnTo>
                  <a:pt x="1917701" y="4705352"/>
                </a:lnTo>
                <a:lnTo>
                  <a:pt x="1939926" y="4641852"/>
                </a:lnTo>
                <a:lnTo>
                  <a:pt x="1968501" y="4572000"/>
                </a:lnTo>
                <a:lnTo>
                  <a:pt x="2009776" y="4498976"/>
                </a:lnTo>
                <a:lnTo>
                  <a:pt x="2016125" y="4483100"/>
                </a:lnTo>
                <a:lnTo>
                  <a:pt x="2044701" y="4438652"/>
                </a:lnTo>
                <a:lnTo>
                  <a:pt x="2070100" y="4406900"/>
                </a:lnTo>
                <a:lnTo>
                  <a:pt x="2101851" y="4368800"/>
                </a:lnTo>
                <a:lnTo>
                  <a:pt x="2139951" y="4327524"/>
                </a:lnTo>
                <a:lnTo>
                  <a:pt x="2190751" y="4279900"/>
                </a:lnTo>
                <a:lnTo>
                  <a:pt x="2251076" y="4225924"/>
                </a:lnTo>
                <a:lnTo>
                  <a:pt x="2320925" y="4171952"/>
                </a:lnTo>
                <a:lnTo>
                  <a:pt x="2403475" y="4111624"/>
                </a:lnTo>
                <a:lnTo>
                  <a:pt x="2501901" y="4048124"/>
                </a:lnTo>
                <a:lnTo>
                  <a:pt x="2609850" y="3984624"/>
                </a:lnTo>
                <a:lnTo>
                  <a:pt x="2733675" y="3917952"/>
                </a:lnTo>
                <a:lnTo>
                  <a:pt x="2873376" y="3848100"/>
                </a:lnTo>
                <a:lnTo>
                  <a:pt x="3032125" y="3781424"/>
                </a:lnTo>
                <a:lnTo>
                  <a:pt x="3060701" y="3768724"/>
                </a:lnTo>
                <a:lnTo>
                  <a:pt x="3136900" y="3733800"/>
                </a:lnTo>
                <a:lnTo>
                  <a:pt x="3257551" y="3670300"/>
                </a:lnTo>
                <a:lnTo>
                  <a:pt x="3330575" y="3629024"/>
                </a:lnTo>
                <a:lnTo>
                  <a:pt x="3409951" y="3581400"/>
                </a:lnTo>
                <a:lnTo>
                  <a:pt x="3495675" y="3527424"/>
                </a:lnTo>
                <a:lnTo>
                  <a:pt x="3587750" y="3467100"/>
                </a:lnTo>
                <a:lnTo>
                  <a:pt x="3683001" y="3397252"/>
                </a:lnTo>
                <a:lnTo>
                  <a:pt x="3778251" y="3317876"/>
                </a:lnTo>
                <a:lnTo>
                  <a:pt x="3876675" y="3235324"/>
                </a:lnTo>
                <a:lnTo>
                  <a:pt x="3978277" y="3140076"/>
                </a:lnTo>
                <a:lnTo>
                  <a:pt x="4076701" y="3041652"/>
                </a:lnTo>
                <a:lnTo>
                  <a:pt x="4171951" y="2930524"/>
                </a:lnTo>
                <a:lnTo>
                  <a:pt x="4273551" y="2794000"/>
                </a:lnTo>
                <a:lnTo>
                  <a:pt x="4381501" y="2651124"/>
                </a:lnTo>
                <a:lnTo>
                  <a:pt x="4508502" y="2489200"/>
                </a:lnTo>
                <a:lnTo>
                  <a:pt x="4641852" y="2327276"/>
                </a:lnTo>
                <a:lnTo>
                  <a:pt x="4705351" y="2251076"/>
                </a:lnTo>
                <a:lnTo>
                  <a:pt x="4765676" y="2184400"/>
                </a:lnTo>
                <a:lnTo>
                  <a:pt x="4822826" y="2130424"/>
                </a:lnTo>
                <a:lnTo>
                  <a:pt x="4870451" y="2085976"/>
                </a:lnTo>
                <a:lnTo>
                  <a:pt x="4889501" y="2070100"/>
                </a:lnTo>
                <a:lnTo>
                  <a:pt x="4908550" y="2057400"/>
                </a:lnTo>
                <a:lnTo>
                  <a:pt x="4924426" y="2051052"/>
                </a:lnTo>
                <a:lnTo>
                  <a:pt x="4937127" y="2047876"/>
                </a:lnTo>
                <a:lnTo>
                  <a:pt x="4968877" y="2060576"/>
                </a:lnTo>
                <a:lnTo>
                  <a:pt x="5010152" y="2073276"/>
                </a:lnTo>
                <a:lnTo>
                  <a:pt x="5067302" y="2089152"/>
                </a:lnTo>
                <a:lnTo>
                  <a:pt x="5140327" y="2108200"/>
                </a:lnTo>
                <a:lnTo>
                  <a:pt x="5232401" y="2124076"/>
                </a:lnTo>
                <a:lnTo>
                  <a:pt x="5340352" y="2139952"/>
                </a:lnTo>
                <a:lnTo>
                  <a:pt x="5467351" y="2155824"/>
                </a:lnTo>
                <a:lnTo>
                  <a:pt x="5610225" y="2168524"/>
                </a:lnTo>
                <a:lnTo>
                  <a:pt x="5772150" y="2174876"/>
                </a:lnTo>
                <a:lnTo>
                  <a:pt x="5949950" y="2174876"/>
                </a:lnTo>
                <a:lnTo>
                  <a:pt x="6146800" y="2165352"/>
                </a:lnTo>
                <a:lnTo>
                  <a:pt x="6254750" y="2159000"/>
                </a:lnTo>
                <a:lnTo>
                  <a:pt x="6365875" y="2149476"/>
                </a:lnTo>
                <a:lnTo>
                  <a:pt x="6480175" y="2139952"/>
                </a:lnTo>
                <a:lnTo>
                  <a:pt x="6600825" y="2124076"/>
                </a:lnTo>
                <a:lnTo>
                  <a:pt x="6724650" y="2108200"/>
                </a:lnTo>
                <a:lnTo>
                  <a:pt x="6854825" y="2089152"/>
                </a:lnTo>
                <a:lnTo>
                  <a:pt x="6988175" y="2063752"/>
                </a:lnTo>
                <a:lnTo>
                  <a:pt x="7127875" y="2038352"/>
                </a:lnTo>
                <a:lnTo>
                  <a:pt x="7140575" y="2028824"/>
                </a:lnTo>
                <a:lnTo>
                  <a:pt x="7175500" y="2003424"/>
                </a:lnTo>
                <a:lnTo>
                  <a:pt x="7204075" y="1987552"/>
                </a:lnTo>
                <a:lnTo>
                  <a:pt x="7242175" y="1971676"/>
                </a:lnTo>
                <a:lnTo>
                  <a:pt x="7283450" y="1952624"/>
                </a:lnTo>
                <a:lnTo>
                  <a:pt x="7334250" y="1933576"/>
                </a:lnTo>
                <a:lnTo>
                  <a:pt x="7394575" y="1917700"/>
                </a:lnTo>
                <a:lnTo>
                  <a:pt x="7464425" y="1901824"/>
                </a:lnTo>
                <a:lnTo>
                  <a:pt x="7540625" y="1885952"/>
                </a:lnTo>
                <a:lnTo>
                  <a:pt x="7626350" y="1876424"/>
                </a:lnTo>
                <a:lnTo>
                  <a:pt x="7721600" y="1870076"/>
                </a:lnTo>
                <a:lnTo>
                  <a:pt x="7826375" y="1866900"/>
                </a:lnTo>
                <a:close/>
                <a:moveTo>
                  <a:pt x="9728201" y="0"/>
                </a:moveTo>
                <a:lnTo>
                  <a:pt x="9766301" y="0"/>
                </a:lnTo>
                <a:lnTo>
                  <a:pt x="9832976" y="0"/>
                </a:lnTo>
                <a:lnTo>
                  <a:pt x="9893302" y="0"/>
                </a:lnTo>
                <a:lnTo>
                  <a:pt x="9953626" y="3176"/>
                </a:lnTo>
                <a:lnTo>
                  <a:pt x="10007601" y="9524"/>
                </a:lnTo>
                <a:lnTo>
                  <a:pt x="10055226" y="15876"/>
                </a:lnTo>
                <a:lnTo>
                  <a:pt x="10102851" y="25400"/>
                </a:lnTo>
                <a:lnTo>
                  <a:pt x="10147301" y="34924"/>
                </a:lnTo>
                <a:lnTo>
                  <a:pt x="10185402" y="47624"/>
                </a:lnTo>
                <a:lnTo>
                  <a:pt x="10223501" y="60324"/>
                </a:lnTo>
                <a:lnTo>
                  <a:pt x="10255251" y="76200"/>
                </a:lnTo>
                <a:lnTo>
                  <a:pt x="10287001" y="92076"/>
                </a:lnTo>
                <a:lnTo>
                  <a:pt x="10315576" y="107952"/>
                </a:lnTo>
                <a:lnTo>
                  <a:pt x="10340976" y="123824"/>
                </a:lnTo>
                <a:lnTo>
                  <a:pt x="10363202" y="139700"/>
                </a:lnTo>
                <a:lnTo>
                  <a:pt x="10401301" y="177800"/>
                </a:lnTo>
                <a:lnTo>
                  <a:pt x="10429877" y="212724"/>
                </a:lnTo>
                <a:lnTo>
                  <a:pt x="10452103" y="247652"/>
                </a:lnTo>
                <a:lnTo>
                  <a:pt x="10467976" y="279400"/>
                </a:lnTo>
                <a:lnTo>
                  <a:pt x="10477501" y="307976"/>
                </a:lnTo>
                <a:lnTo>
                  <a:pt x="10483851" y="333376"/>
                </a:lnTo>
                <a:lnTo>
                  <a:pt x="10487026" y="352424"/>
                </a:lnTo>
                <a:lnTo>
                  <a:pt x="10487026" y="368300"/>
                </a:lnTo>
                <a:lnTo>
                  <a:pt x="10442576" y="352424"/>
                </a:lnTo>
                <a:lnTo>
                  <a:pt x="10394951" y="339724"/>
                </a:lnTo>
                <a:lnTo>
                  <a:pt x="10344152" y="327024"/>
                </a:lnTo>
                <a:lnTo>
                  <a:pt x="10293353" y="314324"/>
                </a:lnTo>
                <a:lnTo>
                  <a:pt x="10242551" y="307976"/>
                </a:lnTo>
                <a:lnTo>
                  <a:pt x="10188576" y="298452"/>
                </a:lnTo>
                <a:lnTo>
                  <a:pt x="10077451" y="292100"/>
                </a:lnTo>
                <a:lnTo>
                  <a:pt x="9963151" y="288924"/>
                </a:lnTo>
                <a:lnTo>
                  <a:pt x="9842501" y="292100"/>
                </a:lnTo>
                <a:lnTo>
                  <a:pt x="9721851" y="298452"/>
                </a:lnTo>
                <a:lnTo>
                  <a:pt x="9594851" y="314324"/>
                </a:lnTo>
                <a:lnTo>
                  <a:pt x="9467851" y="330200"/>
                </a:lnTo>
                <a:lnTo>
                  <a:pt x="9337676" y="352424"/>
                </a:lnTo>
                <a:lnTo>
                  <a:pt x="9207501" y="377824"/>
                </a:lnTo>
                <a:lnTo>
                  <a:pt x="9077326" y="409576"/>
                </a:lnTo>
                <a:lnTo>
                  <a:pt x="8947151" y="441324"/>
                </a:lnTo>
                <a:lnTo>
                  <a:pt x="8820151" y="476252"/>
                </a:lnTo>
                <a:lnTo>
                  <a:pt x="8689976" y="511176"/>
                </a:lnTo>
                <a:lnTo>
                  <a:pt x="8566151" y="549276"/>
                </a:lnTo>
                <a:lnTo>
                  <a:pt x="8324851" y="628652"/>
                </a:lnTo>
                <a:lnTo>
                  <a:pt x="8099426" y="708024"/>
                </a:lnTo>
                <a:lnTo>
                  <a:pt x="7893051" y="784224"/>
                </a:lnTo>
                <a:lnTo>
                  <a:pt x="7715251" y="854076"/>
                </a:lnTo>
                <a:lnTo>
                  <a:pt x="7569201" y="914400"/>
                </a:lnTo>
                <a:lnTo>
                  <a:pt x="7454901" y="962024"/>
                </a:lnTo>
                <a:lnTo>
                  <a:pt x="7359652" y="1006476"/>
                </a:lnTo>
                <a:lnTo>
                  <a:pt x="7534277" y="939800"/>
                </a:lnTo>
                <a:lnTo>
                  <a:pt x="7699376" y="882652"/>
                </a:lnTo>
                <a:lnTo>
                  <a:pt x="7858126" y="828676"/>
                </a:lnTo>
                <a:lnTo>
                  <a:pt x="8010526" y="781052"/>
                </a:lnTo>
                <a:lnTo>
                  <a:pt x="8150226" y="736600"/>
                </a:lnTo>
                <a:lnTo>
                  <a:pt x="8283576" y="698500"/>
                </a:lnTo>
                <a:lnTo>
                  <a:pt x="8521701" y="635000"/>
                </a:lnTo>
                <a:lnTo>
                  <a:pt x="8712201" y="590552"/>
                </a:lnTo>
                <a:lnTo>
                  <a:pt x="8855076" y="558800"/>
                </a:lnTo>
                <a:lnTo>
                  <a:pt x="8975726" y="536576"/>
                </a:lnTo>
                <a:lnTo>
                  <a:pt x="9140826" y="517524"/>
                </a:lnTo>
                <a:lnTo>
                  <a:pt x="9299576" y="501652"/>
                </a:lnTo>
                <a:lnTo>
                  <a:pt x="9445626" y="488952"/>
                </a:lnTo>
                <a:lnTo>
                  <a:pt x="9582151" y="479424"/>
                </a:lnTo>
                <a:lnTo>
                  <a:pt x="9712327" y="476252"/>
                </a:lnTo>
                <a:lnTo>
                  <a:pt x="9829801" y="473076"/>
                </a:lnTo>
                <a:lnTo>
                  <a:pt x="9940926" y="473076"/>
                </a:lnTo>
                <a:lnTo>
                  <a:pt x="10045701" y="479424"/>
                </a:lnTo>
                <a:lnTo>
                  <a:pt x="10140951" y="485776"/>
                </a:lnTo>
                <a:lnTo>
                  <a:pt x="10229851" y="492124"/>
                </a:lnTo>
                <a:lnTo>
                  <a:pt x="10309226" y="504824"/>
                </a:lnTo>
                <a:lnTo>
                  <a:pt x="10385427" y="517524"/>
                </a:lnTo>
                <a:lnTo>
                  <a:pt x="10452103" y="530224"/>
                </a:lnTo>
                <a:lnTo>
                  <a:pt x="10512426" y="546100"/>
                </a:lnTo>
                <a:lnTo>
                  <a:pt x="10569577" y="565152"/>
                </a:lnTo>
                <a:lnTo>
                  <a:pt x="10617201" y="581024"/>
                </a:lnTo>
                <a:lnTo>
                  <a:pt x="10661652" y="600076"/>
                </a:lnTo>
                <a:lnTo>
                  <a:pt x="10699751" y="619124"/>
                </a:lnTo>
                <a:lnTo>
                  <a:pt x="10734676" y="638176"/>
                </a:lnTo>
                <a:lnTo>
                  <a:pt x="10766426" y="657224"/>
                </a:lnTo>
                <a:lnTo>
                  <a:pt x="10791826" y="676276"/>
                </a:lnTo>
                <a:lnTo>
                  <a:pt x="10814051" y="695324"/>
                </a:lnTo>
                <a:lnTo>
                  <a:pt x="10845801" y="730252"/>
                </a:lnTo>
                <a:lnTo>
                  <a:pt x="10868026" y="762000"/>
                </a:lnTo>
                <a:lnTo>
                  <a:pt x="10880726" y="787400"/>
                </a:lnTo>
                <a:lnTo>
                  <a:pt x="10887077" y="800100"/>
                </a:lnTo>
                <a:lnTo>
                  <a:pt x="10890251" y="806452"/>
                </a:lnTo>
                <a:lnTo>
                  <a:pt x="10909301" y="841376"/>
                </a:lnTo>
                <a:lnTo>
                  <a:pt x="10925176" y="876300"/>
                </a:lnTo>
                <a:lnTo>
                  <a:pt x="10941051" y="908052"/>
                </a:lnTo>
                <a:lnTo>
                  <a:pt x="10953752" y="942976"/>
                </a:lnTo>
                <a:lnTo>
                  <a:pt x="10960101" y="977900"/>
                </a:lnTo>
                <a:lnTo>
                  <a:pt x="10966451" y="1009652"/>
                </a:lnTo>
                <a:lnTo>
                  <a:pt x="10972801" y="1044576"/>
                </a:lnTo>
                <a:lnTo>
                  <a:pt x="10972801" y="1076324"/>
                </a:lnTo>
                <a:lnTo>
                  <a:pt x="10972801" y="1139824"/>
                </a:lnTo>
                <a:lnTo>
                  <a:pt x="10963276" y="1203324"/>
                </a:lnTo>
                <a:lnTo>
                  <a:pt x="10950576" y="1263652"/>
                </a:lnTo>
                <a:lnTo>
                  <a:pt x="10931526" y="1317624"/>
                </a:lnTo>
                <a:lnTo>
                  <a:pt x="10912476" y="1368424"/>
                </a:lnTo>
                <a:lnTo>
                  <a:pt x="10890251" y="1416052"/>
                </a:lnTo>
                <a:lnTo>
                  <a:pt x="10868026" y="1457324"/>
                </a:lnTo>
                <a:lnTo>
                  <a:pt x="10845801" y="1492252"/>
                </a:lnTo>
                <a:lnTo>
                  <a:pt x="10814051" y="1539876"/>
                </a:lnTo>
                <a:lnTo>
                  <a:pt x="10798176" y="1555752"/>
                </a:lnTo>
                <a:lnTo>
                  <a:pt x="10718802" y="1670052"/>
                </a:lnTo>
                <a:lnTo>
                  <a:pt x="10639426" y="1774824"/>
                </a:lnTo>
                <a:lnTo>
                  <a:pt x="10563227" y="1870076"/>
                </a:lnTo>
                <a:lnTo>
                  <a:pt x="10490201" y="1955800"/>
                </a:lnTo>
                <a:lnTo>
                  <a:pt x="10420351" y="2028824"/>
                </a:lnTo>
                <a:lnTo>
                  <a:pt x="10350501" y="2098676"/>
                </a:lnTo>
                <a:lnTo>
                  <a:pt x="10287001" y="2155824"/>
                </a:lnTo>
                <a:lnTo>
                  <a:pt x="10226677" y="2206624"/>
                </a:lnTo>
                <a:lnTo>
                  <a:pt x="10172701" y="2251076"/>
                </a:lnTo>
                <a:lnTo>
                  <a:pt x="10125076" y="2286000"/>
                </a:lnTo>
                <a:lnTo>
                  <a:pt x="10045701" y="2339976"/>
                </a:lnTo>
                <a:lnTo>
                  <a:pt x="9994901" y="2368552"/>
                </a:lnTo>
                <a:lnTo>
                  <a:pt x="9979026" y="2378076"/>
                </a:lnTo>
                <a:lnTo>
                  <a:pt x="10033001" y="2327276"/>
                </a:lnTo>
                <a:lnTo>
                  <a:pt x="10090151" y="2270124"/>
                </a:lnTo>
                <a:lnTo>
                  <a:pt x="10140951" y="2212976"/>
                </a:lnTo>
                <a:lnTo>
                  <a:pt x="10191751" y="2152652"/>
                </a:lnTo>
                <a:lnTo>
                  <a:pt x="10239376" y="2089152"/>
                </a:lnTo>
                <a:lnTo>
                  <a:pt x="10287001" y="2025652"/>
                </a:lnTo>
                <a:lnTo>
                  <a:pt x="10366376" y="1905000"/>
                </a:lnTo>
                <a:lnTo>
                  <a:pt x="10433051" y="1797052"/>
                </a:lnTo>
                <a:lnTo>
                  <a:pt x="10483851" y="1708152"/>
                </a:lnTo>
                <a:lnTo>
                  <a:pt x="10528301" y="1625600"/>
                </a:lnTo>
                <a:lnTo>
                  <a:pt x="10550526" y="1574800"/>
                </a:lnTo>
                <a:lnTo>
                  <a:pt x="10569577" y="1527176"/>
                </a:lnTo>
                <a:lnTo>
                  <a:pt x="10585453" y="1482724"/>
                </a:lnTo>
                <a:lnTo>
                  <a:pt x="10594977" y="1438276"/>
                </a:lnTo>
                <a:lnTo>
                  <a:pt x="10601326" y="1400176"/>
                </a:lnTo>
                <a:lnTo>
                  <a:pt x="10607676" y="1362076"/>
                </a:lnTo>
                <a:lnTo>
                  <a:pt x="10607676" y="1327152"/>
                </a:lnTo>
                <a:lnTo>
                  <a:pt x="10604501" y="1292224"/>
                </a:lnTo>
                <a:lnTo>
                  <a:pt x="10601326" y="1263652"/>
                </a:lnTo>
                <a:lnTo>
                  <a:pt x="10594977" y="1235076"/>
                </a:lnTo>
                <a:lnTo>
                  <a:pt x="10585453" y="1209676"/>
                </a:lnTo>
                <a:lnTo>
                  <a:pt x="10575926" y="1184276"/>
                </a:lnTo>
                <a:lnTo>
                  <a:pt x="10563227" y="1165224"/>
                </a:lnTo>
                <a:lnTo>
                  <a:pt x="10547351" y="1143000"/>
                </a:lnTo>
                <a:lnTo>
                  <a:pt x="10534651" y="1127124"/>
                </a:lnTo>
                <a:lnTo>
                  <a:pt x="10515601" y="1108076"/>
                </a:lnTo>
                <a:lnTo>
                  <a:pt x="10483851" y="1082676"/>
                </a:lnTo>
                <a:lnTo>
                  <a:pt x="10445751" y="1060452"/>
                </a:lnTo>
                <a:lnTo>
                  <a:pt x="10410826" y="1041400"/>
                </a:lnTo>
                <a:lnTo>
                  <a:pt x="10379076" y="1031876"/>
                </a:lnTo>
                <a:lnTo>
                  <a:pt x="10350501" y="1022352"/>
                </a:lnTo>
                <a:lnTo>
                  <a:pt x="10328276" y="1016000"/>
                </a:lnTo>
                <a:lnTo>
                  <a:pt x="10306051" y="1012824"/>
                </a:lnTo>
                <a:lnTo>
                  <a:pt x="10239376" y="1117600"/>
                </a:lnTo>
                <a:lnTo>
                  <a:pt x="10169526" y="1219200"/>
                </a:lnTo>
                <a:lnTo>
                  <a:pt x="10096501" y="1314452"/>
                </a:lnTo>
                <a:lnTo>
                  <a:pt x="10026652" y="1406524"/>
                </a:lnTo>
                <a:lnTo>
                  <a:pt x="9953626" y="1492252"/>
                </a:lnTo>
                <a:lnTo>
                  <a:pt x="9883776" y="1571624"/>
                </a:lnTo>
                <a:lnTo>
                  <a:pt x="9817101" y="1644652"/>
                </a:lnTo>
                <a:lnTo>
                  <a:pt x="9750426" y="1714500"/>
                </a:lnTo>
                <a:lnTo>
                  <a:pt x="9636126" y="1828800"/>
                </a:lnTo>
                <a:lnTo>
                  <a:pt x="9544051" y="1914524"/>
                </a:lnTo>
                <a:lnTo>
                  <a:pt x="9461501" y="1987552"/>
                </a:lnTo>
                <a:lnTo>
                  <a:pt x="9572626" y="1847852"/>
                </a:lnTo>
                <a:lnTo>
                  <a:pt x="9671051" y="1720852"/>
                </a:lnTo>
                <a:lnTo>
                  <a:pt x="9753601" y="1603376"/>
                </a:lnTo>
                <a:lnTo>
                  <a:pt x="9826627" y="1498600"/>
                </a:lnTo>
                <a:lnTo>
                  <a:pt x="9886951" y="1403352"/>
                </a:lnTo>
                <a:lnTo>
                  <a:pt x="9937752" y="1320800"/>
                </a:lnTo>
                <a:lnTo>
                  <a:pt x="9979026" y="1244600"/>
                </a:lnTo>
                <a:lnTo>
                  <a:pt x="10013951" y="1181100"/>
                </a:lnTo>
                <a:lnTo>
                  <a:pt x="10036176" y="1123952"/>
                </a:lnTo>
                <a:lnTo>
                  <a:pt x="10055226" y="1079500"/>
                </a:lnTo>
                <a:lnTo>
                  <a:pt x="10067926" y="1038224"/>
                </a:lnTo>
                <a:lnTo>
                  <a:pt x="10077451" y="1009652"/>
                </a:lnTo>
                <a:lnTo>
                  <a:pt x="10083801" y="968376"/>
                </a:lnTo>
                <a:lnTo>
                  <a:pt x="10086976" y="955676"/>
                </a:lnTo>
                <a:lnTo>
                  <a:pt x="9950451" y="955676"/>
                </a:lnTo>
                <a:lnTo>
                  <a:pt x="9813926" y="958852"/>
                </a:lnTo>
                <a:lnTo>
                  <a:pt x="9674226" y="968376"/>
                </a:lnTo>
                <a:lnTo>
                  <a:pt x="9534526" y="984252"/>
                </a:lnTo>
                <a:lnTo>
                  <a:pt x="9398001" y="1003300"/>
                </a:lnTo>
                <a:lnTo>
                  <a:pt x="9258302" y="1025524"/>
                </a:lnTo>
                <a:lnTo>
                  <a:pt x="9118601" y="1054100"/>
                </a:lnTo>
                <a:lnTo>
                  <a:pt x="8982076" y="1082676"/>
                </a:lnTo>
                <a:lnTo>
                  <a:pt x="8845551" y="1117600"/>
                </a:lnTo>
                <a:lnTo>
                  <a:pt x="8709026" y="1155700"/>
                </a:lnTo>
                <a:lnTo>
                  <a:pt x="8575676" y="1193800"/>
                </a:lnTo>
                <a:lnTo>
                  <a:pt x="8445501" y="1235076"/>
                </a:lnTo>
                <a:lnTo>
                  <a:pt x="8318501" y="1276352"/>
                </a:lnTo>
                <a:lnTo>
                  <a:pt x="8191501" y="1320800"/>
                </a:lnTo>
                <a:lnTo>
                  <a:pt x="8070851" y="1365252"/>
                </a:lnTo>
                <a:lnTo>
                  <a:pt x="7953376" y="1412876"/>
                </a:lnTo>
                <a:lnTo>
                  <a:pt x="7731126" y="1501776"/>
                </a:lnTo>
                <a:lnTo>
                  <a:pt x="7531101" y="1590676"/>
                </a:lnTo>
                <a:lnTo>
                  <a:pt x="7350126" y="1673224"/>
                </a:lnTo>
                <a:lnTo>
                  <a:pt x="7197726" y="1749424"/>
                </a:lnTo>
                <a:lnTo>
                  <a:pt x="7073901" y="1812924"/>
                </a:lnTo>
                <a:lnTo>
                  <a:pt x="6981826" y="1860552"/>
                </a:lnTo>
                <a:lnTo>
                  <a:pt x="6902451" y="1905000"/>
                </a:lnTo>
                <a:lnTo>
                  <a:pt x="5387978" y="1993900"/>
                </a:lnTo>
                <a:lnTo>
                  <a:pt x="5429253" y="1936752"/>
                </a:lnTo>
                <a:lnTo>
                  <a:pt x="5483227" y="1879600"/>
                </a:lnTo>
                <a:lnTo>
                  <a:pt x="5540377" y="1819276"/>
                </a:lnTo>
                <a:lnTo>
                  <a:pt x="5603876" y="1762124"/>
                </a:lnTo>
                <a:lnTo>
                  <a:pt x="5676901" y="1701800"/>
                </a:lnTo>
                <a:lnTo>
                  <a:pt x="5749928" y="1641476"/>
                </a:lnTo>
                <a:lnTo>
                  <a:pt x="5832477" y="1577976"/>
                </a:lnTo>
                <a:lnTo>
                  <a:pt x="5915026" y="1517652"/>
                </a:lnTo>
                <a:lnTo>
                  <a:pt x="6092826" y="1397000"/>
                </a:lnTo>
                <a:lnTo>
                  <a:pt x="6280151" y="1276352"/>
                </a:lnTo>
                <a:lnTo>
                  <a:pt x="6470651" y="1158876"/>
                </a:lnTo>
                <a:lnTo>
                  <a:pt x="6661152" y="1047752"/>
                </a:lnTo>
                <a:lnTo>
                  <a:pt x="6845301" y="942976"/>
                </a:lnTo>
                <a:lnTo>
                  <a:pt x="7023101" y="847724"/>
                </a:lnTo>
                <a:lnTo>
                  <a:pt x="7181851" y="762000"/>
                </a:lnTo>
                <a:lnTo>
                  <a:pt x="7324726" y="688976"/>
                </a:lnTo>
                <a:lnTo>
                  <a:pt x="7534277" y="584200"/>
                </a:lnTo>
                <a:lnTo>
                  <a:pt x="7613651" y="546100"/>
                </a:lnTo>
                <a:lnTo>
                  <a:pt x="7737476" y="495300"/>
                </a:lnTo>
                <a:lnTo>
                  <a:pt x="7854951" y="444500"/>
                </a:lnTo>
                <a:lnTo>
                  <a:pt x="8086726" y="358776"/>
                </a:lnTo>
                <a:lnTo>
                  <a:pt x="8305801" y="285752"/>
                </a:lnTo>
                <a:lnTo>
                  <a:pt x="8509001" y="219076"/>
                </a:lnTo>
                <a:lnTo>
                  <a:pt x="8699501" y="168276"/>
                </a:lnTo>
                <a:lnTo>
                  <a:pt x="8877301" y="123824"/>
                </a:lnTo>
                <a:lnTo>
                  <a:pt x="9039226" y="88900"/>
                </a:lnTo>
                <a:lnTo>
                  <a:pt x="9188451" y="60324"/>
                </a:lnTo>
                <a:lnTo>
                  <a:pt x="9318626" y="38100"/>
                </a:lnTo>
                <a:lnTo>
                  <a:pt x="9432926" y="22224"/>
                </a:lnTo>
                <a:lnTo>
                  <a:pt x="9534526" y="12700"/>
                </a:lnTo>
                <a:lnTo>
                  <a:pt x="9617076" y="6352"/>
                </a:lnTo>
                <a:lnTo>
                  <a:pt x="9728201" y="0"/>
                </a:lnTo>
                <a:close/>
              </a:path>
            </a:pathLst>
          </a:custGeom>
          <a:solidFill>
            <a:srgbClr val="a8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ffca08"/>
              </a:buClr>
              <a:buSzPct val="8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1" indent="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d4d4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3924-5448-4B97-88C5-80038640913A}" type="datetime">
              <a:rPr b="0" lang="zh-CN" sz="900" spc="-1" strike="noStrike">
                <a:solidFill>
                  <a:srgbClr val="4d4d4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d4d4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E26-6655-45F2-A026-9B83AE656348}" type="slidenum">
              <a:rPr b="0" lang="zh-CN" sz="9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MS PMincho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pic>
        <p:nvPicPr>
          <p:cNvPr id="50" name="图片 11" descr=""/>
          <p:cNvPicPr/>
          <p:nvPr/>
        </p:nvPicPr>
        <p:blipFill>
          <a:blip r:embed="rId3"/>
          <a:stretch/>
        </p:blipFill>
        <p:spPr>
          <a:xfrm>
            <a:off x="108000" y="312840"/>
            <a:ext cx="80640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MS PMincho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476360"/>
            <a:ext cx="80089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ffca08"/>
              </a:buClr>
              <a:buSzPct val="8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1" indent="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1349"/>
              </a:spcBef>
              <a:buClr>
                <a:srgbClr val="3c3c3c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ca0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d4d4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6EF-EACC-410B-BC48-644BA6C8B330}" type="datetime">
              <a:rPr b="0" lang="zh-CN" sz="900" spc="-1" strike="noStrike">
                <a:solidFill>
                  <a:srgbClr val="4d4d4d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d4d4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E98-EF4A-42E0-880D-A80EE1763C10}" type="slidenum">
              <a:rPr b="0" lang="zh-CN" sz="9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0320" y="1446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ca08"/>
                </a:solidFill>
                <a:latin typeface="微软雅黑"/>
                <a:ea typeface="微软雅黑"/>
              </a:rPr>
              <a:t>刘邓大军渡黄河</a:t>
            </a:r>
            <a:endParaRPr b="0" lang="en-US" sz="60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971360" y="5148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a08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688760" y="1424160"/>
            <a:ext cx="664380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第一部分（第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1~5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自然段）刘邓的渡船向黄河南岸急驶而去。</a:t>
            </a:r>
            <a:endParaRPr b="0" lang="en-US" sz="28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第二部分（第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6~1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自然段）刘邓渡河前的精心部署。</a:t>
            </a:r>
            <a:endParaRPr b="0" lang="en-US" sz="28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第三部分（第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自然段）刘邓大军渡过黄河及其意义。</a:t>
            </a:r>
            <a:endParaRPr b="0" lang="en-US" sz="28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文章运用了插叙，更体现了刘邓部署的精心，让我们感悟刘邓的才能。　</a:t>
            </a:r>
            <a:endParaRPr b="0" lang="en-US" sz="2800" spc="-1" strike="noStrike">
              <a:solidFill>
                <a:srgbClr val="ffca0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ca08"/>
                </a:solidFill>
                <a:latin typeface="MS PMincho"/>
              </a:rPr>
              <a:t>2</a:t>
            </a:r>
            <a:r>
              <a:rPr b="0" lang="zh-CN" sz="3600" spc="-1" strike="noStrike">
                <a:solidFill>
                  <a:srgbClr val="ffca08"/>
                </a:solidFill>
                <a:latin typeface="MS PMincho"/>
              </a:rPr>
              <a:t>、刘邓大军渡黄河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68440" y="1284120"/>
            <a:ext cx="80071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交代了故事发生的时间、地点、人物和中心事件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2-3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描写了夜色中的黄河，点出了渡河的黄河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刘邓二人对胜利渡河充满信心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交代了渡河的战略思想——明修栈道，暗度陈仓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6-7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渡河前的准备工作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指挥部的环境及临战前刘邓二人的反应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9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交代了敌军的愚昧，从另一方面也证实了刘邓大军所采取的战术的正确性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10-11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交代国民党胡戒备情况及原因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12</a:t>
            </a:r>
            <a:r>
              <a:rPr b="1" lang="zh-CN" sz="2400" spc="-1" strike="noStrike">
                <a:solidFill>
                  <a:srgbClr val="ffca08"/>
                </a:solidFill>
                <a:latin typeface="Calibri"/>
              </a:rPr>
              <a:t>、介绍了刘邓大军胜利渡过黄河及其意义。</a:t>
            </a:r>
            <a:endParaRPr b="0" lang="en-US" sz="2400" spc="-1" strike="noStrike">
              <a:solidFill>
                <a:srgbClr val="ffca0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48040" cy="605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748040" y="0"/>
            <a:ext cx="4395960" cy="60580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"/>
          <p:cNvSpPr/>
          <p:nvPr/>
        </p:nvSpPr>
        <p:spPr>
          <a:xfrm>
            <a:off x="673200" y="6378480"/>
            <a:ext cx="77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6"/>
          <p:cNvSpPr/>
          <p:nvPr/>
        </p:nvSpPr>
        <p:spPr>
          <a:xfrm>
            <a:off x="1911240" y="2646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0000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0000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6760" y="291600"/>
            <a:ext cx="7196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ca08"/>
                </a:solidFill>
                <a:latin typeface="MS PMincho"/>
              </a:rPr>
              <a:t>2</a:t>
            </a:r>
            <a:r>
              <a:rPr b="0" lang="zh-CN" sz="3600" spc="-1" strike="noStrike">
                <a:solidFill>
                  <a:srgbClr val="ffca08"/>
                </a:solidFill>
                <a:latin typeface="MS PMincho"/>
              </a:rPr>
              <a:t>、刘邓大军渡黄河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grpSp>
        <p:nvGrpSpPr>
          <p:cNvPr id="146" name="Organization Chart 3"/>
          <p:cNvGrpSpPr/>
          <p:nvPr/>
        </p:nvGrpSpPr>
        <p:grpSpPr>
          <a:xfrm>
            <a:off x="4648320" y="1419120"/>
            <a:ext cx="4038480" cy="4901040"/>
            <a:chOff x="4648320" y="1419120"/>
            <a:chExt cx="4038480" cy="4901040"/>
          </a:xfrm>
        </p:grpSpPr>
        <p:sp>
          <p:nvSpPr>
            <p:cNvPr id="147" name="AutoShape 4"/>
            <p:cNvSpPr/>
            <p:nvPr/>
          </p:nvSpPr>
          <p:spPr>
            <a:xfrm>
              <a:off x="4648320" y="1419120"/>
              <a:ext cx="4038480" cy="49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28"/>
            <p:cNvSpPr/>
            <p:nvPr/>
          </p:nvSpPr>
          <p:spPr>
            <a:xfrm>
              <a:off x="6061680" y="1419120"/>
              <a:ext cx="1211400" cy="19602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960200"/>
                <a:gd name="textAreaBottom" fmla="*/ 1901160 h 1960200"/>
              </a:gdLst>
              <a:ahLst/>
              <a:rect l="textAreaLeft" t="textAreaTop" r="textAreaRight" b="textAreaBottom"/>
              <a:pathLst>
                <a:path w="21600" h="34948">
                  <a:moveTo>
                    <a:pt x="3600" y="0"/>
                  </a:moveTo>
                  <a:arcTo wR="3600" hR="3600" stAng="16200000" swAng="-5400000"/>
                  <a:lnTo>
                    <a:pt x="0" y="31348"/>
                  </a:lnTo>
                  <a:arcTo wR="3600" hR="3600" stAng="10800000" swAng="-5400000"/>
                  <a:lnTo>
                    <a:pt x="18000" y="349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邓大军渡黄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>
              <a:off x="4648320" y="4359600"/>
              <a:ext cx="1211400" cy="19602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960200"/>
                <a:gd name="textAreaBottom" fmla="*/ 1901160 h 1960200"/>
              </a:gdLst>
              <a:ahLst/>
              <a:rect l="textAreaLeft" t="textAreaTop" r="textAreaRight" b="textAreaBottom"/>
              <a:pathLst>
                <a:path w="21600" h="34948">
                  <a:moveTo>
                    <a:pt x="3600" y="0"/>
                  </a:moveTo>
                  <a:arcTo wR="3600" hR="3600" stAng="16200000" swAng="-5400000"/>
                  <a:lnTo>
                    <a:pt x="0" y="31348"/>
                  </a:lnTo>
                  <a:arcTo wR="3600" hR="3600" stAng="10800000" swAng="-5400000"/>
                  <a:lnTo>
                    <a:pt x="18000" y="349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渡河前：</a:t>
              </a: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6</a:t>
              </a: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：</a:t>
              </a: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日夜，刘邓大军集结黄河北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_s1030"/>
            <p:cNvCxnSpPr>
              <a:stCxn id="149" idx="0"/>
              <a:endCxn id="148" idx="2"/>
            </p:cNvCxnSpPr>
            <p:nvPr/>
          </p:nvCxnSpPr>
          <p:spPr>
            <a:xfrm flipV="1">
              <a:off x="5253840" y="3378960"/>
              <a:ext cx="1414080" cy="98064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1" name="_s1031"/>
            <p:cNvSpPr/>
            <p:nvPr/>
          </p:nvSpPr>
          <p:spPr>
            <a:xfrm>
              <a:off x="6061680" y="4359600"/>
              <a:ext cx="1211400" cy="19602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960200"/>
                <a:gd name="textAreaBottom" fmla="*/ 1901160 h 1960200"/>
              </a:gdLst>
              <a:ahLst/>
              <a:rect l="textAreaLeft" t="textAreaTop" r="textAreaRight" b="textAreaBottom"/>
              <a:pathLst>
                <a:path w="21600" h="34948">
                  <a:moveTo>
                    <a:pt x="3600" y="0"/>
                  </a:moveTo>
                  <a:arcTo wR="3600" hR="3600" stAng="16200000" swAng="-5400000"/>
                  <a:lnTo>
                    <a:pt x="0" y="31348"/>
                  </a:lnTo>
                  <a:arcTo wR="3600" hR="3600" stAng="10800000" swAng="-5400000"/>
                  <a:lnTo>
                    <a:pt x="18000" y="349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插叙：筹划、精心部署“明修栈道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_s1032"/>
            <p:cNvCxnSpPr>
              <a:stCxn id="151" idx="0"/>
              <a:endCxn id="148" idx="2"/>
            </p:cNvCxnSpPr>
            <p:nvPr/>
          </p:nvCxnSpPr>
          <p:spPr>
            <a:xfrm flipV="1">
              <a:off x="6656040" y="3359160"/>
              <a:ext cx="7560" cy="98064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3" name="_s1033"/>
            <p:cNvSpPr/>
            <p:nvPr/>
          </p:nvSpPr>
          <p:spPr>
            <a:xfrm>
              <a:off x="7475040" y="4359600"/>
              <a:ext cx="1211400" cy="19602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960200"/>
                <a:gd name="textAreaBottom" fmla="*/ 1901160 h 1960200"/>
              </a:gdLst>
              <a:ahLst/>
              <a:rect l="textAreaLeft" t="textAreaTop" r="textAreaRight" b="textAreaBottom"/>
              <a:pathLst>
                <a:path w="21600" h="34948">
                  <a:moveTo>
                    <a:pt x="3600" y="0"/>
                  </a:moveTo>
                  <a:arcTo wR="3600" hR="3600" stAng="16200000" swAng="-5400000"/>
                  <a:lnTo>
                    <a:pt x="0" y="31348"/>
                  </a:lnTo>
                  <a:arcTo wR="3600" hR="3600" stAng="10800000" swAng="-5400000"/>
                  <a:lnTo>
                    <a:pt x="18000" y="349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渡河：午夜时分，偷渡、强渡、渡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_s1034"/>
            <p:cNvCxnSpPr>
              <a:stCxn id="153" idx="0"/>
              <a:endCxn id="148" idx="2"/>
            </p:cNvCxnSpPr>
            <p:nvPr/>
          </p:nvCxnSpPr>
          <p:spPr>
            <a:xfrm flipH="1" flipV="1">
              <a:off x="6667200" y="3378960"/>
              <a:ext cx="1414080" cy="98064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7800" y="1417680"/>
            <a:ext cx="42357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ca08"/>
                </a:solidFill>
                <a:latin typeface="Calibri"/>
              </a:rPr>
              <a:t>秦末项羽灭了秦以后，自封西楚霸王，背叛谁先攻入咸阳的人为王的约定，刘邦极为不满，领兵进入四川，沿途烧了巴蜀的栈道，封为汉王，刘邦得到韩信的帮助，明里在修栈道，背地绕道轻取项羽的大将章邯，进而取得中原为王。</a:t>
            </a:r>
            <a:endParaRPr b="0" lang="en-US" sz="2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ffca08"/>
              </a:buClr>
              <a:buSzPct val="8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ca08"/>
                </a:solidFill>
                <a:latin typeface="Calibri"/>
              </a:rPr>
              <a:t>【出处】孤家用韩信之计，明修栈道，暗度陈仓，攻完三秦，劫取五国。　　</a:t>
            </a:r>
            <a:endParaRPr b="0" lang="en-US" sz="2000" spc="-1" strike="noStrike">
              <a:solidFill>
                <a:srgbClr val="ffca08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ffca08"/>
              </a:buClr>
              <a:buSzPct val="8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ca08"/>
                </a:solidFill>
                <a:latin typeface="Calibri"/>
              </a:rPr>
              <a:t>【解释】指刘邦将从汉中出兵攻项羽时，故意明修栈道，迷惑对方，暗中绕道奔袭陈仓，取得胜利。陈仓，古县名，在今陕西省宝鸡市东。</a:t>
            </a:r>
            <a:endParaRPr b="0" lang="en-US" sz="2000" spc="-1" strike="noStrike">
              <a:solidFill>
                <a:srgbClr val="ffca0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9640" y="27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MS PMincho"/>
                <a:ea typeface="楷体"/>
              </a:rPr>
              <a:t>中心思想</a:t>
            </a:r>
            <a:endParaRPr b="0" lang="en-US" sz="48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676520" y="2247480"/>
            <a:ext cx="6905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本文运用多种写作手法形象而生动地再现了刘邓大军渡黄河的情景，体现了刘邓部署的精心，展示了他们卓越的军事指挥才能及其革命乐观主义精神，激发我们对老一辈无产阶级革命家们的崇敬和热爱之情。 </a:t>
            </a:r>
            <a:endParaRPr b="0" lang="en-US" sz="3200" spc="-1" strike="noStrike">
              <a:solidFill>
                <a:srgbClr val="ffca0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ca08"/>
                </a:solidFill>
                <a:latin typeface="MS PMincho"/>
              </a:rPr>
              <a:t>使用规范说明</a:t>
            </a:r>
            <a:endParaRPr b="0" lang="en-US" sz="3600" spc="-1" strike="noStrike">
              <a:solidFill>
                <a:srgbClr val="ffca08"/>
              </a:solidFill>
              <a:latin typeface="MS PMincho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998e3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a08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510-5507-4D00-8F0F-FB6FCC7ABD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0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