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6A8D-87DD-4549-89CA-2A68436D964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46BD-EEBA-4E69-83F4-4704AA75E4A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6CAE-0DA4-49AF-837B-9989F6BDB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F740-4201-4DEE-973B-26572A55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DA96-E281-47C3-B1A7-F6B4C7695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84B3-A182-4D91-AFFD-C42A37028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34AC-B901-47DB-9F7F-A943BC8E2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024C-665D-48BD-9052-DB7D8EFD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4194-14D4-4488-9A39-D0789456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0EDF-1E6A-46AC-B2E7-A229773A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789D-6E52-4104-9E15-3E3239B2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EE1A-E294-4A5F-AA85-D91E56C3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A083-D748-4B2C-99E0-D5392515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352E-A219-4943-B223-E126AE7E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7511-479F-4FF4-BC24-6FB203DC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3960-BFC0-4602-A033-40F3224B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F2D8-293D-4863-A992-1903A07B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BF43-6F00-467C-AD0A-DE62E5CA0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F8F2-0714-4CBB-9D12-898CF2DA8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D023-883D-4A1B-953F-2DC5D5F8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3914-7174-4D4D-A15D-D052F470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BFF3-7F72-4E27-8A8C-CF3C6E4F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DC29-5C68-4A1A-89FE-908B1A0E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A993-3D5B-4594-A10F-B00C518A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9106-3EAA-46C8-B27E-21806D95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3229-EBBE-479A-924B-9252FE72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4CF3-707F-49F3-A74A-C4C698BB2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688A-B1E3-40EA-8C02-AAD4352FD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龙 卷 风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矩形 6" descr=""/>
          <p:cNvPicPr/>
          <p:nvPr/>
        </p:nvPicPr>
        <p:blipFill>
          <a:blip r:embed="rId2"/>
          <a:stretch/>
        </p:blipFill>
        <p:spPr>
          <a:xfrm>
            <a:off x="1863720" y="5948280"/>
            <a:ext cx="55008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16207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  <a:ea typeface="楷体_GB2312"/>
              </a:rPr>
              <a:t>自由读第一自然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920" y="1052640"/>
            <a:ext cx="8229600" cy="118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思考：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.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谈虎色变”什么意思？为什么人们会有这种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468360" y="2349360"/>
            <a:ext cx="770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楷体_GB2312"/>
              </a:rPr>
              <a:t>谈虎色变：比喻人们一提到可怕的龙卷风连脸色都变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楷体_GB2312"/>
              </a:rPr>
              <a:t>说明遭遇过龙卷风的人非常害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971640" y="356400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.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特异”和“狂暴威猛”又是什么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468360" y="4437000"/>
            <a:ext cx="770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楷体_GB2312"/>
              </a:rPr>
              <a:t>特异：特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楷体_GB2312"/>
              </a:rPr>
              <a:t>狂暴威猛：课文指龙卷风的威力强烈而凶暴，强大的让人感到恐惧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F649-4BC8-40E4-99BD-B2C810B2BC6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cc33"/>
                </a:solidFill>
                <a:latin typeface="Arial"/>
              </a:rPr>
              <a:t>发生在陆地上叫陆龙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cc00"/>
                </a:solidFill>
                <a:latin typeface="Arial"/>
              </a:rPr>
              <a:t>发生在海上叫海龙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 rot="10800000">
            <a:off x="3348000" y="6126120"/>
            <a:ext cx="533880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5"/>
          <p:cNvSpPr txBox="1"/>
          <p:nvPr/>
        </p:nvSpPr>
        <p:spPr>
          <a:xfrm>
            <a:off x="611280" y="981000"/>
            <a:ext cx="79246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ffcc00"/>
                  </a:solidFill>
                  <a:round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质疑：龙卷风是如何形成的？</a:t>
            </a:r>
            <a:endParaRPr b="0" lang="en-US" sz="4800" spc="1" strike="noStrike">
              <a:ln w="12600">
                <a:solidFill>
                  <a:srgbClr val="ffcc00"/>
                </a:solidFill>
                <a:round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教 学 目 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cc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66cc"/>
                </a:solidFill>
                <a:latin typeface="Arial"/>
              </a:rPr>
              <a:t>、学习并掌握本课的生字新词，联系上下文理解个别词语的意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cc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66cc"/>
                </a:solidFill>
                <a:latin typeface="Arial"/>
              </a:rPr>
              <a:t>、整体感知课文内容，给课文分段，说说各段的主要内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cc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66cc"/>
                </a:solidFill>
                <a:latin typeface="Arial"/>
              </a:rPr>
              <a:t>、学习课文第一自然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6"/>
          <p:cNvSpPr/>
          <p:nvPr/>
        </p:nvSpPr>
        <p:spPr>
          <a:xfrm>
            <a:off x="2340000" y="285264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cc33"/>
                </a:solidFill>
                <a:latin typeface="Arial"/>
              </a:rPr>
              <a:t>自 读 要 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95280" y="1484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</a:rPr>
              <a:t>自由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</a:rPr>
              <a:t>画出本课生字新词，联系上下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</a:rPr>
              <a:t>理解词语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</a:rPr>
              <a:t>给课文分段，说说主要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4130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ff"/>
                </a:solidFill>
                <a:latin typeface="Arial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ff"/>
                </a:solidFill>
                <a:latin typeface="Arial"/>
              </a:rPr>
              <a:t>谈虎色变   袭击   摧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ff"/>
                </a:solidFill>
                <a:latin typeface="Arial"/>
              </a:rPr>
              <a:t>抛来掷去   马萨诸塞州   肆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ff"/>
                </a:solidFill>
                <a:latin typeface="Arial"/>
              </a:rPr>
              <a:t>面目全非   恐怖   人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132000" y="1700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x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427640" y="17002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u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547640" y="321300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zh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3492360" y="321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3995640" y="314172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zh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084720" y="32130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ì nü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4932360" y="4653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h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24130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ff"/>
                </a:solidFill>
                <a:latin typeface="Arial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ff"/>
                </a:solidFill>
                <a:latin typeface="Arial"/>
              </a:rPr>
              <a:t>谈虎色变   袭击   摧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ff"/>
                </a:solidFill>
                <a:latin typeface="Arial"/>
              </a:rPr>
              <a:t>抛来掷去   马萨诸塞州   肆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ff"/>
                </a:solidFill>
                <a:latin typeface="Arial"/>
              </a:rPr>
              <a:t>面目全非   恐怖   人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132000" y="1700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x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4427640" y="17002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u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547640" y="321300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zh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3492360" y="321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3995640" y="314172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zh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6084720" y="32130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ì nü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4932360" y="4653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h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"/>
          <p:cNvSpPr/>
          <p:nvPr/>
        </p:nvSpPr>
        <p:spPr>
          <a:xfrm>
            <a:off x="722160" y="5905440"/>
            <a:ext cx="53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</a:rPr>
              <a:t>课文分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Arial"/>
              </a:rPr>
              <a:t>第一段（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99cc"/>
                </a:solidFill>
                <a:latin typeface="Arial"/>
              </a:rPr>
              <a:t>）：讲遭遇过龙卷风的人为它特异的形态，狂暴威猛的气势而久久不能平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Arial"/>
              </a:rPr>
              <a:t>第二段（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2-4</a:t>
            </a:r>
            <a:r>
              <a:rPr b="1" lang="zh-CN" sz="3200" spc="-1" strike="noStrike">
                <a:solidFill>
                  <a:srgbClr val="0099cc"/>
                </a:solidFill>
                <a:latin typeface="Arial"/>
              </a:rPr>
              <a:t>）：具体描写陆龙卷和还龙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Arial"/>
              </a:rPr>
              <a:t>第三段（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99cc"/>
                </a:solidFill>
                <a:latin typeface="Arial"/>
              </a:rPr>
              <a:t>）：讲目前还无法测量龙卷风的旋转速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7T11:51:3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55:55Z</dcterms:modified>
  <cp:revision>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