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6A5-C11E-4968-811F-53C682ED99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441F-50E5-48AA-9EA8-04680AF7FA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26A-251E-4CA0-B2BC-0463C1A6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54F-27FF-4317-BE52-0B16855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2BD-7B79-46F5-830B-FC745E24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993-3E3E-4D65-A7CA-6639BFDB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42E-1709-4C78-BD69-63A8F15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68B-AE82-4B30-955C-4FF50B7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841-0340-4BAB-ABF3-D28A35D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5A7-3E8C-49A0-836F-C6601BF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314-7A60-4454-B1E7-0F9A12F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94A-B83C-46C8-AD20-8A2F9C2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C6D-26C8-4E37-8EDC-A1B32E1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15C-FC5E-47AE-BB2F-5182C92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4D54-18E7-4F85-BC5E-9BFD9A2A2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龙 卷 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863720" y="59482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5F75-BB45-43F7-A8A6-8AAAB1F377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Arial"/>
              </a:rPr>
              <a:t>发生在陆地上叫陆龙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发生在海上叫海龙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0800000">
            <a:off x="3348000" y="6126120"/>
            <a:ext cx="533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611280" y="981000"/>
            <a:ext cx="79246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质疑：龙卷风是如何形成的？</a:t>
            </a:r>
            <a:endParaRPr b="0" lang="en-US" sz="4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教 学 目 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并掌握本课的生字新词，联系上下文理解个别词语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整体感知课文内容，给课文分段，说说各段的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课文第一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2340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自 读 要 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自由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画出本课生字新词，联系上下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理解词语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给课文分段，说说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41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谈虎色变   袭击   摧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抛来掷去   马萨诸塞州   肆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面目全非   恐怖   人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13200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27640" y="17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54764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49236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9564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084720" y="321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ì nü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93236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课文分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遭遇过龙卷风的人为它特异的形态，狂暴威猛的气势而久久不能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2-4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具体描写陆龙卷和还龙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三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目前还无法测量龙卷风的旋转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3092400" y="5140440"/>
            <a:ext cx="51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自由读第一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05264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虎色变”什么意思？为什么人们会有这种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8360" y="234936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谈虎色变：比喻人们一提到可怕的龙卷风连脸色都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说明遭遇过龙卷风的人非常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71640" y="3564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特异”和“狂暴威猛”又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8360" y="443700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特异：特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狂暴威猛：课文指龙卷风的威力强烈而凶暴，强大的让人感到恐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1:5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3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