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EA55-BFDD-4FA0-8DE0-A89A01A4D6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2C5C-E740-46AF-B64B-A3C2848B57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981-F118-4068-B5D5-83AD2808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A20-6EE1-42CA-BA8F-8FE70CB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B0B-B863-4548-89EB-9EC19B33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5D1-3D59-4F9F-8C0E-CEB3E364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243-8A46-4A8D-A3BA-5784E98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D70-7277-4FD4-8145-4BD5F6B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D90-682A-4BC9-8BCF-8094F89F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7E9-DEB6-47E3-A7F7-086D7E1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4C7-D6C3-484B-9A0B-F719DDE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566-961F-4808-89C8-564948D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C09-7DEA-4C2F-9DE2-435AFD0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5FC-45E3-42AE-84EC-8D558937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2CDA-EAC9-4C67-A93C-B2B4FBC7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839160" y="457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638360" y="16765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华文隶书"/>
                <a:ea typeface="华文隶书"/>
              </a:rPr>
              <a:t>老师的话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9B0-DC6E-49B8-A2A2-AC68E3083F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备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读课文，做到正确、洪亮、通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圈出不认识的字，借助拼音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圈出课文写了大自然哪些美好事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1028880" y="1030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山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05640" y="1060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047200" y="1006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951960" y="1006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话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32400" y="253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春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989800" y="253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花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123160" y="2606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104600" y="2606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天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081600" y="396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香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84720" y="3962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一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13628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暖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218400" y="519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明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5123160" y="519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059960" y="5105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清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838080" y="762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ān ɡ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778120" y="7650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495288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ǎ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6842880" y="689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6094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ū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811600" y="213372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4911840" y="2212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īnɡ xī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6757200" y="22892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ā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à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2871000" y="35845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ā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5098320" y="350820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689520" y="343224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ǎ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ǎ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37960" y="480384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í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à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5028480" y="48038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ù 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6663600" y="465120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ī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ī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quán               q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谷的泉水，一点一点清清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的花蜜，一滴一滴甜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xīng             kē  li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上的星星，一颗一颗亮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yǔ      jù        nu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的话语，一句一句暖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         话语         泉水 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清的    甜甜的    亮亮的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暖暖的   一颗星    一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）的泉水    （     ）的花蜜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）的星星    （     ）的话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老师    语    泉    清   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甜    星    颗    亮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       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亮的星星好像一颗颗小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间的清泉甜又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的每一句话语都让我们感到温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457200" y="649296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2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天的                   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上的 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的                      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140360" y="112536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843280" y="162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4356000" y="2205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843280" y="2708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356000" y="33577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2916360" y="386064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916360" y="44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356000" y="4437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843280" y="1628640"/>
            <a:ext cx="4176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356000" y="2205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843280" y="270828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4356000" y="335772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916360" y="386064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2916360" y="4437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356000" y="443700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2949480" y="494172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5:09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09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