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D344-40E3-4DE0-A5CE-6C35B8A719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9C4-0D5A-490E-9438-3173F73871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4DA-887C-4E95-AF6E-6B600FDC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F2E-7A30-4308-957C-96A3854B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9E0-34B1-4E86-B02D-080912BD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46D-34CF-4B64-AC60-99FF1056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99B-65F0-4F86-842C-604E2533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858-FF78-4B29-A992-F15ABCEA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4FB-2B4B-4E46-8533-F9C67351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7FD-AF90-4611-A233-59A75718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07A-36B5-43C9-8980-48547BD5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FE9-6F64-47E8-BB97-0161773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FBA-D14A-4341-99B4-A98D7D4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E31-FA98-451B-B366-F87B487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87EA-8D3B-4947-AEE8-5E38E356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西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362240" y="1447920"/>
            <a:ext cx="6419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绿色的竹楼</a:t>
            </a:r>
            <a:endParaRPr b="1" i="1" lang="en-US" sz="6000" spc="1" strike="noStrike">
              <a:ln w="18360">
                <a:solidFill>
                  <a:srgbClr val="ffffff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50" name="矩形 8" descr=""/>
          <p:cNvPicPr/>
          <p:nvPr/>
        </p:nvPicPr>
        <p:blipFill>
          <a:blip r:embed="rId2"/>
          <a:stretch/>
        </p:blipFill>
        <p:spPr>
          <a:xfrm>
            <a:off x="1797120" y="57150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绿色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270320" y="11430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i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929680" y="4419720"/>
            <a:ext cx="41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的偏旁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革字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6547680" y="24382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皮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（脱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36248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绿色1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4161600" y="1447920"/>
            <a:ext cx="112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31680" y="2514600"/>
            <a:ext cx="180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脱下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脱衣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024080" y="4419720"/>
            <a:ext cx="257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脱”是左右结构的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在田字格里写时要注意“左窄右宽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038480" y="2362320"/>
            <a:ext cx="14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绿色1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042800" y="1295280"/>
            <a:ext cx="16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á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291360" y="2514600"/>
            <a:ext cx="188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凉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冰凉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620080" y="43038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注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：“凉”是三拼音节，声母是边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，又是后鼻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362480" y="2286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绿色1"/>
          <p:cNvPicPr/>
          <p:nvPr/>
        </p:nvPicPr>
        <p:blipFill>
          <a:blip r:embed="rId1"/>
          <a:stretch/>
        </p:blipFill>
        <p:spPr>
          <a:xfrm>
            <a:off x="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4345200" y="152388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249960" y="2514600"/>
            <a:ext cx="195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饭菜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吃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362480" y="24382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2011052107232674"/>
          <p:cNvPicPr/>
          <p:nvPr/>
        </p:nvPicPr>
        <p:blipFill>
          <a:blip r:embed="rId1"/>
          <a:stretch/>
        </p:blipFill>
        <p:spPr>
          <a:xfrm>
            <a:off x="0" y="-1143000"/>
            <a:ext cx="9144000" cy="8305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457200" y="344520"/>
            <a:ext cx="7620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学习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第一自然段，思考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在哪里？为什么把这房子叫竹楼？傣族的竹楼与我们所住的楼房有什么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458960" y="326088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竹楼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352680" y="38862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西双版纳”是我国云南省的一个地方，那里风景优美，以拥有一片原始森林而闻名，每年都吸引很多游客到那儿观光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7"/>
          <p:cNvPicPr/>
          <p:nvPr/>
        </p:nvPicPr>
        <p:blipFill>
          <a:blip r:embed="rId1"/>
          <a:stretch/>
        </p:blipFill>
        <p:spPr>
          <a:xfrm>
            <a:off x="5105520" y="3675240"/>
            <a:ext cx="3581280" cy="26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西双版纳2"/>
          <p:cNvPicPr/>
          <p:nvPr/>
        </p:nvPicPr>
        <p:blipFill>
          <a:blip r:embed="rId2"/>
          <a:stretch/>
        </p:blipFill>
        <p:spPr>
          <a:xfrm>
            <a:off x="304920" y="37339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xisuangbanna1"/>
          <p:cNvPicPr/>
          <p:nvPr/>
        </p:nvPicPr>
        <p:blipFill>
          <a:blip r:embed="rId3"/>
          <a:stretch/>
        </p:blipFill>
        <p:spPr>
          <a:xfrm>
            <a:off x="1981080" y="380880"/>
            <a:ext cx="4876920" cy="297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、欧2"/>
          <p:cNvPicPr/>
          <p:nvPr/>
        </p:nvPicPr>
        <p:blipFill>
          <a:blip r:embed="rId1"/>
          <a:stretch/>
        </p:blipFill>
        <p:spPr>
          <a:xfrm>
            <a:off x="-152280" y="-838080"/>
            <a:ext cx="9753480" cy="83055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28600" y="3808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女同学读第二自然段，男同学读第三自然段。根据课文所描写的，简单画出傣族竹楼的样子，从而理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悬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的含义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傣族竹楼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潮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牛羊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人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悬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_645_f8d4bffc021c7db"/>
          <p:cNvPicPr/>
          <p:nvPr/>
        </p:nvPicPr>
        <p:blipFill>
          <a:blip r:embed="rId1"/>
          <a:stretch/>
        </p:blipFill>
        <p:spPr>
          <a:xfrm>
            <a:off x="-380880" y="-685800"/>
            <a:ext cx="9372600" cy="79246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0"/>
          <p:cNvSpPr/>
          <p:nvPr/>
        </p:nvSpPr>
        <p:spPr>
          <a:xfrm>
            <a:off x="6324480" y="3733920"/>
            <a:ext cx="2286000" cy="1143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悬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、欧2"/>
          <p:cNvPicPr/>
          <p:nvPr/>
        </p:nvPicPr>
        <p:blipFill>
          <a:blip r:embed="rId1"/>
          <a:stretch/>
        </p:blipFill>
        <p:spPr>
          <a:xfrm>
            <a:off x="-380880" y="-1905120"/>
            <a:ext cx="9753480" cy="9296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80880" y="0"/>
            <a:ext cx="8153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组的同学朗读第四自然段，简单了解傣族人的饮食习惯。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组的同学朗读第五自然段，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体会到什么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4125356427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3"/>
          <p:cNvGrpSpPr/>
          <p:nvPr/>
        </p:nvGrpSpPr>
        <p:grpSpPr>
          <a:xfrm>
            <a:off x="395280" y="333360"/>
            <a:ext cx="7919640" cy="4535280"/>
            <a:chOff x="395280" y="333360"/>
            <a:chExt cx="7919640" cy="4535280"/>
          </a:xfrm>
        </p:grpSpPr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995280" y="333360"/>
              <a:ext cx="4319640" cy="449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"/>
            <p:cNvPicPr/>
            <p:nvPr/>
          </p:nvPicPr>
          <p:blipFill>
            <a:blip r:embed="rId3"/>
            <a:stretch/>
          </p:blipFill>
          <p:spPr>
            <a:xfrm>
              <a:off x="395280" y="333360"/>
              <a:ext cx="3600000" cy="45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WordArt 6"/>
          <p:cNvSpPr txBox="1"/>
          <p:nvPr/>
        </p:nvSpPr>
        <p:spPr>
          <a:xfrm>
            <a:off x="3059280" y="5373720"/>
            <a:ext cx="25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西双版纳</a:t>
            </a:r>
            <a:endParaRPr b="1" lang="en-US" sz="1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492360" y="4724280"/>
            <a:ext cx="108108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2011052107232674"/>
          <p:cNvPicPr/>
          <p:nvPr/>
        </p:nvPicPr>
        <p:blipFill>
          <a:blip r:embed="rId1"/>
          <a:stretch/>
        </p:blipFill>
        <p:spPr>
          <a:xfrm>
            <a:off x="-380880" y="-533520"/>
            <a:ext cx="9677160" cy="79250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蚂蚁蛋拌酸笋”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油炸青苔”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香    茅草裹着的烤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4" descr="蚂蚁"/>
          <p:cNvPicPr/>
          <p:nvPr/>
        </p:nvPicPr>
        <p:blipFill>
          <a:blip r:embed="rId2"/>
          <a:stretch/>
        </p:blipFill>
        <p:spPr>
          <a:xfrm>
            <a:off x="380880" y="1447920"/>
            <a:ext cx="4419720" cy="2317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5" descr="青苔"/>
          <p:cNvPicPr/>
          <p:nvPr/>
        </p:nvPicPr>
        <p:blipFill>
          <a:blip r:embed="rId3"/>
          <a:stretch/>
        </p:blipFill>
        <p:spPr>
          <a:xfrm>
            <a:off x="380880" y="3886200"/>
            <a:ext cx="4267440" cy="3757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6" descr="烤鸡"/>
          <p:cNvPicPr/>
          <p:nvPr/>
        </p:nvPicPr>
        <p:blipFill>
          <a:blip r:embed="rId4"/>
          <a:stretch/>
        </p:blipFill>
        <p:spPr>
          <a:xfrm>
            <a:off x="4952880" y="1676520"/>
            <a:ext cx="4191120" cy="632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仙人掌1"/>
          <p:cNvPicPr/>
          <p:nvPr/>
        </p:nvPicPr>
        <p:blipFill>
          <a:blip r:embed="rId2"/>
          <a:stretch/>
        </p:blipFill>
        <p:spPr>
          <a:xfrm>
            <a:off x="179280" y="3357720"/>
            <a:ext cx="4488120" cy="3284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21932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352680" y="6858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走出竹楼，满眼是绿树、鲜花，连围寨子的墙，都是长得又高又绿的仙人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10"/>
          <p:cNvPicPr/>
          <p:nvPr/>
        </p:nvPicPr>
        <p:blipFill>
          <a:blip r:embed="rId3"/>
          <a:stretch/>
        </p:blipFill>
        <p:spPr>
          <a:xfrm>
            <a:off x="228600" y="838080"/>
            <a:ext cx="26668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227016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走出竹楼，满眼是绿树、鲜花，连寨子的围墙，都是长得又高又绿的仙人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685800" y="533520"/>
            <a:ext cx="2743200" cy="533160"/>
          </a:xfrm>
          <a:prstGeom prst="wedgeRoundRectCallout">
            <a:avLst>
              <a:gd name="adj1" fmla="val -52893"/>
              <a:gd name="adj2" fmla="val 102083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看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3809880" y="2743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800600" y="274320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200400" y="31240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1600200" y="3962520"/>
            <a:ext cx="2133720" cy="457200"/>
          </a:xfrm>
          <a:prstGeom prst="wedgeRoundRectCallout">
            <a:avLst>
              <a:gd name="adj1" fmla="val -18226"/>
              <a:gd name="adj2" fmla="val -22777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1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1432080"/>
            <a:ext cx="8076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进竹楼，先得把鞋脱下放在楼梯边，光着脚进去。赤脚走在用竹子铺的地板上，凉丝丝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吃饭了，我们围坐在竹编的圆桌旁，吃着香喷喷的傣家饭菜。傣家菜可好吃呢，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蚂蚁蛋拌酸笋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，有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油炸青苔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，还有香茅草裹着的烤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4724280" y="34131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7848720" y="341316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2895480" y="379404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2514600" y="4572000"/>
            <a:ext cx="3429000" cy="457200"/>
          </a:xfrm>
          <a:prstGeom prst="wedgeRoundRectCallout">
            <a:avLst>
              <a:gd name="adj1" fmla="val -19398"/>
              <a:gd name="adj2" fmla="val -181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还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、欧2"/>
          <p:cNvPicPr/>
          <p:nvPr/>
        </p:nvPicPr>
        <p:blipFill>
          <a:blip r:embed="rId1"/>
          <a:stretch/>
        </p:blipFill>
        <p:spPr>
          <a:xfrm>
            <a:off x="-228600" y="-685800"/>
            <a:ext cx="9753480" cy="8534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838080" y="68580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第六自然段，作者为什么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竹楼，我可爱的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2730600" y="3809880"/>
            <a:ext cx="647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、欧2"/>
          <p:cNvPicPr/>
          <p:nvPr/>
        </p:nvPicPr>
        <p:blipFill>
          <a:blip r:embed="rId1"/>
          <a:stretch/>
        </p:blipFill>
        <p:spPr>
          <a:xfrm>
            <a:off x="0" y="-380880"/>
            <a:ext cx="9753480" cy="792468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1676520" y="838080"/>
            <a:ext cx="5638680" cy="2743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的竹楼是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爱的家，我们每个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友也有自己的家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家可爱吗？它有什么特点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9900"/>
                </a:solidFill>
                <a:latin typeface="Arial"/>
                <a:ea typeface="楷体_GB2312"/>
              </a:rPr>
              <a:t>欣赏图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67816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D4A7-A86D-4418-AB74-033C826376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、欧2"/>
          <p:cNvPicPr/>
          <p:nvPr/>
        </p:nvPicPr>
        <p:blipFill>
          <a:blip r:embed="rId1"/>
          <a:stretch/>
        </p:blipFill>
        <p:spPr>
          <a:xfrm>
            <a:off x="-152280" y="-2286000"/>
            <a:ext cx="9753480" cy="9906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52280" y="0"/>
            <a:ext cx="89917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学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会读、写七个一类字，会认九个二类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能够正确、流利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了解傣族人民的楼房与我们所住楼房的区别，简单了解傣族人民的生活习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培养学生热爱家乡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29040" y="30492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在图上所看到的傣族人的楼房是什么样子的？今天我们就要具体去看看傣族人的楼房到底是什么样子？又有什么样的作用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竹楼4"/>
          <p:cNvPicPr/>
          <p:nvPr/>
        </p:nvPicPr>
        <p:blipFill>
          <a:blip r:embed="rId1"/>
          <a:stretch/>
        </p:blipFill>
        <p:spPr>
          <a:xfrm>
            <a:off x="-5335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99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799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99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99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1355760" y="70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2011051707554402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29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1890720" y="1165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0010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读课文</a:t>
            </a: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同学们听录音，标记出一、二类生字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读全文，标记出课文中一共有   几个自然段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全文共有六个自然段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2第二课 绿色的竹楼.mp3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、欧2"/>
          <p:cNvPicPr/>
          <p:nvPr/>
        </p:nvPicPr>
        <p:blipFill>
          <a:blip r:embed="rId2"/>
          <a:stretch/>
        </p:blipFill>
        <p:spPr>
          <a:xfrm>
            <a:off x="-609480" y="-990720"/>
            <a:ext cx="9753480" cy="10287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0" y="1936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家在美丽的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双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uā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纳。那儿的房屋不用砖，不用石，是用绿色的竹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建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ià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造的，人们叫它竹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竹楼是悬空的，由粗大的竹子支撑着。屋里能防潮，楼下用来养牛喂猪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姥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ǎ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姥说，造竹楼的方法，还是当年诸葛亮教给傣族人的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竹楼，先得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tuō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放在楼梯边，光着脚进去。赤脚走在用竹子铺的地板上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凉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á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丝丝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饭了，我们围坐在竹编的圆桌旁，吃着香喷喷的傣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饭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à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。傣家菜可好吃呢，有“蚂蚁蛋拌酸笋”，有“油炸青苔”，还有“香茅草裹着的烤鸡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走出竹楼，满眼是绿树、鲜花，连寨子的围墙，都是长得又高又绿的仙人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的竹楼，我可爱的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第二课 绿色的竹楼 (1).mp3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788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87886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绿色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2385720" y="46483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写“双”字时，要注意把左边“又”的一捺变形写成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124080" y="762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895480" y="762120"/>
            <a:ext cx="29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u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243840" y="20574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双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一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80400" y="228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733920" y="1752480"/>
            <a:ext cx="140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绿色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415520" y="4724280"/>
            <a:ext cx="6176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注意：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建”字的部首是“廴”（建之旁），不是“辶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657600" y="1143000"/>
            <a:ext cx="19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95880" y="2209680"/>
            <a:ext cx="22100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建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建成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210200" y="22096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绿色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552680" y="3429000"/>
            <a:ext cx="428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178520" y="99072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981080" y="4572000"/>
            <a:ext cx="661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的偏旁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字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注意把左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一捺写成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700320" y="24382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姥姥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姥爷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28652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33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51Z</dcterms:modified>
  <cp:revision>3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