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type.wav" ContentType="audio/x-wav"/>
  <Override PartName="/ppt/media/image4.png" ContentType="image/png"/>
  <Override PartName="/ppt/media/image5.gif" ContentType="image/gi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9892-789C-4976-9136-7EC32897AE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BDE9-01A9-44FC-A384-869F9F80CBE2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460-39E7-49C9-A3DB-413F3767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4495-5775-42D0-8296-7447FB89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9485-1F9B-48E9-A1B7-FB799C74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3AE4-ADCF-4CBB-BC9F-4243A18C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9219-E91F-4DDD-9658-56E87419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85C-167C-4957-B0EA-4A473531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D47-DF2D-4841-ACDE-6FED7231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3C0-1262-41DF-86BB-F1B0391D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AB6F-9FF4-41F8-8DA2-DE687A45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1CDC-B3AC-42BC-91CC-DA76A97D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5A5C-8C58-43AF-93D8-68E2F007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E3AD-CB7C-44BA-8C84-B9F4E535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8DC4-E759-432F-87E5-F001679D6D20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d2ef9908457fb3b00b7b82e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2303640" y="2060640"/>
            <a:ext cx="453672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33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柳 树</a:t>
            </a:r>
            <a:endParaRPr b="1" lang="en-US" sz="1800" spc="-1" strike="noStrike">
              <a:ln w="0">
                <a:noFill/>
              </a:ln>
              <a:solidFill>
                <a:srgbClr val="0033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83636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564000" y="2276640"/>
            <a:ext cx="496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想一想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她还会钓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.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从春天钓到冬天。”是什么意思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Picture 4" descr="感受领悟"/>
          <p:cNvPicPr/>
          <p:nvPr/>
        </p:nvPicPr>
        <p:blipFill>
          <a:blip r:embed="rId1"/>
          <a:stretch/>
        </p:blipFill>
        <p:spPr>
          <a:xfrm>
            <a:off x="684360" y="981000"/>
            <a:ext cx="2663640" cy="72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图片18"/>
          <p:cNvPicPr/>
          <p:nvPr/>
        </p:nvPicPr>
        <p:blipFill>
          <a:blip r:embed="rId2"/>
          <a:stretch/>
        </p:blipFill>
        <p:spPr>
          <a:xfrm>
            <a:off x="826920" y="2205000"/>
            <a:ext cx="282132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826920" y="2492280"/>
            <a:ext cx="49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柳树什么也没钓到，但她并没有灰心，从中你懂得了什么？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1" name="Picture 5" descr="拓展学习"/>
          <p:cNvPicPr/>
          <p:nvPr/>
        </p:nvPicPr>
        <p:blipFill>
          <a:blip r:embed="rId1"/>
          <a:stretch/>
        </p:blipFill>
        <p:spPr>
          <a:xfrm>
            <a:off x="755640" y="907920"/>
            <a:ext cx="2376360" cy="587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微笑的小女孩"/>
          <p:cNvPicPr/>
          <p:nvPr/>
        </p:nvPicPr>
        <p:blipFill>
          <a:blip r:embed="rId2"/>
          <a:stretch/>
        </p:blipFill>
        <p:spPr>
          <a:xfrm>
            <a:off x="6084720" y="1413000"/>
            <a:ext cx="2370240" cy="4752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图片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课内延伸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55640" y="1844640"/>
            <a:ext cx="540072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收集描写柳树的词语、句子或诗，摘抄下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积累语言，丰富知识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d2ef9908457eb3b00b7b82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e8fd657eb9f8cb1d0dd7dae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QQ截图未命名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1071720" y="5877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你觉得柳树像什么？你能想象她在做什么吗？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2556000" y="2060640"/>
            <a:ext cx="4032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3468600" y="5473800"/>
            <a:ext cx="53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AE8D-94A2-4D6E-8BCC-8DCA0C3C04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4000" y="184428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．写田字格里的四个生字，做到笔顺正确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．借助汉语拼音朗读课文，背诵课文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．了解柳树的形态特点，初步培养感受美欣赏美的情趣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柳树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920" y="990720"/>
            <a:ext cx="860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3400" spc="-1" strike="noStrike">
                <a:solidFill>
                  <a:srgbClr val="0033cc"/>
                </a:solidFill>
                <a:latin typeface="Arial"/>
              </a:rPr>
              <a:t>柳树，站在池塘边。她弯着身子，垂下一根根绿色的线。</a:t>
            </a:r>
            <a:endParaRPr b="0" lang="en-US" sz="3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400" spc="-1" strike="noStrike">
                <a:solidFill>
                  <a:srgbClr val="0033cc"/>
                </a:solidFill>
                <a:latin typeface="Arial"/>
              </a:rPr>
              <a:t>她在做什么？钓云朵，钓太阳，钓星星，钓月亮 </a:t>
            </a: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400" spc="-1" strike="noStrike">
                <a:solidFill>
                  <a:srgbClr val="0033cc"/>
                </a:solidFill>
                <a:latin typeface="Arial"/>
              </a:rPr>
              <a:t>从白天钓到黑夜，从春天钓到冬天。</a:t>
            </a:r>
            <a:endParaRPr b="0" lang="en-US" sz="3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400" spc="-1" strike="noStrike">
                <a:solidFill>
                  <a:srgbClr val="0033cc"/>
                </a:solidFill>
                <a:latin typeface="Arial"/>
              </a:rPr>
              <a:t>钓到了吗？没有。灰心了吗？也没有。日子一天天过去了，你看：绿色的钓线，越垂越多，越垂越长。</a:t>
            </a:r>
            <a:endParaRPr b="0" lang="en-US" sz="3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400" spc="-1" strike="noStrike">
                <a:solidFill>
                  <a:srgbClr val="0033cc"/>
                </a:solidFill>
                <a:latin typeface="Arial"/>
              </a:rPr>
              <a:t>柳树，多天真，多漂亮，多逗人喜爱呀！</a:t>
            </a:r>
            <a:endParaRPr b="0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文本框3"/>
          <p:cNvPicPr/>
          <p:nvPr/>
        </p:nvPicPr>
        <p:blipFill>
          <a:blip r:embed="rId1"/>
          <a:stretch/>
        </p:blipFill>
        <p:spPr>
          <a:xfrm>
            <a:off x="0" y="0"/>
            <a:ext cx="90108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8360" y="1600200"/>
            <a:ext cx="182628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99ff"/>
                </a:solidFill>
                <a:latin typeface="Times New Roman"/>
              </a:rPr>
              <a:t>识字小明星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784600" y="10303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柳树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800440" y="19051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池塘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845800" y="2819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一边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800440" y="3657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长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860560" y="468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做下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5695920" y="1143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太阳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5695920" y="1981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漂亮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5640480" y="2852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逗人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5508720" y="3860640"/>
            <a:ext cx="69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呀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5713560" y="4653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钓鱼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柳</a:t>
            </a:r>
            <a:endParaRPr b="0" lang="en-US" sz="20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池</a:t>
            </a:r>
            <a:endParaRPr b="0" lang="en-US" sz="20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塘</a:t>
            </a:r>
            <a:endParaRPr b="0" lang="en-US" sz="20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边</a:t>
            </a:r>
            <a:endParaRPr b="0" lang="en-US" sz="20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线</a:t>
            </a:r>
            <a:endParaRPr b="0" lang="en-US" sz="20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做</a:t>
            </a:r>
            <a:endParaRPr b="0" lang="en-US" sz="20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太</a:t>
            </a:r>
            <a:endParaRPr b="0" lang="en-US" sz="20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漂</a:t>
            </a:r>
            <a:endParaRPr b="0" lang="en-US" sz="20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逗</a:t>
            </a:r>
            <a:endParaRPr b="0" lang="en-US" sz="20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呀</a:t>
            </a:r>
            <a:endParaRPr b="0" lang="en-US" sz="20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1:23:1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9:46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