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5DD7-EE26-437F-96B3-344C4EA17AA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F6F5-9A7B-414B-A2BE-174FBBA674C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C0DD-6738-47DF-BC88-4E7A016D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46F4-BE2D-4C87-9E1D-EC1D3DA0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172-975D-4DFF-920F-3420DF067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D36-4859-4055-95D6-CD026FAF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E8A-FB39-4192-8D96-C44BEB3D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7CF-C42B-4CEB-99D2-E5C4C5BC9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CB5A-19BE-4A84-8FD1-C0F3C5A7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F02-5ADD-462D-8F80-1A6D4533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2A8-60AB-4672-90EC-46CC44D7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C86-654E-4252-B3D7-C309A9ED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4F4-7623-4999-ADB0-47E91B0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369-C355-4446-81AB-AF150A68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6953-6346-4BFF-B6E4-218CC4E7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1276200" y="1066680"/>
            <a:ext cx="6946920" cy="120024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827360" y="58672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609480" y="1001880"/>
            <a:ext cx="800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一次次睡去，一次次醒来，我却还是没有留住太阳的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我像往常一样，坐在门口，一边做作业，一边望着太阳一步步往山凹里走。幼小的心里不只是着急，而且带着几分悲哀，禁不住再一次向外婆求救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告诉我怎样留住太阳吧。我想把太阳留在山尖上，那有多好看呀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温和地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，往日你每次做完作业，太阳就下山了，看看今天能不能赶在太阳下山前做完，要是能的话，我就告诉你留住太阳的办法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434880" y="990720"/>
            <a:ext cx="8272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乐了，便埋头做起作业来。当我完成作业抬起头，看见太阳还离山峰一丈多高时，不禁高兴得跳起来，一把拉住外婆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教我，快教我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微笑着指指那悬着的太阳，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这不是留住了太阳吗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的话，尽管我一时还不太明白，但我知道，今天自己的确留住了太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1219320" y="4038480"/>
            <a:ext cx="4114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"/>
          <p:cNvSpPr/>
          <p:nvPr/>
        </p:nvSpPr>
        <p:spPr>
          <a:xfrm>
            <a:off x="3048120" y="3581280"/>
            <a:ext cx="685800" cy="0"/>
          </a:xfrm>
          <a:prstGeom prst="line">
            <a:avLst/>
          </a:prstGeom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6858000" y="3581280"/>
            <a:ext cx="533520" cy="0"/>
          </a:xfrm>
          <a:prstGeom prst="line">
            <a:avLst/>
          </a:prstGeom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09240" y="68580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”对“今天的太阳”充满奇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411000" y="184320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要“留住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4537080" y="2362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304800" y="298620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留住了“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414360" y="1139760"/>
            <a:ext cx="8272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往后的日子里，我和初升的太阳一样，慢慢长高了，也更加懂得留住今天的太阳。人要活得充实和有价值，就必须学会留住今天的太阳。尽管人不可能真的留住太阳，但是人可以比太阳走得快一步或两步，甚至三步四步，这几步看起来似乎很微小，但意义却非常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说我有什么秘诀透露给你们，那就是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留住今天的太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"/>
          <p:cNvSpPr/>
          <p:nvPr/>
        </p:nvSpPr>
        <p:spPr>
          <a:xfrm>
            <a:off x="2286000" y="2057400"/>
            <a:ext cx="4114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457200" y="4648320"/>
            <a:ext cx="35812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7238880" y="2438280"/>
            <a:ext cx="762120" cy="0"/>
          </a:xfrm>
          <a:prstGeom prst="line">
            <a:avLst/>
          </a:prstGeom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4059360" y="2895480"/>
            <a:ext cx="512640" cy="0"/>
          </a:xfrm>
          <a:prstGeom prst="line">
            <a:avLst/>
          </a:prstGeom>
          <a:ln w="19080">
            <a:solidFill>
              <a:srgbClr val="66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09240" y="685800"/>
            <a:ext cx="31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”对“今天的太阳”充满奇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3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411000" y="1843200"/>
            <a:ext cx="235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想要“留住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4537080" y="2362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304800" y="2986200"/>
            <a:ext cx="21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留住了“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4537080" y="3505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3137040" y="4114800"/>
            <a:ext cx="27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懂得怎样“留住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4267080" y="468648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3984480" y="5516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珍惜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5"/>
          <p:cNvSpPr/>
          <p:nvPr/>
        </p:nvSpPr>
        <p:spPr>
          <a:xfrm>
            <a:off x="3200400" y="457200"/>
            <a:ext cx="5029200" cy="2514600"/>
          </a:xfrm>
          <a:prstGeom prst="cloudCallout">
            <a:avLst>
              <a:gd name="adj1" fmla="val -43055"/>
              <a:gd name="adj2" fmla="val 100949"/>
            </a:avLst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能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留住今天的太阳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吗？说说你的做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7"/>
          <p:cNvSpPr/>
          <p:nvPr/>
        </p:nvSpPr>
        <p:spPr>
          <a:xfrm>
            <a:off x="4724280" y="35067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592520" y="33526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592520" y="4343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哩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485640" y="457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92520" y="33526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策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92520" y="4343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束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485640" y="457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592520" y="335268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4592520" y="43434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式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85640" y="457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1135080" y="533520"/>
            <a:ext cx="68738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  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复今日，今日何其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又不为，此事何时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生百年几今日，今日不为真可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言姑待明朝至，明朝又有明朝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君聊赋今日诗，努力请从今日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77880" y="1108080"/>
            <a:ext cx="778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，我总爱站在屋旁，望着太阳一寸一寸地沉到山凹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为什么天天都往山凹里走呢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眨巴着眼睛问外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累了，要到山那边去睡觉哩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i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笑吟吟地告诉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几时醒来呢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心里充满奇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天一亮，太阳就醒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还是一脸的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醒来的时候，太阳已从窗口来抚摸我的脸蛋了。我怨外婆没及时叫醒我，让我看看太阳是怎样睁开眼睛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52152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住今天的太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457200" y="685800"/>
            <a:ext cx="82296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日歌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 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日复明日，明日何其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生待明日，万事成蹉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人皆被明日累，明日无穷老将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晨昏滚滚水东流，今古悠悠日西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年明日能几何，请君听我明日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2454120" y="5987880"/>
            <a:ext cx="58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124080" y="380880"/>
            <a:ext cx="35816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昨日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日兮昨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日何其好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昨日过去了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徒烦恼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人但知悔昨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觉今日又过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去日日流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花落日日少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事立业在今日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莫待明朝悔今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0120" y="2604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43B1-9E87-4087-853A-B10D71CFD3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609480" y="1001880"/>
            <a:ext cx="800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我知道太阳向山凹里沉下去并不是它太累，而是一天过完了。尽管明天太阳还会醒来，但永远不会有今天的太阳。于是，我便产生了一个奇怪的念头：留住今天的太阳。我把自己的想法告诉外婆，以求得到留住太阳的良策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è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我的话，外婆一把将我搂进怀里，慈爱地抚摸着我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你长大，就知道怎样留住太阳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的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肯定地点了点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，我巴不得自己快快长大，早一天把太阳留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609480" y="1001880"/>
            <a:ext cx="800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一次次睡去，一次次醒来，我却还是没有留住太阳的办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，我像往常一样，坐在门口，一边做作业，一边望着太阳一步步往山凹里走。幼小的心里不只是着急，而且带着几分悲哀，禁不住再一次向外婆求救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告诉我怎样留住太阳吧。我想把太阳留在山尖上，那有多好看呀！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温和地说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吧，往日你每次做完作业，太阳就下山了，看看今天能不能赶在太阳下山前做完，要是能的话，我就告诉你留住太阳的办法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14360" y="457200"/>
            <a:ext cx="8272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乐了，便埋头做起作业来。当我完成作业抬起头，看见太阳还离山峰一丈多高时，不禁高兴得跳起来，一把拉住外婆说：</a:t>
            </a:r>
            <a:r>
              <a:rPr b="0" lang="zh-CN" sz="2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快教我，快教我！</a:t>
            </a:r>
            <a:r>
              <a:rPr b="0" lang="zh-CN" sz="2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微笑着指指那悬着的太阳，说：</a:t>
            </a:r>
            <a:r>
              <a:rPr b="0" lang="zh-CN" sz="26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这不是留住了太阳吗？</a:t>
            </a:r>
            <a:r>
              <a:rPr b="0" lang="zh-CN" sz="26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的话，尽管我一时还不太明白，但我知道，今天自己的确留住了太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往后的日子里，我和初升的太阳一样，慢慢长高了，也更加懂得留住今天的太阳。人要活得充实和有价值，就必须学会留住今天的太阳。尽管人不可能真的留住太阳，但是人可以比太阳走得快一步或（</a:t>
            </a:r>
            <a:r>
              <a:rPr b="0" lang="en-US" sz="2600" spc="-1" strike="noStrike">
                <a:solidFill>
                  <a:srgbClr val="000000"/>
                </a:solidFill>
                <a:latin typeface="宋体"/>
              </a:rPr>
              <a:t>huò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两步，甚至三步四步，这几步看起来似乎很微小，但意义却非常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说我有什么秘诀透露给你们，那就是</a:t>
            </a:r>
            <a:r>
              <a:rPr b="0" lang="en-US" sz="2600" spc="-1" strike="noStrike">
                <a:solidFill>
                  <a:srgbClr val="000000"/>
                </a:solidFill>
                <a:latin typeface="楷体"/>
                <a:ea typeface="楷体_GB2312"/>
              </a:rPr>
              <a:t>——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会留住今天的太阳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746280" y="1031760"/>
            <a:ext cx="7788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候，我总爱站在屋旁，望着太阳一寸一寸地沉到山凹里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为什么天天都往山凹里走呢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眨巴着眼睛问外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累了，要到山那边去睡觉哩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笑吟吟地告诉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太阳几时醒来呢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心里充满奇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天天一亮，太阳就醒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还是一脸的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醒来的时候，太阳已从窗口来抚摸我的脸蛋了。我怨外婆没及时叫醒我，让我看看太阳是怎样睁开眼睛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3521520" y="3049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留住今天的太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2"/>
          <p:cNvSpPr/>
          <p:nvPr/>
        </p:nvSpPr>
        <p:spPr>
          <a:xfrm>
            <a:off x="7010280" y="403848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7391520" y="403848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2297160" y="146988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”对“今天的太阳”充满奇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77880" y="990720"/>
            <a:ext cx="8008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我知道太阳向山凹里沉下去并不是它太累，而是一天过完了。尽管明天太阳还会醒来，但永远不会有今天的太阳。于是，我便产生了一个奇怪的念头：留住今天的太阳。我把自己的想法告诉外婆，以求得到留住太阳的良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了我的话，外婆一把将我搂进怀里，慈爱地抚摸着我：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你长大，就知道怎样留住太阳了。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的？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婆肯定地点了点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，我巴不得自己快快长大，早一天把太阳留住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7"/>
          <p:cNvSpPr/>
          <p:nvPr/>
        </p:nvSpPr>
        <p:spPr>
          <a:xfrm>
            <a:off x="4421160" y="19051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4800600" y="19065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9"/>
          <p:cNvSpPr/>
          <p:nvPr/>
        </p:nvSpPr>
        <p:spPr>
          <a:xfrm>
            <a:off x="8383680" y="18288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2838600" y="68580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”对“今天的太阳”充满奇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572000" y="1219320"/>
            <a:ext cx="0" cy="533160"/>
          </a:xfrm>
          <a:prstGeom prst="line">
            <a:avLst/>
          </a:prstGeom>
          <a:ln w="38160">
            <a:solidFill>
              <a:srgbClr val="ff99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325680" y="184320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想要“留住今天的太阳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20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3:00Z</dcterms:modified>
  <cp:revision>5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