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018-E8DC-4A84-8E0B-AD365A6E5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408-718A-4F69-A0EA-6CFDFEA0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3E11-2B99-43B0-BB44-B1482218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A7C3-5D11-402C-95BD-000D1366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19E-B17A-470D-8EBC-1CD15229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D83-5943-40DA-B6DE-8BD7602A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782-938F-4ADD-86E8-D303B96B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579-0581-4354-8A3A-CB7FED15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5F0-30B9-48AD-ABA1-779B17DF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5DD-2F08-4949-BA74-CFB7ED9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C3AC7-0CC4-4D09-831F-2E72B78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E6463-A73F-4823-9ACE-49670E9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87D3A-2C48-4B22-9545-42349FA5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36DE5-CBB6-44C4-B630-8091E2B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EFD5-AD07-4DEC-B27A-4E287ED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23A54-B9A3-4277-B734-ECCC3AD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BC17-A353-43DC-A8FA-FC9AE68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5FA40-0D1F-4829-AD44-A5581B8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E00C3-EAE2-4DB2-B97A-A3FA0EF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DBED6-57C4-4854-8674-95FE72AC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ABF-D9B1-4879-8D6D-5751DAA9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06F78-4B90-4E0C-A8C5-D364A06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B5A5C-3D49-4D6F-9E8C-2F57E1D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05DF5-CF9D-4825-B000-EC9F415F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BB84B-6F4B-4C7F-9C76-258267B5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8316C-EE7C-4097-B1EF-96C78D0B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A1B23-8C68-404A-834A-17EBF87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7C505-C050-47F8-AED8-7F50A3A5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96AC1-2847-4569-A386-5D6BB71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97D80-ED59-40D9-9D88-F314BD4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D8002-6E2D-4E73-BD02-BC2161EA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436-01A4-41EC-B4FD-8D84B046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0D184-A501-4A3B-B41E-66AE4F9F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EE428-CF72-4A6B-A7FB-8E30F5CE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C6BB-CF74-4C30-9DC1-AB1397F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8444C-EAB4-4206-8815-AD0BB3F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44492-41FE-4E4F-91C1-1A1F480B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63A7-4E60-4CED-814C-6032E0E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3628-0B79-4FCF-9257-DFD18A81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5A24-9094-4953-89BA-D9E4BFC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2A998-D57C-4B72-AE82-8D89FF4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583A-9950-41ED-AFEA-7D5B13B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DFC2-DC76-4B00-BD69-7F2481BC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6CF8-8CAD-43F6-87E6-DECDF37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CD3C3-B5F1-4DFB-86E9-3CE3DCCF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0BF4E-DC5E-4F13-8A29-7C36CA10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5DC7-6F19-42EA-9988-2620A64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F5A1-200F-4C8C-8853-C09AF6A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E907-3B52-46F9-AD9C-D6A5BFC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E49-D157-42BF-B4D6-D80CAB22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FDB5-7886-49E4-8181-D3288AE3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90E1-7932-4B29-9728-939D08F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DA8-5ECB-40AF-8782-455403D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9C3B-71D3-42F7-A7F5-7603F41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9DB-A037-4A7D-9D1D-0562740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EC3-A606-4960-95BC-D3551CA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06DA-B863-448B-A72F-DC26E464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30D6-6B52-4A27-AC45-3AC6A70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5A49-6B9C-4014-8CE0-0ACE545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6906-3503-4379-9333-0047EBA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5925-AFA0-49BD-B3A7-1F3E0ED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875B-63CA-4A15-9ECF-87C49BB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08F7-5B9E-4CC0-BDC3-EB285362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219-E784-4451-81C4-89934CC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E525-4BFF-4EDF-9C2F-8509889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ADC6-1093-4B7C-A5EE-912838E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F6CB-DDA5-40AA-98D7-930B0C2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0057-C68C-4F13-9E41-90430FC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F7E5-C2F4-4364-B13D-B1E2603D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542C-8539-4EE4-89EA-AC252D5B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C5EE-4C5E-458A-9B9D-220D4F3F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58EE-FF72-422F-8C3E-6B38D5E2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FFB7-C464-4526-88DD-CCA08AA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662C-BECE-49CB-8DF0-9B135EC1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02F-0990-48B1-AEF6-DBBC2526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3B2C-48A8-4F14-A892-AADCBDB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6CFE-BA4B-47E7-9177-3BF5055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DED4-0449-4C65-818C-A155BCA4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FFB9-DB66-4988-A8CB-01AF965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DC753-7299-44A6-ADB6-0072599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B966-D410-4707-81B2-4168C2E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1A04-F493-43DF-9D45-6FFA365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3733-87DF-4616-B4F0-8C91D695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A703-5E5E-46B9-8912-0294432E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4209-A4FD-4A9A-AD0B-F2191B48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255-6C79-42D5-80EB-EDA25B94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913C-9209-4C09-AD34-382E07D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8CA2-633B-491A-8488-23CBDD45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E0CD-25EF-4966-BF92-A42D687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754F-CC2A-4413-AA59-B586C572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4D4E-6D9F-4DC3-8C34-C00DE39A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CA6A9-210E-42F6-9A0B-73192B65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3274C-A20B-40DA-8863-5CAC830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56B8A-0712-4A64-B806-1DB2644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EF51-6D46-466C-B7BB-A6BF10FF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EE4A-0A84-4BA5-AFD0-55AB6926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82E-58B2-433C-8D68-3A08ADA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FB46-259E-4CF9-BD5A-C9967C05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DBFD7-8211-4E38-B146-026A9467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9285-DA13-4B28-86BE-EE03066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45F5-D8E7-4597-8DB7-CFBC9A5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0AC0-318E-4375-9BE0-3998EBE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B70D-4063-4390-9363-1B02034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0E5D-10C6-4580-B3E1-37B0357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2C00-62C1-4F18-91D0-ED65F87F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B68D-4BB9-4DC0-8554-21D79B1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8782-7739-4182-B831-D68BA5C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E6C-584C-4313-989F-10072F5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187B-456F-41DA-973E-B6B32A5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5785-DA30-44B0-A95A-2A442695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569D3-7621-4765-8EEA-CA23A1B2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5DAE-7D21-444A-B864-3740CF49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951E-9D8E-4F94-AE14-83455F48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FE52-3C2F-4262-9D35-28E779A4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FD417-B15E-4B0B-A1AD-5DBD0993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2B74-8FF8-4AE3-B4A5-F09D8AE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22D7-6B17-45EB-A79E-18A1A7A6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DB89-4883-435B-86DB-6860196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2A4-2C89-4BD7-BBFB-BE3FE11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EFE4-D7BD-478C-B4D5-375B3E2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DC29-0D2C-4D52-9097-0C842C7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23D1-9C8A-455E-91EB-0E3565B2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F1C3C-DF1F-4F77-8FFE-0D99CC75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4609-0C1A-4F15-AFEB-050AA58E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03B3-F67B-436E-BC0F-2C325276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68F3-2A9D-4F65-A62F-8198B6B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6307-04F6-41EF-B630-B684729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8219-6BB7-47ED-A39D-E542BDA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A119-9C4C-47FC-8CA4-5AE24D7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45F-6318-44D0-A225-AA49ED9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96324-691D-41AE-BC97-D7C1D87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FE8DD-F2D6-4B9F-81D7-0704EFDA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546D9-FAE3-4B89-A7F4-747A316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1F98-6049-4F3F-AF40-1FC8116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9A0C-9AA4-4E6D-8B06-8CAD986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2A40-B514-40A2-A160-A561B4CA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802A2-203A-4C71-BA0E-1A996F20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99742-DF47-47ED-B517-60D7B3B3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C2899-BA79-49C5-9E3C-FC3CB227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75F20-D852-4F56-BC41-82AE410F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1D1C-844A-4FFF-AC8D-3CFABD7154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D508-1401-45D3-9082-2482BC5BB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095-1773-403F-A557-D14209AEF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A85E-8046-431B-B8AE-4C48ACDF6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7F8-CE86-462F-A7E6-5C46C98B1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3CFE-1DBB-421D-96A4-1F6FA36A9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A12-7218-4ECB-8982-FD84EE620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1AEA-C551-4965-B0CD-96B382759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988-7018-4717-802F-EB3F89A6A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D77-66CB-441D-8276-35DB27FEE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A56-A27E-4FD9-810A-8EE43F584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287-009F-4EB3-BBE6-BAFCF5899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611280" y="549360"/>
            <a:ext cx="61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黑体"/>
                <a:ea typeface="黑体"/>
              </a:rPr>
              <a:t>湘教版 二年级 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6"/>
          <p:cNvSpPr txBox="1"/>
          <p:nvPr/>
        </p:nvSpPr>
        <p:spPr>
          <a:xfrm>
            <a:off x="1116000" y="1773360"/>
            <a:ext cx="657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23.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两只青蛙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60" name="Picture 7" descr="MCj03561630000[1]"/>
          <p:cNvPicPr/>
          <p:nvPr/>
        </p:nvPicPr>
        <p:blipFill>
          <a:blip r:embed="rId2"/>
          <a:stretch/>
        </p:blipFill>
        <p:spPr>
          <a:xfrm>
            <a:off x="5929200" y="4429080"/>
            <a:ext cx="2233800" cy="1359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MCj03946440000[1]"/>
          <p:cNvPicPr/>
          <p:nvPr/>
        </p:nvPicPr>
        <p:blipFill>
          <a:blip r:embed="rId3"/>
          <a:stretch/>
        </p:blipFill>
        <p:spPr>
          <a:xfrm>
            <a:off x="2779560" y="4454640"/>
            <a:ext cx="1622520" cy="1635120"/>
          </a:xfrm>
          <a:prstGeom prst="rect">
            <a:avLst/>
          </a:prstGeom>
          <a:ln w="0">
            <a:noFill/>
          </a:ln>
        </p:spPr>
      </p:pic>
      <p:sp>
        <p:nvSpPr>
          <p:cNvPr id="462" name="矩形 5"/>
          <p:cNvSpPr/>
          <p:nvPr/>
        </p:nvSpPr>
        <p:spPr>
          <a:xfrm>
            <a:off x="165528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75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15"/>
          <p:cNvSpPr/>
          <p:nvPr/>
        </p:nvSpPr>
        <p:spPr>
          <a:xfrm>
            <a:off x="928800" y="264312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兄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285920" y="1500120"/>
            <a:ext cx="24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i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5"/>
          <p:cNvSpPr/>
          <p:nvPr/>
        </p:nvSpPr>
        <p:spPr>
          <a:xfrm>
            <a:off x="4214880" y="200016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兄弟     表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6"/>
          <p:cNvSpPr/>
          <p:nvPr/>
        </p:nvSpPr>
        <p:spPr>
          <a:xfrm>
            <a:off x="6012000" y="76500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兄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和小江是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兄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93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1785960" y="150012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15"/>
          <p:cNvSpPr/>
          <p:nvPr/>
        </p:nvSpPr>
        <p:spPr>
          <a:xfrm>
            <a:off x="4214880" y="2000160"/>
            <a:ext cx="453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弟弟    小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6"/>
          <p:cNvSpPr/>
          <p:nvPr/>
        </p:nvSpPr>
        <p:spPr>
          <a:xfrm>
            <a:off x="5651640" y="69228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弟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弟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读一年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611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1785960" y="1500120"/>
            <a:ext cx="121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5"/>
          <p:cNvSpPr/>
          <p:nvPr/>
        </p:nvSpPr>
        <p:spPr>
          <a:xfrm>
            <a:off x="4214880" y="200016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井底    底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5867280" y="4762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底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井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两只青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629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15"/>
          <p:cNvSpPr/>
          <p:nvPr/>
        </p:nvSpPr>
        <p:spPr>
          <a:xfrm>
            <a:off x="928800" y="247320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欠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1571760" y="14288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q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5"/>
          <p:cNvSpPr/>
          <p:nvPr/>
        </p:nvSpPr>
        <p:spPr>
          <a:xfrm>
            <a:off x="4214880" y="200016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欠条    欠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"/>
          <p:cNvSpPr/>
          <p:nvPr/>
        </p:nvSpPr>
        <p:spPr>
          <a:xfrm>
            <a:off x="5867280" y="54936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欠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可以借给你钱，但是你要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欠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250920" y="1989000"/>
            <a:ext cx="8642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准字音，想一想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数一数课文有几个自然段？在每一段前标上序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5"/>
          <p:cNvSpPr/>
          <p:nvPr/>
        </p:nvSpPr>
        <p:spPr>
          <a:xfrm>
            <a:off x="611280" y="476280"/>
            <a:ext cx="3457440" cy="144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971640" y="1052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4"/>
          <p:cNvSpPr/>
          <p:nvPr/>
        </p:nvSpPr>
        <p:spPr>
          <a:xfrm>
            <a:off x="0" y="765000"/>
            <a:ext cx="88930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井里住着两只青蛙，一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，一只小。每天，他俩唱着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老歌，眯着眼睛，欣赏着从井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射进来的一缕阳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111600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61928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5940360" y="371628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6372360" y="371628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3348000" y="4869000"/>
            <a:ext cx="2160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细读感悟"/>
          <p:cNvPicPr/>
          <p:nvPr/>
        </p:nvPicPr>
        <p:blipFill>
          <a:blip r:embed="rId2"/>
          <a:stretch/>
        </p:blipFill>
        <p:spPr>
          <a:xfrm>
            <a:off x="285840" y="285840"/>
            <a:ext cx="3571920" cy="955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0" y="1125360"/>
            <a:ext cx="9144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和大青蛙它们俩的想法有什么不同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12" descr="T01AAC~1"/>
          <p:cNvPicPr/>
          <p:nvPr/>
        </p:nvPicPr>
        <p:blipFill>
          <a:blip r:embed="rId1"/>
          <a:stretch/>
        </p:blipFill>
        <p:spPr>
          <a:xfrm>
            <a:off x="3059280" y="4572000"/>
            <a:ext cx="3228840" cy="228600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3"/>
          <p:cNvSpPr/>
          <p:nvPr/>
        </p:nvSpPr>
        <p:spPr>
          <a:xfrm>
            <a:off x="0" y="333360"/>
            <a:ext cx="5003640" cy="2232000"/>
          </a:xfrm>
          <a:prstGeom prst="cloudCallout">
            <a:avLst>
              <a:gd name="adj1" fmla="val -31759"/>
              <a:gd name="adj2" fmla="val 12916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395280" y="69228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老闷在井里，什么也不知道，为什么不到外面去看看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360" y="1916280"/>
            <a:ext cx="5651640" cy="2449440"/>
          </a:xfrm>
          <a:prstGeom prst="cloudCallout">
            <a:avLst>
              <a:gd name="adj1" fmla="val -27472"/>
              <a:gd name="adj2" fmla="val 8752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4067280" y="198900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好看的，天不就井口那么大吗？爬出去很危险的呀，还不如这儿舒服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580000" y="3716280"/>
            <a:ext cx="6476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5724360" y="4292640"/>
            <a:ext cx="64800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10" descr="T01EC5~1"/>
          <p:cNvPicPr/>
          <p:nvPr/>
        </p:nvPicPr>
        <p:blipFill>
          <a:blip r:embed="rId2"/>
          <a:stretch/>
        </p:blipFill>
        <p:spPr>
          <a:xfrm>
            <a:off x="0" y="4437000"/>
            <a:ext cx="1562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7"/>
          <p:cNvSpPr/>
          <p:nvPr/>
        </p:nvSpPr>
        <p:spPr>
          <a:xfrm>
            <a:off x="0" y="1357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老闷在井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也不知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不到外面去看看呢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1357200" y="3643200"/>
            <a:ext cx="65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安于现状    敢于尝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857160" y="500076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对小青蛙说些什么呢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"/>
          <p:cNvSpPr/>
          <p:nvPr/>
        </p:nvSpPr>
        <p:spPr>
          <a:xfrm>
            <a:off x="2006640" y="99216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79280" y="69228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没有动摇自己的决心，他沿着又滑又陡的井壁向上爬去，跌下来，又继续爬。爬呀爬，爬呀爬，有一天终于爬出了井口，他惊奇地瞪大了眼睛：呀！多大多大的天啊，多美多美的地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4211640" y="5157720"/>
            <a:ext cx="81000" cy="71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5435640" y="5157720"/>
            <a:ext cx="71280" cy="71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6"/>
          <p:cNvSpPr/>
          <p:nvPr/>
        </p:nvSpPr>
        <p:spPr>
          <a:xfrm>
            <a:off x="468360" y="5950080"/>
            <a:ext cx="71280" cy="71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7"/>
          <p:cNvSpPr/>
          <p:nvPr/>
        </p:nvSpPr>
        <p:spPr>
          <a:xfrm>
            <a:off x="1835280" y="5877000"/>
            <a:ext cx="71280" cy="71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MCj03561630000[1]"/>
          <p:cNvPicPr/>
          <p:nvPr/>
        </p:nvPicPr>
        <p:blipFill>
          <a:blip r:embed="rId2"/>
          <a:stretch/>
        </p:blipFill>
        <p:spPr>
          <a:xfrm>
            <a:off x="4714920" y="5499000"/>
            <a:ext cx="2233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571680" y="7858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喜欢那只青蛙，为什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5" descr="细读感悟"/>
          <p:cNvPicPr/>
          <p:nvPr/>
        </p:nvPicPr>
        <p:blipFill>
          <a:blip r:embed="rId2"/>
          <a:stretch/>
        </p:blipFill>
        <p:spPr>
          <a:xfrm>
            <a:off x="0" y="0"/>
            <a:ext cx="2714760" cy="7254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青蛙没有动摇自己的决心，它沿着又滑又陡的井壁向上爬去，跌下来，又继续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"/>
          <p:cNvSpPr/>
          <p:nvPr/>
        </p:nvSpPr>
        <p:spPr>
          <a:xfrm>
            <a:off x="1285920" y="328608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坚定的信念     不怕打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0" y="4000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爬呀爬，爬呀爬，有一天终于爬出了古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6"/>
          <p:cNvSpPr/>
          <p:nvPr/>
        </p:nvSpPr>
        <p:spPr>
          <a:xfrm>
            <a:off x="3429000" y="5500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坚持不懈    有始有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4"/>
          <p:cNvSpPr/>
          <p:nvPr/>
        </p:nvSpPr>
        <p:spPr>
          <a:xfrm>
            <a:off x="357120" y="1214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爬出井口的小青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5" descr="细读感悟"/>
          <p:cNvPicPr/>
          <p:nvPr/>
        </p:nvPicPr>
        <p:blipFill>
          <a:blip r:embed="rId2"/>
          <a:stretch/>
        </p:blipFill>
        <p:spPr>
          <a:xfrm>
            <a:off x="428760" y="285840"/>
            <a:ext cx="3008160" cy="8046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两只青蛙"/>
          <p:cNvPicPr/>
          <p:nvPr/>
        </p:nvPicPr>
        <p:blipFill>
          <a:blip r:embed="rId3"/>
          <a:stretch/>
        </p:blipFill>
        <p:spPr>
          <a:xfrm>
            <a:off x="285840" y="2071800"/>
            <a:ext cx="85723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4"/>
          <p:cNvSpPr/>
          <p:nvPr/>
        </p:nvSpPr>
        <p:spPr>
          <a:xfrm>
            <a:off x="214200" y="857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小青蛙通过自己的努力，终于爬出了老井，来到了广阔天地，看到了美丽的大世界，来到了伙伴们中间，过了了新生活，是多么幸福快乐呀！可大青蛙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5" descr="细读感悟"/>
          <p:cNvPicPr/>
          <p:nvPr/>
        </p:nvPicPr>
        <p:blipFill>
          <a:blip r:embed="rId2"/>
          <a:stretch/>
        </p:blipFill>
        <p:spPr>
          <a:xfrm>
            <a:off x="214200" y="142920"/>
            <a:ext cx="3008520" cy="8049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" descr="井底蛙"/>
          <p:cNvPicPr/>
          <p:nvPr/>
        </p:nvPicPr>
        <p:blipFill>
          <a:blip r:embed="rId3"/>
          <a:stretch/>
        </p:blipFill>
        <p:spPr>
          <a:xfrm>
            <a:off x="857160" y="3857760"/>
            <a:ext cx="5572080" cy="30002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7"/>
          <p:cNvSpPr/>
          <p:nvPr/>
        </p:nvSpPr>
        <p:spPr>
          <a:xfrm>
            <a:off x="6572160" y="392904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留在井底头昏脑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214200" y="1857240"/>
            <a:ext cx="864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青蛙在美丽的世界中生活了一段时间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来到了老井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看着井里的老朋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说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续编故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青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5" descr="拓展学习"/>
          <p:cNvPicPr/>
          <p:nvPr/>
        </p:nvPicPr>
        <p:blipFill>
          <a:blip r:embed="rId2"/>
          <a:stretch/>
        </p:blipFill>
        <p:spPr>
          <a:xfrm>
            <a:off x="214200" y="285840"/>
            <a:ext cx="33577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矩形 1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2795400" cy="70776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5"/>
          <p:cNvGrpSpPr/>
          <p:nvPr/>
        </p:nvGrpSpPr>
        <p:grpSpPr>
          <a:xfrm>
            <a:off x="755640" y="1341360"/>
            <a:ext cx="7785000" cy="3508200"/>
            <a:chOff x="755640" y="1341360"/>
            <a:chExt cx="7785000" cy="3508200"/>
          </a:xfrm>
        </p:grpSpPr>
        <p:sp>
          <p:nvSpPr>
            <p:cNvPr id="691" name="TextBox 2"/>
            <p:cNvSpPr/>
            <p:nvPr/>
          </p:nvSpPr>
          <p:spPr>
            <a:xfrm>
              <a:off x="1238040" y="1341360"/>
              <a:ext cx="73026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小青蛙爬呀爬，爬呀爬，有一天，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终于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爬出了井口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Box 3"/>
            <p:cNvSpPr/>
            <p:nvPr/>
          </p:nvSpPr>
          <p:spPr>
            <a:xfrm>
              <a:off x="1238040" y="3268440"/>
              <a:ext cx="73026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小青蛙爬呀爬，爬呀爬，有一天，爬出了井口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左大括号 4"/>
            <p:cNvSpPr/>
            <p:nvPr/>
          </p:nvSpPr>
          <p:spPr>
            <a:xfrm>
              <a:off x="755640" y="1547640"/>
              <a:ext cx="482400" cy="3301920"/>
            </a:xfrm>
            <a:custGeom>
              <a:avLst/>
              <a:gdLst>
                <a:gd name="textAreaLeft" fmla="*/ 308160 w 482400"/>
                <a:gd name="textAreaRight" fmla="*/ 482760 w 482400"/>
                <a:gd name="textAreaTop" fmla="*/ 12240 h 3301920"/>
                <a:gd name="textAreaBottom" fmla="*/ 3289680 h 33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1"/>
                    <a:pt x="10800" y="262"/>
                  </a:cubicBezTo>
                  <a:lnTo>
                    <a:pt x="10800" y="10538"/>
                  </a:lnTo>
                  <a:cubicBezTo>
                    <a:pt x="10800" y="10669"/>
                    <a:pt x="5400" y="10800"/>
                    <a:pt x="0" y="10800"/>
                  </a:cubicBezTo>
                  <a:cubicBezTo>
                    <a:pt x="5400" y="10800"/>
                    <a:pt x="10800" y="10931"/>
                    <a:pt x="10800" y="11062"/>
                  </a:cubicBezTo>
                  <a:lnTo>
                    <a:pt x="10800" y="21338"/>
                  </a:lnTo>
                  <a:cubicBezTo>
                    <a:pt x="10800" y="2146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7"/>
          <p:cNvSpPr/>
          <p:nvPr/>
        </p:nvSpPr>
        <p:spPr>
          <a:xfrm>
            <a:off x="826920" y="56610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终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———————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704D-99EA-474F-A66C-34FBC7F34E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50920" y="242100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欣赏  舒服   终于  夕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宋体"/>
              </a:rPr>
              <a:t>兄弟   井底   哈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24000" y="206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203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4643280" y="206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87708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179280" y="44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118728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3419640" y="4508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867280" y="4437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468360" y="1052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395280" y="2492280"/>
            <a:ext cx="8569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一缕   闷热   危险  舒服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陡坡   井壁   头昏脑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116000" y="2060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2556000" y="198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4716360" y="198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95280" y="4221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132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5148360" y="422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7740720" y="1989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104292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2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108000" y="18900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欣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服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夕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2"/>
          <p:cNvSpPr/>
          <p:nvPr/>
        </p:nvSpPr>
        <p:spPr>
          <a:xfrm>
            <a:off x="108000" y="407664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兄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4"/>
          <p:cNvSpPr/>
          <p:nvPr/>
        </p:nvSpPr>
        <p:spPr>
          <a:xfrm>
            <a:off x="2411280" y="407664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弟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底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8"/>
          <p:cNvSpPr/>
          <p:nvPr/>
        </p:nvSpPr>
        <p:spPr>
          <a:xfrm>
            <a:off x="6948360" y="4076640"/>
            <a:ext cx="208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03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15"/>
          <p:cNvSpPr/>
          <p:nvPr/>
        </p:nvSpPr>
        <p:spPr>
          <a:xfrm>
            <a:off x="928800" y="26384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欣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1500120" y="1571760"/>
            <a:ext cx="227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16" name="TextBox 15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6"/>
          <p:cNvSpPr/>
          <p:nvPr/>
        </p:nvSpPr>
        <p:spPr>
          <a:xfrm>
            <a:off x="4284720" y="1989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欣喜  欣欣向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8"/>
          <p:cNvSpPr/>
          <p:nvPr/>
        </p:nvSpPr>
        <p:spPr>
          <a:xfrm>
            <a:off x="407196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欣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幅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21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15"/>
          <p:cNvSpPr/>
          <p:nvPr/>
        </p:nvSpPr>
        <p:spPr>
          <a:xfrm>
            <a:off x="928800" y="26384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服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3"/>
          <p:cNvSpPr/>
          <p:nvPr/>
        </p:nvSpPr>
        <p:spPr>
          <a:xfrm>
            <a:off x="1500120" y="157176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5"/>
          <p:cNvSpPr/>
          <p:nvPr/>
        </p:nvSpPr>
        <p:spPr>
          <a:xfrm>
            <a:off x="4140360" y="1916280"/>
            <a:ext cx="50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衣服   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6"/>
          <p:cNvSpPr/>
          <p:nvPr/>
        </p:nvSpPr>
        <p:spPr>
          <a:xfrm>
            <a:off x="558000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服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8"/>
          <p:cNvSpPr/>
          <p:nvPr/>
        </p:nvSpPr>
        <p:spPr>
          <a:xfrm>
            <a:off x="4071960" y="4286160"/>
            <a:ext cx="46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红穿了一件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衣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39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15"/>
          <p:cNvSpPr/>
          <p:nvPr/>
        </p:nvSpPr>
        <p:spPr>
          <a:xfrm>
            <a:off x="928800" y="268776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终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1143000" y="1500120"/>
            <a:ext cx="271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5"/>
          <p:cNvSpPr/>
          <p:nvPr/>
        </p:nvSpPr>
        <p:spPr>
          <a:xfrm>
            <a:off x="4214880" y="200016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于   终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终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道题目，小明做了许久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终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出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428760" y="2714760"/>
            <a:ext cx="3571200" cy="3285360"/>
            <a:chOff x="428760" y="2714760"/>
            <a:chExt cx="3571200" cy="3285360"/>
          </a:xfrm>
        </p:grpSpPr>
        <p:sp>
          <p:nvSpPr>
            <p:cNvPr id="557" name="Rectangle 5"/>
            <p:cNvSpPr/>
            <p:nvPr/>
          </p:nvSpPr>
          <p:spPr>
            <a:xfrm>
              <a:off x="2214720" y="4344480"/>
              <a:ext cx="17852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28760" y="4344480"/>
              <a:ext cx="17859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2214720" y="2714760"/>
              <a:ext cx="17852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428760" y="2714760"/>
              <a:ext cx="178596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>
              <a:off x="428760" y="271476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>
              <a:off x="428760" y="4344480"/>
              <a:ext cx="3571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28760" y="6000120"/>
              <a:ext cx="35712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>
              <a:off x="4287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2214720" y="2714760"/>
              <a:ext cx="0" cy="328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>
              <a:off x="3999960" y="2714760"/>
              <a:ext cx="0" cy="32853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Text Box 15"/>
          <p:cNvSpPr/>
          <p:nvPr/>
        </p:nvSpPr>
        <p:spPr>
          <a:xfrm>
            <a:off x="928800" y="2544840"/>
            <a:ext cx="30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1643040" y="150012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矩形 14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1257120" cy="7081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4214880" y="2000160"/>
            <a:ext cx="438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夕阳   前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6"/>
          <p:cNvSpPr/>
          <p:nvPr/>
        </p:nvSpPr>
        <p:spPr>
          <a:xfrm>
            <a:off x="5940360" y="76500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除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矩形 17" descr=""/>
          <p:cNvPicPr/>
          <p:nvPr/>
        </p:nvPicPr>
        <p:blipFill>
          <a:blip r:embed="rId3"/>
          <a:stretch/>
        </p:blipFill>
        <p:spPr>
          <a:xfrm>
            <a:off x="4286160" y="3357720"/>
            <a:ext cx="1257480" cy="7077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8"/>
          <p:cNvSpPr/>
          <p:nvPr/>
        </p:nvSpPr>
        <p:spPr>
          <a:xfrm>
            <a:off x="4071960" y="4286160"/>
            <a:ext cx="507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夕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限好，只是近黄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3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40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