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CB0B-3F78-46C6-9859-4C3709A5B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84CD-2E72-41A8-B2EA-F3CC0B5F7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EC4C-5CD2-403C-A6F1-4F97A943B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7C92-642C-4FC4-8ECB-1831A8C9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754D-D1AE-4EAA-BE2D-E3C70DC6E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F731-9862-4606-8540-009A03D97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D4CE5-0771-4E5C-9FB5-4950B3DC1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B83A-3AE3-4EC8-80C6-8467DC1C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74E6-F3F8-4F83-AAE1-305433C6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DEC4-D08E-4236-9776-F1FBAD4B7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D2D6-E53F-4697-8453-9C784207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9515-4882-480A-BB4B-B289860F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0B8D-3265-4087-BDDB-081F7B97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FF42-BCFD-4C06-AD81-1A9F9AD2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AAC8-816E-4E0C-95A4-DF5C48AE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0D9D6-5BD3-47DD-9BD7-7E3FA547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DB04A-0675-4E00-B3D8-8E175384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AF91-79AF-4818-94DE-252B20880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8353-100F-419C-8479-13641D834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10C75-BDD4-4EBB-9A2F-97BAA076E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170F2-5761-4912-9483-DF757138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1559F-1784-41EF-A0E9-E2CF539C9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F8FEA-402D-432B-8541-2693CA06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31522-C133-4857-B276-47ECE4F5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43B3-F92D-4183-83B9-7934B7B2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E4E10-E08E-4B12-AC59-88F9C499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461B7-3874-4E75-B46F-8011CCDC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605BA-D792-4B8D-895F-EA2E8615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4BFA6-730A-4A85-AB94-E388BB79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96B8A-D54B-4D68-AD95-851F79952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A88DC-EEE7-4059-95D0-8BD56ABB0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47CCF-59EB-46A1-9B06-12EBC6F77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9992A-64F6-42D4-B1DC-0F975DFB2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44492-B289-44AA-B787-A8CC70FA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23276-35E5-4CF2-B8E0-A3EBBC01E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F25D-0DF7-4460-A692-FCB62417E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72A2D-C898-4F8E-94D4-28AFFD3A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B69B6-F9CC-4714-A1F9-5D5909F2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4A6D2-F50E-4020-A11D-66DF2208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0945E-F8B1-4F51-A2E3-D5CE1161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BFC16-7B50-473A-BE74-7B117A3A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349AE-90D7-447A-B17F-DE587730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F09A1-1DE1-4365-AFC0-3B2BDE5E1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0EB91-0C4E-45FA-B4C5-CD15AFF50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59D23-CF54-440A-80EC-582D7D1D1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5A255-D754-4D1B-A5F3-5558D0B11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67C7-A214-4DC9-B3F5-79DCE4D9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2D753-7E3F-47B7-A93A-21ECC849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AD98F-C70A-4C47-8852-86BD44953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C23A4-A12F-41C0-91A9-7E5FC2FD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C915D-141C-4573-B533-AE97F3FC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FE286-D9AB-4F91-9DAA-517FEB8A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99E58-41B5-46A5-91BC-F956B105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698F63-1EC9-47A2-AEBD-8CC0280B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4F0FD-9CD8-439F-996E-D948411D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63E34-C960-43E2-B8D6-0F14FA144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4011AE-F523-442B-A4A0-631F6F972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F16E-30FB-4DDB-A90A-B982BB46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D4B66-D33D-48DB-B697-5A04094E8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338CB5-F211-49A5-879D-E08236B51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5A9D2-ED07-4D30-BDD5-D3EDFDBD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72292-8ECD-41E2-B52B-2BA6E5E0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41181-748A-4C18-B37A-3EE686DC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CA883F-7E86-47E5-BEC0-BC3928693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C9C69-71DE-4EFF-82D0-7A77098F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689DD-E6F3-4FBF-ADC9-418E6F15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12144-5074-4BDB-A1BF-2DC3B401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1959A-3D76-448E-ADF0-2A4085B4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F39F-B431-418B-9DA8-C9A6F4E5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324AA-6BB2-482A-8C80-95158F5D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5FA6E-BC6F-473B-9710-A2A61B393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518CA-4F26-42DE-9930-40E846E65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22409-EF84-4B29-8F38-A8AFD555F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A8F43-CE95-4297-86C7-2FCDE437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B83DB-9DCD-4D68-BCD7-C61CB1BC7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4CED6-6C1F-45A9-BFFB-E5E32E18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F6F94-BF07-40A8-B0C0-32EC6BA84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30850-AE2D-459C-B23C-11D09861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A13E8-ADBB-4493-A843-B30B8AE7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1097-DFA9-4D6A-821B-500F43A2A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08CA8-08B7-44B8-8C15-823A957C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6FE86-44E5-4214-8697-A0889C438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36C913-C1F3-4B9D-A1F4-649A5A71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A5891-BB52-486B-8FA2-716E26302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4860B6-2175-44C8-A9DC-317A279AB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75AFBF-2F62-4509-B287-6DF9E885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098CF-AB01-4FE8-A325-8871E126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086AA-2AAB-4189-9CC3-78DF6C1E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83B45-7351-470A-B4F8-2007BDDB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23F44-FC6D-427E-8663-D495142F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09FA-9A60-484B-94A9-5C8725D0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2C8EDD-67D8-4241-9660-177EACCC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7D02A-019A-4EBE-A9B7-85D90200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ED5A1-09AA-46B8-B178-FF3ACA61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1F2247-9F5B-4426-880D-46B9ECDA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9BBFA-116B-495F-98CC-30A79355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7CEBA5-DC3D-44F0-B91C-4B75FA028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13EB4-9A1A-442C-A0A2-C141B7491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D42F-1761-4446-AFF0-272689459BA3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直接连接符 6" descr=""/>
          <p:cNvPicPr/>
          <p:nvPr/>
        </p:nvPicPr>
        <p:blipFill>
          <a:blip r:embed="rId3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42" name="直接连接符 7" descr=""/>
          <p:cNvPicPr/>
          <p:nvPr/>
        </p:nvPicPr>
        <p:blipFill>
          <a:blip r:embed="rId4"/>
          <a:stretch/>
        </p:blipFill>
        <p:spPr>
          <a:xfrm>
            <a:off x="514440" y="1046160"/>
            <a:ext cx="8629560" cy="279360"/>
          </a:xfrm>
          <a:prstGeom prst="rect">
            <a:avLst/>
          </a:prstGeom>
          <a:ln w="0">
            <a:noFill/>
          </a:ln>
        </p:spPr>
      </p:pic>
      <p:pic>
        <p:nvPicPr>
          <p:cNvPr id="43" name="直接连接符 8" descr=""/>
          <p:cNvPicPr/>
          <p:nvPr/>
        </p:nvPicPr>
        <p:blipFill>
          <a:blip r:embed="rId5"/>
          <a:stretch/>
        </p:blipFill>
        <p:spPr>
          <a:xfrm>
            <a:off x="514440" y="1052640"/>
            <a:ext cx="8629560" cy="2808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B941F-6589-409F-80C0-582C4EBE244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直接连接符 6" descr=""/>
          <p:cNvPicPr/>
          <p:nvPr/>
        </p:nvPicPr>
        <p:blipFill>
          <a:blip r:embed="rId3"/>
          <a:stretch/>
        </p:blipFill>
        <p:spPr>
          <a:xfrm>
            <a:off x="514440" y="3440160"/>
            <a:ext cx="8629560" cy="27936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A05A-81FA-45A3-8089-C6BC0C5FD3E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直接连接符 6" descr=""/>
          <p:cNvPicPr/>
          <p:nvPr/>
        </p:nvPicPr>
        <p:blipFill>
          <a:blip r:embed="rId3"/>
          <a:stretch/>
        </p:blipFill>
        <p:spPr>
          <a:xfrm>
            <a:off x="514440" y="6014880"/>
            <a:ext cx="8629560" cy="2797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81F4-3D07-4803-A91C-A05A36AA771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6F69-46DD-409D-8291-6ADEF59B00D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直接连接符 6" descr=""/>
          <p:cNvPicPr/>
          <p:nvPr/>
        </p:nvPicPr>
        <p:blipFill>
          <a:blip r:embed="rId3"/>
          <a:stretch/>
        </p:blipFill>
        <p:spPr>
          <a:xfrm>
            <a:off x="514440" y="5843520"/>
            <a:ext cx="8629560" cy="2811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BF36-A0DF-4E4F-A289-3ACE10D68B3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EFB0-4F45-4DD6-AC65-CCD07915BEA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DF94-5FC2-454B-976C-EDBAFB690F2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WordArt 24"/>
          <p:cNvSpPr txBox="1"/>
          <p:nvPr/>
        </p:nvSpPr>
        <p:spPr>
          <a:xfrm>
            <a:off x="714240" y="1125360"/>
            <a:ext cx="3684600" cy="155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中宋"/>
              </a:rPr>
              <a:t>母鸡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1116000" y="2914560"/>
            <a:ext cx="28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华文楷体"/>
                <a:ea typeface="华文楷体"/>
              </a:rPr>
              <a:t>老   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4" descr="图片5"/>
          <p:cNvPicPr/>
          <p:nvPr/>
        </p:nvPicPr>
        <p:blipFill>
          <a:blip r:embed="rId4"/>
          <a:stretch/>
        </p:blipFill>
        <p:spPr>
          <a:xfrm>
            <a:off x="4727520" y="907920"/>
            <a:ext cx="3805200" cy="254952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1" descr=""/>
          <p:cNvPicPr/>
          <p:nvPr/>
        </p:nvPicPr>
        <p:blipFill>
          <a:blip r:embed="rId5"/>
          <a:stretch/>
        </p:blipFill>
        <p:spPr>
          <a:xfrm>
            <a:off x="654120" y="3583080"/>
            <a:ext cx="3727440" cy="2484360"/>
          </a:xfrm>
          <a:prstGeom prst="rect">
            <a:avLst/>
          </a:prstGeom>
          <a:ln w="0">
            <a:noFill/>
          </a:ln>
        </p:spPr>
      </p:pic>
      <p:sp>
        <p:nvSpPr>
          <p:cNvPr id="345" name="矩形 5"/>
          <p:cNvSpPr/>
          <p:nvPr/>
        </p:nvSpPr>
        <p:spPr>
          <a:xfrm>
            <a:off x="4132080" y="5661000"/>
            <a:ext cx="4852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4"/>
          <p:cNvSpPr/>
          <p:nvPr/>
        </p:nvSpPr>
        <p:spPr>
          <a:xfrm>
            <a:off x="539640" y="8366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华文楷体"/>
                <a:ea typeface="华文楷体"/>
              </a:rPr>
              <a:t>    </a:t>
            </a:r>
            <a:r>
              <a:rPr b="1" lang="zh-CN" sz="3600" spc="-1" strike="noStrike">
                <a:solidFill>
                  <a:srgbClr val="008000"/>
                </a:solidFill>
                <a:latin typeface="华文楷体"/>
                <a:ea typeface="华文楷体"/>
              </a:rPr>
              <a:t>一只鸟儿飞过，或是什么东西响了一声，它立刻警戒起来，歪着头儿听；挺着声儿预备作战；看看前，看看后，咕咕地警告鸡雏要马上集合到它身边来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2195640" y="436572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负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4" descr="母鸡"/>
          <p:cNvPicPr/>
          <p:nvPr/>
        </p:nvPicPr>
        <p:blipFill>
          <a:blip r:embed="rId2"/>
          <a:stretch/>
        </p:blipFill>
        <p:spPr>
          <a:xfrm>
            <a:off x="3635280" y="3282840"/>
            <a:ext cx="550872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4"/>
          <p:cNvSpPr/>
          <p:nvPr/>
        </p:nvSpPr>
        <p:spPr>
          <a:xfrm>
            <a:off x="395280" y="0"/>
            <a:ext cx="8137440" cy="13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  </a:t>
            </a:r>
            <a:r>
              <a:rPr b="1" lang="zh-CN" sz="3600" spc="-1" strike="noStrike">
                <a:solidFill>
                  <a:srgbClr val="008000"/>
                </a:solidFill>
                <a:latin typeface="华文楷体"/>
                <a:ea typeface="华文楷体"/>
              </a:rPr>
              <a:t>当它发现了一点可吃的东西，就咕咕地紧叫，啄一啄那个东西，马上便放下，叫它的儿女吃。结果，每一只鸡雏的肚子都圆圆地下垂，像刚装了一两个汤圆儿似的，它自己却消瘦了许多。</a:t>
            </a:r>
            <a:r>
              <a:rPr b="1" lang="zh-CN" sz="2800" spc="-1" strike="noStrike">
                <a:solidFill>
                  <a:srgbClr val="008000"/>
                </a:solidFill>
                <a:latin typeface="华文楷体"/>
                <a:ea typeface="华文楷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-757080" y="4437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隶书"/>
              </a:rPr>
              <a:t>                      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慈 爱</a:t>
            </a:r>
            <a:r>
              <a:rPr b="1" lang="zh-CN" sz="8800" spc="-1" strike="noStrike">
                <a:solidFill>
                  <a:srgbClr val="008000"/>
                </a:solidFill>
                <a:latin typeface="华文楷体"/>
                <a:ea typeface="华文楷体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" descr="图片5"/>
          <p:cNvPicPr/>
          <p:nvPr/>
        </p:nvPicPr>
        <p:blipFill>
          <a:blip r:embed="rId2"/>
          <a:stretch/>
        </p:blipFill>
        <p:spPr>
          <a:xfrm>
            <a:off x="4140360" y="3765600"/>
            <a:ext cx="500364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3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4"/>
          <p:cNvSpPr/>
          <p:nvPr/>
        </p:nvSpPr>
        <p:spPr>
          <a:xfrm>
            <a:off x="539640" y="1052640"/>
            <a:ext cx="80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  </a:t>
            </a:r>
            <a:r>
              <a:rPr b="1" lang="zh-CN" sz="3600" spc="-1" strike="noStrike">
                <a:solidFill>
                  <a:srgbClr val="008000"/>
                </a:solidFill>
                <a:latin typeface="华文楷体"/>
                <a:ea typeface="华文楷体"/>
              </a:rPr>
              <a:t>假如有别的大鸡来抢食，它一定出击，把它们赶出老远，连大公鸡也怕它三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-684360" y="3645000"/>
            <a:ext cx="770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66"/>
                </a:solidFill>
                <a:latin typeface="Arial"/>
                <a:ea typeface="隶书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勇 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4" descr="母鸡"/>
          <p:cNvPicPr/>
          <p:nvPr/>
        </p:nvPicPr>
        <p:blipFill>
          <a:blip r:embed="rId2"/>
          <a:stretch/>
        </p:blipFill>
        <p:spPr>
          <a:xfrm>
            <a:off x="3564000" y="2924280"/>
            <a:ext cx="558000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4"/>
          <p:cNvSpPr/>
          <p:nvPr/>
        </p:nvSpPr>
        <p:spPr>
          <a:xfrm>
            <a:off x="611280" y="981000"/>
            <a:ext cx="756108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  </a:t>
            </a:r>
            <a:r>
              <a:rPr b="1" lang="zh-CN" sz="3600" spc="-1" strike="noStrike">
                <a:solidFill>
                  <a:srgbClr val="008000"/>
                </a:solidFill>
                <a:latin typeface="华文楷体"/>
                <a:ea typeface="华文楷体"/>
              </a:rPr>
              <a:t>它教鸡雏们啄食、掘土，用土洗澡，一天教多少多少次。</a:t>
            </a:r>
            <a:r>
              <a:rPr b="0" lang="zh-CN" sz="1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"/>
          <p:cNvSpPr/>
          <p:nvPr/>
        </p:nvSpPr>
        <p:spPr>
          <a:xfrm>
            <a:off x="-396720" y="3429000"/>
            <a:ext cx="6767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66"/>
                </a:solidFill>
                <a:latin typeface="Arial"/>
                <a:ea typeface="隶书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辛 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4" descr="图片5"/>
          <p:cNvPicPr/>
          <p:nvPr/>
        </p:nvPicPr>
        <p:blipFill>
          <a:blip r:embed="rId2"/>
          <a:stretch/>
        </p:blipFill>
        <p:spPr>
          <a:xfrm>
            <a:off x="3851280" y="3384720"/>
            <a:ext cx="529272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3"/>
          <p:cNvSpPr/>
          <p:nvPr/>
        </p:nvSpPr>
        <p:spPr>
          <a:xfrm>
            <a:off x="1332000" y="69228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8000"/>
                </a:solidFill>
                <a:latin typeface="华文楷体"/>
                <a:ea typeface="华文楷体"/>
              </a:rPr>
              <a:t>一个母亲必定就是一位英雄。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4" descr="母鸡"/>
          <p:cNvPicPr/>
          <p:nvPr/>
        </p:nvPicPr>
        <p:blipFill>
          <a:blip r:embed="rId2"/>
          <a:stretch/>
        </p:blipFill>
        <p:spPr>
          <a:xfrm>
            <a:off x="1332000" y="1916280"/>
            <a:ext cx="685008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3"/>
          <p:cNvSpPr/>
          <p:nvPr/>
        </p:nvSpPr>
        <p:spPr>
          <a:xfrm>
            <a:off x="1116000" y="836640"/>
            <a:ext cx="72723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华文楷体"/>
                <a:ea typeface="华文楷体"/>
              </a:rPr>
              <a:t>思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1" lang="zh-CN" sz="3600" spc="-1" strike="noStrike">
                <a:solidFill>
                  <a:srgbClr val="008000"/>
                </a:solidFill>
                <a:latin typeface="华文楷体"/>
                <a:ea typeface="华文楷体"/>
              </a:rPr>
              <a:t>在老舍先生的笔下，母鸡前后变化怎么这么大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4" descr="图片5"/>
          <p:cNvPicPr/>
          <p:nvPr/>
        </p:nvPicPr>
        <p:blipFill>
          <a:blip r:embed="rId2"/>
          <a:stretch/>
        </p:blipFill>
        <p:spPr>
          <a:xfrm>
            <a:off x="2268360" y="3284640"/>
            <a:ext cx="4896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3"/>
          <p:cNvSpPr/>
          <p:nvPr/>
        </p:nvSpPr>
        <p:spPr>
          <a:xfrm>
            <a:off x="1042920" y="1125360"/>
            <a:ext cx="6840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总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8000"/>
                </a:solidFill>
                <a:latin typeface="华文楷体"/>
                <a:ea typeface="华文楷体"/>
              </a:rPr>
              <a:t>是呀，做了母亲不仅要把孩子养大，还要交给他生活的本领。她要倾其所有的爱去对孩子，自己再苦再累也毫无怨言。这就是伟大的母亲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e3b30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ad1f1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ad1f1f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d1f1f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ad1f1f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d1f1f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ad1f1f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d1f1f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ad1f1f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d1f1f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ad1f1f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d1f1f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ad1f1f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ad1f1f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ad1f1f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Arial"/>
            </a:endParaRPr>
          </a:p>
        </p:txBody>
      </p:sp>
      <p:sp>
        <p:nvSpPr>
          <p:cNvPr id="3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A273-2AE0-4151-95C3-1F176F90E55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4"/>
          <p:cNvSpPr/>
          <p:nvPr/>
        </p:nvSpPr>
        <p:spPr>
          <a:xfrm>
            <a:off x="468360" y="907920"/>
            <a:ext cx="8820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华文楷体"/>
                <a:ea typeface="华文楷体"/>
              </a:rPr>
              <a:t>学习目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华文楷体"/>
                <a:ea typeface="华文楷体"/>
              </a:rPr>
              <a:t>1.</a:t>
            </a:r>
            <a:r>
              <a:rPr b="1" lang="zh-CN" sz="3600" spc="-1" strike="noStrike">
                <a:solidFill>
                  <a:srgbClr val="008000"/>
                </a:solidFill>
                <a:latin typeface="华文楷体"/>
                <a:ea typeface="华文楷体"/>
              </a:rPr>
              <a:t>认识“怨、抗、侮”等</a:t>
            </a:r>
            <a:r>
              <a:rPr b="1" lang="en-US" sz="3600" spc="-1" strike="noStrike">
                <a:solidFill>
                  <a:srgbClr val="008000"/>
                </a:solidFill>
                <a:latin typeface="华文楷体"/>
                <a:ea typeface="华文楷体"/>
              </a:rPr>
              <a:t>7</a:t>
            </a:r>
            <a:r>
              <a:rPr b="1" lang="zh-CN" sz="3600" spc="-1" strike="noStrike">
                <a:solidFill>
                  <a:srgbClr val="008000"/>
                </a:solidFill>
                <a:latin typeface="华文楷体"/>
                <a:ea typeface="华文楷体"/>
              </a:rPr>
              <a:t>个生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华文楷体"/>
                <a:ea typeface="华文楷体"/>
              </a:rPr>
              <a:t>2.</a:t>
            </a:r>
            <a:r>
              <a:rPr b="1" lang="zh-CN" sz="3600" spc="-1" strike="noStrike">
                <a:solidFill>
                  <a:srgbClr val="008000"/>
                </a:solidFill>
                <a:latin typeface="华文楷体"/>
                <a:ea typeface="华文楷体"/>
              </a:rPr>
              <a:t>能正确、流利朗读课文，能说出作者对母鸡的感情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华文楷体"/>
                <a:ea typeface="华文楷体"/>
              </a:rPr>
              <a:t>3.</a:t>
            </a:r>
            <a:r>
              <a:rPr b="1" lang="zh-CN" sz="3600" spc="-1" strike="noStrike">
                <a:solidFill>
                  <a:srgbClr val="008000"/>
                </a:solidFill>
                <a:latin typeface="华文楷体"/>
                <a:ea typeface="华文楷体"/>
              </a:rPr>
              <a:t>能联系实际，感受母爱，学会感恩母亲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文本框 1"/>
          <p:cNvSpPr/>
          <p:nvPr/>
        </p:nvSpPr>
        <p:spPr>
          <a:xfrm>
            <a:off x="1187280" y="266760"/>
            <a:ext cx="598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4"/>
          <p:cNvSpPr/>
          <p:nvPr/>
        </p:nvSpPr>
        <p:spPr>
          <a:xfrm>
            <a:off x="971640" y="1341360"/>
            <a:ext cx="763416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华文楷体"/>
                <a:ea typeface="华文楷体"/>
              </a:rPr>
              <a:t>初读课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00"/>
                </a:solidFill>
                <a:latin typeface="华文楷体"/>
                <a:ea typeface="华文楷体"/>
              </a:rPr>
              <a:t>       </a:t>
            </a:r>
            <a:r>
              <a:rPr b="1" lang="zh-CN" sz="5400" spc="-1" strike="noStrike">
                <a:solidFill>
                  <a:srgbClr val="008000"/>
                </a:solidFill>
                <a:latin typeface="华文楷体"/>
                <a:ea typeface="华文楷体"/>
              </a:rPr>
              <a:t>大声朗读课文一遍，标出自然段、生字、不理解的词。不理解的词可联系上下文或查字典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4"/>
          <p:cNvSpPr/>
          <p:nvPr/>
        </p:nvSpPr>
        <p:spPr>
          <a:xfrm>
            <a:off x="826920" y="907920"/>
            <a:ext cx="777744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华文楷体"/>
                <a:ea typeface="华文楷体"/>
              </a:rPr>
              <a:t>检查自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华文楷体"/>
                <a:ea typeface="华文楷体"/>
              </a:rPr>
              <a:t>怨    抗     侮    绩     凄      慈    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华文楷体"/>
                <a:ea typeface="华文楷体"/>
              </a:rPr>
              <a:t>如怨如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华文楷体"/>
                <a:ea typeface="华文楷体"/>
              </a:rPr>
              <a:t>趁其不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3071880" y="4643280"/>
            <a:ext cx="56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形容没完没了地抱怨，诉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3214800" y="557208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趁人不防备的时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8"/>
          <p:cNvSpPr/>
          <p:nvPr/>
        </p:nvSpPr>
        <p:spPr>
          <a:xfrm>
            <a:off x="826920" y="2276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yuà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1857240" y="22860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kà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0"/>
          <p:cNvSpPr/>
          <p:nvPr/>
        </p:nvSpPr>
        <p:spPr>
          <a:xfrm>
            <a:off x="3059280" y="2276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wǔ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1"/>
          <p:cNvSpPr/>
          <p:nvPr/>
        </p:nvSpPr>
        <p:spPr>
          <a:xfrm>
            <a:off x="4211640" y="2276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j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2"/>
          <p:cNvSpPr/>
          <p:nvPr/>
        </p:nvSpPr>
        <p:spPr>
          <a:xfrm>
            <a:off x="5219640" y="2276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q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3"/>
          <p:cNvSpPr/>
          <p:nvPr/>
        </p:nvSpPr>
        <p:spPr>
          <a:xfrm>
            <a:off x="6443640" y="2276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c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4"/>
          <p:cNvSpPr/>
          <p:nvPr/>
        </p:nvSpPr>
        <p:spPr>
          <a:xfrm>
            <a:off x="7524720" y="2276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xī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矩形 4"/>
          <p:cNvSpPr/>
          <p:nvPr/>
        </p:nvSpPr>
        <p:spPr>
          <a:xfrm>
            <a:off x="2484360" y="2671920"/>
            <a:ext cx="735120" cy="2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611280" y="1052640"/>
            <a:ext cx="8064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华文楷体"/>
                <a:ea typeface="华文楷体"/>
              </a:rPr>
              <a:t>小组讨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华文楷体"/>
                <a:ea typeface="华文楷体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华文楷体"/>
                <a:ea typeface="华文楷体"/>
              </a:rPr>
              <a:t>       </a:t>
            </a:r>
            <a:r>
              <a:rPr b="1" lang="zh-CN" sz="4400" spc="-1" strike="noStrike">
                <a:solidFill>
                  <a:srgbClr val="008000"/>
                </a:solidFill>
                <a:latin typeface="华文楷体"/>
                <a:ea typeface="华文楷体"/>
              </a:rPr>
              <a:t>现在请同学们快速读一遍课文，看一看作者对母鸡的态度。（自己先思考，再小组讨论。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1500120" y="5000760"/>
            <a:ext cx="62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讨厌       不敢讨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3"/>
          <p:cNvSpPr/>
          <p:nvPr/>
        </p:nvSpPr>
        <p:spPr>
          <a:xfrm>
            <a:off x="826920" y="112536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</a:t>
            </a:r>
            <a:r>
              <a:rPr b="1" lang="zh-CN" sz="4800" spc="-1" strike="noStrike">
                <a:solidFill>
                  <a:srgbClr val="008000"/>
                </a:solidFill>
                <a:latin typeface="华文楷体"/>
                <a:ea typeface="华文楷体"/>
              </a:rPr>
              <a:t>作者前后对母鸡态度发生了很大变化，课文内容也发生了很大变化，作者用了一个过渡段把内容完整地结合在了一起。现在请同学们快速找一下，在文中标示出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3"/>
          <p:cNvSpPr/>
          <p:nvPr/>
        </p:nvSpPr>
        <p:spPr>
          <a:xfrm>
            <a:off x="468360" y="1197000"/>
            <a:ext cx="8424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华文楷体"/>
                <a:ea typeface="华文楷体"/>
              </a:rPr>
              <a:t>再读课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华文楷体"/>
                <a:ea typeface="华文楷体"/>
              </a:rPr>
              <a:t>       </a:t>
            </a:r>
            <a:r>
              <a:rPr b="1" lang="zh-CN" sz="4000" spc="-1" strike="noStrike">
                <a:solidFill>
                  <a:srgbClr val="008000"/>
                </a:solidFill>
                <a:latin typeface="华文楷体"/>
                <a:ea typeface="华文楷体"/>
              </a:rPr>
              <a:t>过渡段把课文分为两部分，前三段写我讨厌母鸡，后面写我不敢讨厌母鸡。现在，请大家来解决“我讨厌母鸡的原因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571680" y="4929120"/>
            <a:ext cx="81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叫声烦人    欺软怕硬     炫耀自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3"/>
          <p:cNvSpPr/>
          <p:nvPr/>
        </p:nvSpPr>
        <p:spPr>
          <a:xfrm>
            <a:off x="826920" y="1197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</a:t>
            </a:r>
            <a:r>
              <a:rPr b="1" lang="zh-CN" sz="3600" spc="-1" strike="noStrike">
                <a:solidFill>
                  <a:srgbClr val="008000"/>
                </a:solidFill>
                <a:latin typeface="华文楷体"/>
                <a:ea typeface="华文楷体"/>
              </a:rPr>
              <a:t>看来作者的确讨厌母鸡，后来为什么又不敢讨厌母鸡了呢？接下来让我们继续解决“我”不敢讨厌母鸡的原因，读后面的内容，找一找，标一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4"/>
          <p:cNvSpPr/>
          <p:nvPr/>
        </p:nvSpPr>
        <p:spPr>
          <a:xfrm>
            <a:off x="785880" y="40006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它负责、慈爱、勇敢、辛苦，因为它有了一群鸡雏。它伟大，因为它是鸡母亲。一个母亲必定就是一位英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3"/>
          <p:cNvSpPr/>
          <p:nvPr/>
        </p:nvSpPr>
        <p:spPr>
          <a:xfrm>
            <a:off x="1042920" y="981000"/>
            <a:ext cx="7561440" cy="24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华文楷体"/>
                <a:ea typeface="华文楷体"/>
              </a:rPr>
              <a:t>合作探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华文楷体"/>
                <a:ea typeface="华文楷体"/>
              </a:rPr>
              <a:t>             </a:t>
            </a:r>
            <a:r>
              <a:rPr b="1" lang="en-US" sz="4000" spc="-1" strike="noStrike">
                <a:solidFill>
                  <a:srgbClr val="008000"/>
                </a:solidFill>
                <a:latin typeface="华文楷体"/>
                <a:ea typeface="华文楷体"/>
              </a:rPr>
              <a:t>1.</a:t>
            </a:r>
            <a:r>
              <a:rPr b="1" lang="zh-CN" sz="4000" spc="-1" strike="noStrike">
                <a:solidFill>
                  <a:srgbClr val="008000"/>
                </a:solidFill>
                <a:latin typeface="华文楷体"/>
                <a:ea typeface="华文楷体"/>
              </a:rPr>
              <a:t>母鸡负责、慈爱、勇敢、辛苦，是从哪些段落体现出来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2571840" y="328608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（</a:t>
            </a:r>
            <a:r>
              <a:rPr b="0" lang="en-US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5 —— 8</a:t>
            </a:r>
            <a:r>
              <a:rPr b="0" lang="zh-CN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自然段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5"/>
          <p:cNvSpPr/>
          <p:nvPr/>
        </p:nvSpPr>
        <p:spPr>
          <a:xfrm>
            <a:off x="1258920" y="4005360"/>
            <a:ext cx="7129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华文楷体"/>
                <a:ea typeface="华文楷体"/>
              </a:rPr>
              <a:t>    </a:t>
            </a:r>
            <a:r>
              <a:rPr b="1" lang="en-US" sz="4000" spc="-1" strike="noStrike">
                <a:solidFill>
                  <a:srgbClr val="008000"/>
                </a:solidFill>
                <a:latin typeface="华文楷体"/>
                <a:ea typeface="华文楷体"/>
              </a:rPr>
              <a:t>2.</a:t>
            </a:r>
            <a:r>
              <a:rPr b="1" lang="zh-CN" sz="4000" spc="-1" strike="noStrike">
                <a:solidFill>
                  <a:srgbClr val="008000"/>
                </a:solidFill>
                <a:latin typeface="华文楷体"/>
                <a:ea typeface="华文楷体"/>
              </a:rPr>
              <a:t>请各小组选一段研读，看你从哪些词语或句子里体会到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4T13:48:3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2:18Z</dcterms:modified>
  <cp:revision>7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