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3B19-EA29-4345-A0C2-7A1307E057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1C39-C69E-4A87-A680-918DEADD30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DEC-0A9F-4409-885C-92B6AE50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451-211D-4AED-B2C5-69A2801D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197-71F6-4A54-A69B-BF152023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A7C-BB60-4D59-A513-CB564734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0AE-A5F9-4DFC-AA48-9E7B2691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6AD-619E-4DF0-804A-6335AD85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766-9482-4286-B9C0-AC52FB56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D92-A5FE-450F-BFC5-0AC7DC2B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C16-9BA7-4AFC-A36A-7BD6513D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7C7-9FE2-4A67-9CE8-9B2134F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E15-D716-4E29-81D7-7BAA5AE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186-56EA-429B-A766-EBBE0D86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E2EB-0B2C-4FA9-A4AE-D8780FBAC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8413194628487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23880" y="198108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美丽的公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38080" y="682560"/>
            <a:ext cx="3848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941120" y="5029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C200802221009369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5410080" y="990720"/>
            <a:ext cx="3733920" cy="2057400"/>
          </a:xfrm>
          <a:prstGeom prst="wedgeEllipseCallout">
            <a:avLst>
              <a:gd name="adj1" fmla="val -20407"/>
              <a:gd name="adj2" fmla="val 92208"/>
            </a:avLst>
          </a:prstGeom>
          <a:solidFill>
            <a:srgbClr val="eeb0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不起， 稻田里有害虫， 我要捉虫去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5334120" cy="1600200"/>
          </a:xfrm>
          <a:prstGeom prst="cloudCallout">
            <a:avLst>
              <a:gd name="adj1" fmla="val 28837"/>
              <a:gd name="adj2" fmla="val 70138"/>
            </a:avLst>
          </a:prstGeom>
          <a:solidFill>
            <a:srgbClr val="eeb0e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肚皮的青蛙， 咱们比比谁美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>
            <a:hlinkClick r:id="" action="ppaction://hlinkshowjump?jump=nextslide"/>
          </p:cNvPr>
          <p:cNvSpPr/>
          <p:nvPr/>
        </p:nvSpPr>
        <p:spPr>
          <a:xfrm>
            <a:off x="8763120" y="50292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p2009421085160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914400" y="2057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啄木鸟的长嘴巴可以伸进树洞里，伸出舌头去捉虫子，给老树治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14400" y="3505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蜜蜂的鼓眼睛可以辨别方向，识别花的颜色和形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914400" y="4952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青蛙肚皮大装的害虫就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1143000" y="380880"/>
            <a:ext cx="6248520" cy="2024280"/>
            <a:chOff x="1143000" y="380880"/>
            <a:chExt cx="6248520" cy="2024280"/>
          </a:xfrm>
        </p:grpSpPr>
        <p:pic>
          <p:nvPicPr>
            <p:cNvPr id="96" name="Picture 7" descr="120496[1]"/>
            <p:cNvPicPr/>
            <p:nvPr/>
          </p:nvPicPr>
          <p:blipFill>
            <a:blip r:embed="rId2"/>
            <a:stretch/>
          </p:blipFill>
          <p:spPr>
            <a:xfrm>
              <a:off x="1143000" y="3808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8"/>
            <p:cNvSpPr txBox="1"/>
            <p:nvPr/>
          </p:nvSpPr>
          <p:spPr>
            <a:xfrm>
              <a:off x="2590920" y="838080"/>
              <a:ext cx="4800600" cy="1567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1" strike="noStrike">
                  <a:ln cap="rnd" w="9360">
                    <a:solidFill>
                      <a:srgbClr val="ff00ff"/>
                    </a:solidFill>
                    <a:custDash>
                      <a:ds d="100000" sp="1000"/>
                    </a:custDash>
                    <a:round/>
                  </a:ln>
                  <a:solidFill>
                    <a:srgbClr val="ff00ff"/>
                  </a:solidFill>
                  <a:latin typeface="楷体_GB2312"/>
                </a:rPr>
                <a:t>小 知 识</a:t>
              </a:r>
              <a:endParaRPr b="0" lang="en-US" sz="80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round/>
                </a:ln>
                <a:solidFill>
                  <a:srgbClr val="ff00ff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98" name="AutoShape 9">
            <a:hlinkClick r:id="rId3" action="ppaction://hlinksldjump"/>
          </p:cNvPr>
          <p:cNvSpPr/>
          <p:nvPr/>
        </p:nvSpPr>
        <p:spPr>
          <a:xfrm>
            <a:off x="7924680" y="281952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>
            <a:hlinkClick r:id="rId4" action="ppaction://hlinksldjump"/>
          </p:cNvPr>
          <p:cNvSpPr/>
          <p:nvPr/>
        </p:nvSpPr>
        <p:spPr>
          <a:xfrm>
            <a:off x="7924680" y="419112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SC20080222100937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01" name="AutoShape 6"/>
          <p:cNvSpPr/>
          <p:nvPr/>
        </p:nvSpPr>
        <p:spPr>
          <a:xfrm>
            <a:off x="1600200" y="5257800"/>
            <a:ext cx="6858000" cy="1600200"/>
          </a:xfrm>
          <a:prstGeom prst="cloudCallout">
            <a:avLst>
              <a:gd name="adj1" fmla="val -31157"/>
              <a:gd name="adj2" fmla="val -92458"/>
            </a:avLst>
          </a:prstGeom>
          <a:solidFill>
            <a:srgbClr val="ffccff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马伯伯， 我去和啄木鸟、蜜蜂、青蛙比美， 他们为什么都不理我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228600" y="0"/>
            <a:ext cx="8610480" cy="1066680"/>
          </a:xfrm>
          <a:prstGeom prst="cloudCallout">
            <a:avLst>
              <a:gd name="adj1" fmla="val -22675"/>
              <a:gd name="adj2" fmla="val -3586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他们懂得， 美不美不光看外表， 还要看能不能帮助人们做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SC200802221009373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>
            <a:off x="304920" y="152280"/>
            <a:ext cx="3352680" cy="1295640"/>
          </a:xfrm>
          <a:prstGeom prst="cloudCallout">
            <a:avLst>
              <a:gd name="adj1" fmla="val 34657"/>
              <a:gd name="adj2" fmla="val 8456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喔 喔 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1440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在的这只公鸡是一只真正的美丽的公鸡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14400" y="3429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们愿意和它交个朋友吗？能告诉老师你为什么想和它交朋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SC20080222100936500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大公 鸡 喔 喔啼，催着人们早早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人人夸他最美丽，辛勤劳动数第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2009421085160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914400" y="9907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事里故事里的公鸡美丽吗？我们的课题用美丽的公鸡还是骄傲的公鸡合适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14400" y="2590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这只公鸡确实是一只美丽的公鸡。它长得漂亮，外表美；虚心接受意见，改正错误内心美；帮助人们做事行为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14400" y="4800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通过这节课的学习，我懂得美不美要看能不能帮人们做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14400" y="403848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节课使你明白了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51000" y="1738440"/>
            <a:ext cx="8762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熟读课文，下节课分角色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每位同学帮班里或家里做一件好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977760" y="56689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0011-C595-491A-8692-BF23A1C18F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2009421085160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457200" y="10000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内容：十二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丽的公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识目标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复习本课生字及认读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结合课文理解重点词语和句子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力目标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指导学生进行读和说的训练，培养学生的口语表达能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看图和学文中培养学生观察和比较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培养学生有感情地朗读课文，品味课文语言        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情感态度价值观：使学生懂得“美不美不能光看外表，还要看能不能帮人们做事的道理及实际含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帮助学生初步树立正确的审美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重点、难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公鸡对美的认识的转化过程。（情感、态度的变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体会老马说的话的深刻含义，知道什么是真正的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2009421085160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295280" y="838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2362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美丽、油亮、脖子、蜜蜂、青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19320" y="3505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啄木鸟、 害虫、 粮食、 惭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219320" y="44956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得意洋洋、垂头丧气、大摇大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2009421085160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838080" y="12193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出文中不理解的字词，标出自然段，想一想这篇文章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2120" y="35053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这篇课文先讲了公鸡唱美，接着讲了公鸡和啄木鸟、蜜蜂、青蛙比美，最后讲了公鸡从老马的话里学到了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1600200" y="42670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SC20060811155100921[1]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791320" y="2362320"/>
            <a:ext cx="3657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鸡公鸡真美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红冠子花外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油亮脖子金黄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比漂亮我第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38080" y="51055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得意洋洋：形容非常得意、神气十足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819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大红冠子花外衣，油亮脖子金黄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43434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成天、自以为、得意洋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90720" y="609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鸡在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914400" y="1371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公鸡在歌唱自己的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14400" y="20574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公鸡美丽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14400" y="3581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公鸡骄傲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C20080222100939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4"/>
          <p:cNvSpPr/>
          <p:nvPr/>
        </p:nvSpPr>
        <p:spPr>
          <a:xfrm>
            <a:off x="4724280" y="4267080"/>
            <a:ext cx="4419720" cy="1905120"/>
          </a:xfrm>
          <a:prstGeom prst="wedgeEllipseCallout">
            <a:avLst>
              <a:gd name="adj1" fmla="val -4203"/>
              <a:gd name="adj2" fmla="val -9766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对不起， 老树生了虫子， 我要给他治病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-152280" y="0"/>
            <a:ext cx="5867280" cy="1295280"/>
          </a:xfrm>
          <a:prstGeom prst="cloudCallout">
            <a:avLst>
              <a:gd name="adj1" fmla="val 1787"/>
              <a:gd name="adj2" fmla="val 147305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长嘴巴的啄木鸟，咱们比比谁美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52480" y="12193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鸡去找谁比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752480" y="5715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现了公鸡怎样的心情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752480" y="4800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鸡听后是怎样做的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752480" y="3809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啄木鸟又是怎样回答的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52480" y="28954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鸡对啄木鸟说了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752480" y="2057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什么情况下去比美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8"/>
          <p:cNvSpPr txBox="1"/>
          <p:nvPr/>
        </p:nvSpPr>
        <p:spPr>
          <a:xfrm rot="20957400">
            <a:off x="457200" y="456840"/>
            <a:ext cx="2209680" cy="102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64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64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AutoShape 9">
            <a:hlinkClick r:id="rId7" action="ppaction://hlinksldjump"/>
          </p:cNvPr>
          <p:cNvSpPr/>
          <p:nvPr/>
        </p:nvSpPr>
        <p:spPr>
          <a:xfrm>
            <a:off x="8077320" y="4038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SC20080222100936734"/>
          <p:cNvPicPr/>
          <p:nvPr/>
        </p:nvPicPr>
        <p:blipFill>
          <a:blip r:embed="rId1"/>
          <a:stretch/>
        </p:blipFill>
        <p:spPr>
          <a:xfrm>
            <a:off x="3816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/>
          <p:cNvSpPr/>
          <p:nvPr/>
        </p:nvSpPr>
        <p:spPr>
          <a:xfrm>
            <a:off x="5562720" y="0"/>
            <a:ext cx="3581280" cy="1981080"/>
          </a:xfrm>
          <a:prstGeom prst="cloudCallout">
            <a:avLst>
              <a:gd name="adj1" fmla="val -43175"/>
              <a:gd name="adj2" fmla="val 62740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鼓眼睛的小蜜蜂，咱们比比谁美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0129800">
            <a:off x="228600" y="4648320"/>
            <a:ext cx="4038480" cy="1279440"/>
          </a:xfrm>
          <a:prstGeom prst="wedgeRectCallout">
            <a:avLst>
              <a:gd name="adj1" fmla="val -15430"/>
              <a:gd name="adj2" fmla="val 191074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对不起， 果树开花了， 我要采蜜去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>
            <a:hlinkClick r:id="rId2" action="ppaction://hlinksldjump"/>
          </p:cNvPr>
          <p:cNvSpPr/>
          <p:nvPr/>
        </p:nvSpPr>
        <p:spPr>
          <a:xfrm>
            <a:off x="8458200" y="5486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2:55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3:20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