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chimes.wav" ContentType="audio/x-wav"/>
  <Override PartName="/ppt/media/image3.jpeg" ContentType="image/jpeg"/>
  <Override PartName="/ppt/media/laser.wav" ContentType="audio/x-wav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BC36-DD25-4A6B-B28D-4C71145E34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F557-9006-49DB-9436-138389D53D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E22-688B-4763-A4E7-8F0D456A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B9B-E0B3-413B-BAD8-9FAE88D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293-1515-48F5-A43F-5344DBED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D7C-0E60-46A1-8DAD-0DF9F550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A83-024C-4702-A0C8-09876096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A52-E001-484E-B37B-F38A3867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093-2B32-4DEA-8C4C-CFFD7C06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08D-F9D0-461F-B2EA-730F93D7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BD8-7234-4B08-87EE-D2D14149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6EB-147E-46F8-B0E5-242972D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2D2-94B0-4036-8A25-F14F4B3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C51-73B8-483C-BC09-9A06BBF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271-1B26-4603-B860-0E0A312F7E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" Target="slide23.xml"/><Relationship Id="rId9" Type="http://schemas.openxmlformats.org/officeDocument/2006/relationships/image" Target="../media/image6.png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73360" y="2556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</a:rPr>
              <a:t>美丽的兴凯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24400" y="49417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95440" y="3056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438280" y="12193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373560" y="1295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辽阔磅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73560" y="2438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温柔平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280" y="205668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在兴凯湖久了，你还会发现，无论是春天、夏天，还是秋天，起伏的浪花永远是洁白的。只要有一点枯枝腐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叶，都会被水流、巨浪抛上岸去。湖水永远清澈透明，如云，如梦，如诗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1066680" y="4267080"/>
            <a:ext cx="449604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写出了兴凯湖一年四季的清澈透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4419720" y="2895480"/>
            <a:ext cx="4038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152280" y="3276720"/>
            <a:ext cx="15242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5638680" y="289548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5440" y="3056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2438280" y="12193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373560" y="1295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辽阔磅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373560" y="2438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温柔平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373560" y="3581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清澈透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1942200"/>
            <a:ext cx="834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兴凯湖是鱼的世界，更是鸟的天堂。在湖边一个月牙形的沙滩上，就栖息着成千上万只鸥鸟，像一片灰白色的云，又像一团团银色的雾，罩住整个大沙滩，连一点空隙都没有。它们拥挤着，喧嚷着，骚动着，仿佛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fú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在举行盛大的集会，欢快热烈。白天，它们飞到辽阔的湖面寻觅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mì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鱼虾，洗涤羽毛，尽情嬉戏；晚上，互相依偎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wēi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，共同歇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iē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息在这安宁的王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4343400" y="4572000"/>
            <a:ext cx="419112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写出了兴凯湖是鸟的天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572000" y="144792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95440" y="3056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2438280" y="12193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373560" y="1295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辽阔磅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373560" y="2438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温柔平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73560" y="3581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清澈透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373560" y="4724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鸟的天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4932360" y="1341360"/>
            <a:ext cx="360360" cy="3888000"/>
          </a:xfrm>
          <a:custGeom>
            <a:avLst/>
            <a:gdLst>
              <a:gd name="textAreaLeft" fmla="*/ 0 w 360360"/>
              <a:gd name="textAreaRight" fmla="*/ 12996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508720" y="3284640"/>
            <a:ext cx="1511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025000" y="533520"/>
            <a:ext cx="80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素有：一直就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39800" y="1523880"/>
            <a:ext cx="1895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磅礴：指气势盛大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247640" y="2590920"/>
            <a:ext cx="48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喧器：本课形容波涛发出的声音很大而且杂乱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183760" y="3794040"/>
            <a:ext cx="48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翱翔：回旋飞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342520" y="4784760"/>
            <a:ext cx="48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誉：美好的称呼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866240" y="5851440"/>
            <a:ext cx="489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洗涤：清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500120" y="1127160"/>
            <a:ext cx="4320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它不是海，却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海一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辽阔，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海一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磅礴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73320" y="2498760"/>
            <a:ext cx="276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波涛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或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迎着旭日，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或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驮着晓月，一排排向岸边扑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849320" y="3946680"/>
            <a:ext cx="3621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湖水永远清澈透明，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云、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梦、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51200" y="5181480"/>
            <a:ext cx="352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它们拥挤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着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喧嚷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着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骚动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Arial"/>
              </a:rPr>
              <a:t>着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，仿佛在举行盛大集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79000" y="36972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，注意有下划线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素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s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誉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y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凯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kǎ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09680" y="293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W020070315326341957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4236840" y="62485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pá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礴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b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di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旭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x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腐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f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佛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f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觅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m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偎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wē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</a:rPr>
              <a:t>歇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505320" y="6094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xiē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57040" y="15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04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976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4404600" y="6135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兴凯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09680" y="2937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2005716170136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4952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236840" y="60199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4360320" y="60199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兴凯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08"/>
          <p:cNvPicPr/>
          <p:nvPr/>
        </p:nvPicPr>
        <p:blipFill>
          <a:blip r:embed="rId1"/>
          <a:stretch/>
        </p:blipFill>
        <p:spPr>
          <a:xfrm>
            <a:off x="1066680" y="838080"/>
            <a:ext cx="7315200" cy="48564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"/>
          <p:cNvSpPr/>
          <p:nvPr/>
        </p:nvSpPr>
        <p:spPr>
          <a:xfrm>
            <a:off x="195120" y="307800"/>
            <a:ext cx="671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4320000" y="6019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兴凯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06"/>
          <p:cNvPicPr/>
          <p:nvPr/>
        </p:nvPicPr>
        <p:blipFill>
          <a:blip r:embed="rId1"/>
          <a:stretch/>
        </p:blipFill>
        <p:spPr>
          <a:xfrm>
            <a:off x="990720" y="7621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DC66-D85D-4B75-805E-86F2A925C0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1279080"/>
            <a:ext cx="883908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祖国北方，有许多美丽的山水，最让我难以忘怀的，是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s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有 “绿宝石” 美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y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的兴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kǎ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它不是海，却海一样辽阔，海一样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磅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án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bó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。从遥远的地平线上聚集的白色波涛，连接成一道道雪墙，鼓动着，喧嚣着，一齐奔涌向前。一段波涛从高处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diē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落了，另一段波涛又卷起来，彼此呼唤着，牵扯着，追赶着，或迎着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xù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日，或驮着晓月，一排排向岸边扑来。毫不疲倦的兴凯湖波涛，就这样日夜奔腾着，轰鸣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414600" y="438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22美丽的兴凯湖.mp3" descr=""/>
          <p:cNvPicPr/>
          <p:nvPr/>
        </p:nvPicPr>
        <p:blipFill>
          <a:blip r:embed="rId9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04920" y="2743200"/>
            <a:ext cx="1821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有时候，兴凯湖很温柔，很平静，平静得没有一丝波纹，一点浪花。澄澈的湖水尽头与天空的青黛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à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色连成一体，让你分不清哪是湖水哪是青天。眼前的鸟儿在飞翔，你却辨不清是贴水低掠还是在高天振翅。蓝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飘拂的白云倒映在水面，清晰异常，使你觉得自己也变成一只鸟儿，正在云天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413080" y="3733920"/>
            <a:ext cx="4255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兴凯湖久了，你还会发现，无论是春天、夏天，还是秋天，起伏的浪花永远是洁白的。只要有一点枯枝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叶，都会被水流、巨浪抛上岸去。湖水永远清澈透明，如云，如梦，如诗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 flipV="1" rot="10806000">
            <a:off x="304560" y="4570920"/>
            <a:ext cx="1691316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兴凯湖是鱼的世界，更是鸟的天堂。在湖边一个月牙形的沙滩上，就栖息着成千上万只鸥鸟，像一片灰白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的云，又像一团团银色的雾，罩住整个大沙滩，连一点空隙都没有。它们拥挤着，喧嚷着，骚动着，仿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ú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在举行盛大的集会，欢快热烈。白天，它们飞到辽阔的湖面寻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觅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鱼虾，洗涤羽毛，尽情嬉戏；晚上，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相依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偎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ē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，共同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歇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ē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息在这安宁的王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52280" y="236160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祖国北方，有许多美丽的山水，最让我难以忘怀的，是素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s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有 “绿宝石” 美誉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y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的兴凯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kǎi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湖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658680" y="685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95440" y="3056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438280" y="12193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52280" y="213264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它不是海，却海一样辽阔，海一样磅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pá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礴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bó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。从遥远的地平线上聚集的白色波涛，连接成一道道雪墙，鼓动着，喧嚣着，一齐奔涌向前。一段波涛从高处跌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diē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落了，另一段波涛又卷起来，彼此呼唤着，牵扯着，追赶着，或迎着旭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x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日，或驮着晓月，一排排向岸边扑来。毫不疲倦的兴凯湖波涛，就这样日夜奔腾着，轰鸣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3886200" y="4724280"/>
            <a:ext cx="464832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写出了兴凯湖波涛汹涌时的磅礴气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914400" y="1828800"/>
            <a:ext cx="7696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809880" y="182880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715000" y="182880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95440" y="30560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美丽的兴凯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438280" y="1219320"/>
            <a:ext cx="228600" cy="4190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373560" y="1295280"/>
            <a:ext cx="94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辽阔磅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28600" y="156096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　　有时候，兴凯湖很温柔，很平静，平静得没有一丝波纹，一点浪花。澄澈的湖水尽头与天空的青黛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dài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色连成一体，让你分不清哪是湖水哪是青天。眼前的鸟儿在飞翔，你却辨不清是贴水低掠还是在高天振翅。蓝天上飘拂的白云倒映在水面，清晰异常，使你觉得自己也变成一只鸟儿，正在云天翱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áo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）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2286000" y="3429000"/>
            <a:ext cx="4648320" cy="9144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写出了兴凯湖温柔平静时的安宁澄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914400" y="1066680"/>
            <a:ext cx="7696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04920" y="1828800"/>
            <a:ext cx="4876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3505320" y="10666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4724280" y="10666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5:55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33Z</dcterms:modified>
  <cp:revision>10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