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camera.wav" ContentType="audio/x-wav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wmf" ContentType="image/x-wmf"/>
  <Override PartName="/ppt/media/chimes.wav" ContentType="audio/x-wav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117B9-27B2-496A-9438-E629F63E7D7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3.xml"/><Relationship Id="rId24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3E2BC-ECBA-4497-A04E-766D9811B3F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64234-E5D7-4966-B981-51F2AA269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07AB9-D85A-486B-8CE0-66FD3FA34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5DEC-09E2-4C9A-AF23-AA6C53DEEA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9E1F-01E7-41A6-B1D9-17E0ADB2C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38E74-8A15-40BF-889A-751E542C3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AE9A8-AC8F-4398-A2F4-12ECC353B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B154-519F-4CCB-A203-C7352E1FA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B2D4-4C86-4958-81AF-6E3B86FF8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B2D1-E879-435F-B4E7-07A59BFC1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C400-20AD-4C45-9B0F-1FF86D2F6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17C1A-4CBF-4C3C-81FB-F285D5E82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81DB0-220B-48FE-85B8-CAB7DCEA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FDF7-5834-4166-AE98-60E129EAE4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audio" Target="../media/camera.wav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931680" y="-72720"/>
            <a:ext cx="1521000" cy="61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华文行楷"/>
                <a:ea typeface="华文行楷"/>
              </a:rPr>
              <a:t>马陵之战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矩形 4" descr=""/>
          <p:cNvPicPr/>
          <p:nvPr/>
        </p:nvPicPr>
        <p:blipFill>
          <a:blip r:embed="rId2"/>
          <a:stretch/>
        </p:blipFill>
        <p:spPr>
          <a:xfrm>
            <a:off x="479520" y="6095880"/>
            <a:ext cx="4851360" cy="42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虏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lǔ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6"/>
          <p:cNvSpPr/>
          <p:nvPr/>
        </p:nvSpPr>
        <p:spPr>
          <a:xfrm>
            <a:off x="3270240" y="5715000"/>
            <a:ext cx="2644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注意：“虏”的声母是边音“</a:t>
            </a:r>
            <a:r>
              <a:rPr b="0" lang="en-US" sz="2000" spc="-1" strike="noStrike">
                <a:solidFill>
                  <a:srgbClr val="ffffff"/>
                </a:solidFill>
                <a:latin typeface="黑体"/>
                <a:ea typeface="黑体"/>
              </a:rPr>
              <a:t>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”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2"/>
          <p:cNvSpPr/>
          <p:nvPr/>
        </p:nvSpPr>
        <p:spPr>
          <a:xfrm>
            <a:off x="152280" y="2133720"/>
            <a:ext cx="8991720" cy="3502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韩国     田忌      孙膑      庞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怯懦     怯弱      剽悍      暮色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剥皮     歼灭      俘虏      溃不成军</a:t>
            </a:r>
            <a:r>
              <a:rPr b="1" lang="zh-CN" sz="36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方正粗圆简体"/>
                <a:ea typeface="方正粗圆简体"/>
              </a:rPr>
              <a:t>惴惴不安           自刎而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304560"/>
            <a:ext cx="6130800" cy="1143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自由读文，自学字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4402080" cy="1143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Arial"/>
              </a:rPr>
              <a:t>词语理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68360" y="213372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惴惴不安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剽悍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怯懦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求援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自刎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14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2362320" y="2286000"/>
            <a:ext cx="617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Arial"/>
              </a:rPr>
              <a:t>形容因为害怕或担心而不安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1523880" y="312408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Arial"/>
              </a:rPr>
              <a:t>灵活而勇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6"/>
          <p:cNvSpPr/>
          <p:nvPr/>
        </p:nvSpPr>
        <p:spPr>
          <a:xfrm>
            <a:off x="1600200" y="3886200"/>
            <a:ext cx="304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Arial"/>
              </a:rPr>
              <a:t>胆小而懦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7"/>
          <p:cNvSpPr/>
          <p:nvPr/>
        </p:nvSpPr>
        <p:spPr>
          <a:xfrm>
            <a:off x="1600200" y="4572000"/>
            <a:ext cx="2895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Arial"/>
              </a:rPr>
              <a:t>请求帮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8"/>
          <p:cNvSpPr/>
          <p:nvPr/>
        </p:nvSpPr>
        <p:spPr>
          <a:xfrm>
            <a:off x="1523880" y="5302080"/>
            <a:ext cx="6019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0066"/>
                </a:solidFill>
                <a:latin typeface="Arial"/>
              </a:rPr>
              <a:t>自己割断脖颈，自杀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1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324000" y="2133720"/>
            <a:ext cx="8424720" cy="17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方正大黑简体"/>
                <a:ea typeface="方正大黑简体"/>
              </a:rPr>
              <a:t>第一部分（</a:t>
            </a:r>
            <a:r>
              <a:rPr b="0" lang="en-US" sz="3200" spc="-1" strike="noStrike">
                <a:solidFill>
                  <a:srgbClr val="800000"/>
                </a:solidFill>
                <a:latin typeface="方正大黑简体"/>
                <a:ea typeface="方正大黑简体"/>
              </a:rPr>
              <a:t>1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方正大黑简体"/>
              </a:rPr>
              <a:t>—</a:t>
            </a:r>
            <a:r>
              <a:rPr b="0" lang="en-US" sz="3200" spc="-1" strike="noStrike">
                <a:solidFill>
                  <a:srgbClr val="800000"/>
                </a:solidFill>
                <a:latin typeface="方正大黑简体"/>
                <a:ea typeface="方正大黑简体"/>
              </a:rPr>
              <a:t>2</a:t>
            </a:r>
            <a:r>
              <a:rPr b="0" lang="zh-CN" sz="3200" spc="-1" strike="noStrike">
                <a:solidFill>
                  <a:srgbClr val="800000"/>
                </a:solidFill>
                <a:latin typeface="方正大黑简体"/>
                <a:ea typeface="方正大黑简体"/>
              </a:rPr>
              <a:t>自然段）交代了故事背景：齐国派兵救援被魏国围困的韩时，魏国也派大军对其进行阻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方正大黑简体"/>
                <a:ea typeface="方正大黑简体"/>
              </a:rPr>
              <a:t>第二部分（</a:t>
            </a:r>
            <a:r>
              <a:rPr b="0" lang="en-US" sz="3200" spc="-1" strike="noStrike">
                <a:solidFill>
                  <a:srgbClr val="800000"/>
                </a:solidFill>
                <a:latin typeface="方正大黑简体"/>
                <a:ea typeface="方正大黑简体"/>
              </a:rPr>
              <a:t>3</a:t>
            </a:r>
            <a:r>
              <a:rPr b="0" lang="en-US" sz="3200" spc="-1" strike="noStrike">
                <a:solidFill>
                  <a:srgbClr val="800000"/>
                </a:solidFill>
                <a:latin typeface="Arial"/>
                <a:ea typeface="方正大黑简体"/>
              </a:rPr>
              <a:t>—</a:t>
            </a:r>
            <a:r>
              <a:rPr b="0" lang="en-US" sz="3200" spc="-1" strike="noStrike">
                <a:solidFill>
                  <a:srgbClr val="800000"/>
                </a:solidFill>
                <a:latin typeface="方正大黑简体"/>
                <a:ea typeface="方正大黑简体"/>
              </a:rPr>
              <a:t>6</a:t>
            </a:r>
            <a:r>
              <a:rPr b="0" lang="zh-CN" sz="3200" spc="-1" strike="noStrike">
                <a:solidFill>
                  <a:srgbClr val="800000"/>
                </a:solidFill>
                <a:latin typeface="方正大黑简体"/>
                <a:ea typeface="方正大黑简体"/>
              </a:rPr>
              <a:t>自然段）详细描写马陵之战的起因、经过和结果。齐国按照孙膑的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方正大黑简体"/>
              </a:rPr>
              <a:t>“</a:t>
            </a:r>
            <a:r>
              <a:rPr b="0" lang="zh-CN" sz="3200" spc="-1" strike="noStrike">
                <a:solidFill>
                  <a:srgbClr val="800000"/>
                </a:solidFill>
                <a:latin typeface="方正大黑简体"/>
                <a:ea typeface="方正大黑简体"/>
              </a:rPr>
              <a:t>减灶示弱</a:t>
            </a: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方正大黑简体"/>
              </a:rPr>
              <a:t>”</a:t>
            </a:r>
            <a:r>
              <a:rPr b="0" lang="zh-CN" sz="3200" spc="-1" strike="noStrike">
                <a:solidFill>
                  <a:srgbClr val="800000"/>
                </a:solidFill>
                <a:latin typeface="方正大黑简体"/>
                <a:ea typeface="方正大黑简体"/>
              </a:rPr>
              <a:t>计谋，杀死了魏国大将庞涓，取得了胜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WordArt 4"/>
          <p:cNvSpPr txBox="1"/>
          <p:nvPr/>
        </p:nvSpPr>
        <p:spPr>
          <a:xfrm>
            <a:off x="914400" y="380880"/>
            <a:ext cx="55627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划分课文段落</a:t>
            </a:r>
            <a:endParaRPr b="1" lang="en-US" sz="1800" spc="-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" dur="5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2"/>
          <p:cNvSpPr/>
          <p:nvPr/>
        </p:nvSpPr>
        <p:spPr>
          <a:xfrm>
            <a:off x="685800" y="457200"/>
            <a:ext cx="5183280" cy="82512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0000"/>
                </a:solidFill>
                <a:latin typeface="Arial"/>
              </a:rPr>
              <a:t>合作探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"/>
          <p:cNvSpPr/>
          <p:nvPr/>
        </p:nvSpPr>
        <p:spPr>
          <a:xfrm>
            <a:off x="755640" y="1844640"/>
            <a:ext cx="734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魏军猛追齐军，田忌问孙膑想出了一条什么妙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4"/>
          <p:cNvSpPr/>
          <p:nvPr/>
        </p:nvSpPr>
        <p:spPr>
          <a:xfrm>
            <a:off x="755640" y="2924280"/>
            <a:ext cx="748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孙膑为什么会想出这条妙计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755640" y="3716280"/>
            <a:ext cx="748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庞涓是怎样中计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6"/>
          <p:cNvSpPr/>
          <p:nvPr/>
        </p:nvSpPr>
        <p:spPr>
          <a:xfrm>
            <a:off x="793800" y="4516560"/>
            <a:ext cx="633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马陵之战的结局如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3733920" y="762120"/>
            <a:ext cx="41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cc33"/>
                </a:solidFill>
                <a:latin typeface="Arial"/>
              </a:rPr>
              <a:t>品读课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2"/>
          <p:cNvSpPr/>
          <p:nvPr/>
        </p:nvSpPr>
        <p:spPr>
          <a:xfrm>
            <a:off x="430200" y="533520"/>
            <a:ext cx="8283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公元前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41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年，魏国举兵攻打韩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há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韩国向齐国求援，齐威王派大将田忌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j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、军师孙膑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bì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率兵前往救韩。魏惠王得知这一消息后，即派太子申、大将庞涓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juā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率兵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阻击齐军。可是，魏军抵达齐魏边境时，齐军早已越过边境西去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魏军猛追齐军，田忌问孙膑如何对付魏军。孙膑眉头一皱，计上心来。他对田忌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魏军素称剽悍，以为我军怯弱，而我们正好利用魏军的轻敌思想，减灶示弱，诱敌追赶，然后伺机伏击敌人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田忌连连称赞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好极了！好极了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便采用了孙膑之计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5"/>
          <p:cNvSpPr/>
          <p:nvPr/>
        </p:nvSpPr>
        <p:spPr>
          <a:xfrm>
            <a:off x="4572000" y="3124080"/>
            <a:ext cx="411480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6"/>
          <p:cNvSpPr/>
          <p:nvPr/>
        </p:nvSpPr>
        <p:spPr>
          <a:xfrm>
            <a:off x="533520" y="3505320"/>
            <a:ext cx="807696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7"/>
          <p:cNvSpPr/>
          <p:nvPr/>
        </p:nvSpPr>
        <p:spPr>
          <a:xfrm>
            <a:off x="533520" y="3886200"/>
            <a:ext cx="373356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"/>
                            </p:stCondLst>
                            <p:childTnLst>
                              <p:par>
                                <p:cTn id="75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000"/>
                            </p:stCondLst>
                            <p:childTnLst>
                              <p:par>
                                <p:cTn id="79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AutoShape 2"/>
          <p:cNvSpPr/>
          <p:nvPr/>
        </p:nvSpPr>
        <p:spPr>
          <a:xfrm>
            <a:off x="2362320" y="2255760"/>
            <a:ext cx="152280" cy="2057400"/>
          </a:xfrm>
          <a:custGeom>
            <a:avLst/>
            <a:gdLst>
              <a:gd name="textAreaLeft" fmla="*/ 97200 w 152280"/>
              <a:gd name="textAreaRight" fmla="*/ 15264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3"/>
          <p:cNvSpPr/>
          <p:nvPr/>
        </p:nvSpPr>
        <p:spPr>
          <a:xfrm>
            <a:off x="2734920" y="1995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孙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/>
          <p:cNvSpPr/>
          <p:nvPr/>
        </p:nvSpPr>
        <p:spPr>
          <a:xfrm>
            <a:off x="2744280" y="3900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庞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7"/>
          <p:cNvSpPr/>
          <p:nvPr/>
        </p:nvSpPr>
        <p:spPr>
          <a:xfrm>
            <a:off x="687240" y="295596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马陵之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8"/>
          <p:cNvSpPr/>
          <p:nvPr/>
        </p:nvSpPr>
        <p:spPr>
          <a:xfrm>
            <a:off x="3886560" y="1981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灶示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1000"/>
                            </p:stCondLst>
                            <p:childTnLst>
                              <p:par>
                                <p:cTn id="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3000"/>
                            </p:stCondLst>
                            <p:childTnLst>
                              <p:par>
                                <p:cTn id="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2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2"/>
          <p:cNvSpPr/>
          <p:nvPr/>
        </p:nvSpPr>
        <p:spPr>
          <a:xfrm>
            <a:off x="585720" y="762120"/>
            <a:ext cx="7970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根据预定的作战方案，两军一接触，齐军就立即后撤，诱敌深入。庞涓在追赶齐军的途中，发现齐军遗下的灶足够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人吃饭使用，心里不免惴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zhu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惴不安。第二天却发现齐军的灶减去一半，他又振作精神，令士兵加速追赶。第三天，齐军的灶只剩下供３万人用的了。庞涓认为这是齐军不敢迎战，纷纷逃亡所致。他骄傲地说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知道齐军一向怯懦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nuò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，你们看，三天之中，逃跑的士兵就已经超过半数！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，他丢下大军，率领一支轻装的骑兵，孤军深入，不分日夜地穷追齐军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Line 3"/>
          <p:cNvSpPr/>
          <p:nvPr/>
        </p:nvSpPr>
        <p:spPr>
          <a:xfrm>
            <a:off x="2819520" y="1523880"/>
            <a:ext cx="56386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Line 4"/>
          <p:cNvSpPr/>
          <p:nvPr/>
        </p:nvSpPr>
        <p:spPr>
          <a:xfrm>
            <a:off x="762120" y="1905120"/>
            <a:ext cx="76960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5"/>
          <p:cNvSpPr/>
          <p:nvPr/>
        </p:nvSpPr>
        <p:spPr>
          <a:xfrm>
            <a:off x="685800" y="2286000"/>
            <a:ext cx="777240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6"/>
          <p:cNvSpPr/>
          <p:nvPr/>
        </p:nvSpPr>
        <p:spPr>
          <a:xfrm>
            <a:off x="685800" y="2666880"/>
            <a:ext cx="70102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9"/>
          <p:cNvSpPr/>
          <p:nvPr/>
        </p:nvSpPr>
        <p:spPr>
          <a:xfrm>
            <a:off x="4572000" y="3733920"/>
            <a:ext cx="38098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10"/>
          <p:cNvSpPr/>
          <p:nvPr/>
        </p:nvSpPr>
        <p:spPr>
          <a:xfrm>
            <a:off x="685800" y="4114800"/>
            <a:ext cx="53341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2000"/>
                            </p:stCondLst>
                            <p:childTnLst>
                              <p:par>
                                <p:cTn id="11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3000"/>
                            </p:stCondLst>
                            <p:childTnLst>
                              <p:par>
                                <p:cTn id="1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4"/>
          <p:cNvSpPr/>
          <p:nvPr/>
        </p:nvSpPr>
        <p:spPr>
          <a:xfrm>
            <a:off x="0" y="0"/>
            <a:ext cx="9144000" cy="581400"/>
          </a:xfrm>
          <a:prstGeom prst="rect">
            <a:avLst/>
          </a:prstGeom>
          <a:solidFill>
            <a:srgbClr val="ffffff">
              <a:alpha val="8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66"/>
                </a:solidFill>
                <a:latin typeface="方正粗圆简体"/>
                <a:ea typeface="方正粗圆简体"/>
              </a:rPr>
              <a:t>    </a:t>
            </a:r>
            <a:r>
              <a:rPr b="1" lang="zh-CN" sz="3200" spc="-1" strike="noStrike">
                <a:solidFill>
                  <a:srgbClr val="cc0066"/>
                </a:solidFill>
                <a:latin typeface="方正粗圆简体"/>
                <a:ea typeface="方正粗圆简体"/>
              </a:rPr>
              <a:t>什么是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方正粗圆简体"/>
              </a:rPr>
              <a:t>“</a:t>
            </a:r>
            <a:r>
              <a:rPr b="1" lang="zh-CN" sz="3200" spc="-1" strike="noStrike">
                <a:solidFill>
                  <a:srgbClr val="cc0066"/>
                </a:solidFill>
                <a:latin typeface="方正粗圆简体"/>
                <a:ea typeface="方正粗圆简体"/>
              </a:rPr>
              <a:t>减灶示弱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  <a:ea typeface="方正粗圆简体"/>
              </a:rPr>
              <a:t>”</a:t>
            </a:r>
            <a:r>
              <a:rPr b="1" lang="zh-CN" sz="3200" spc="-1" strike="noStrike">
                <a:solidFill>
                  <a:srgbClr val="cc0066"/>
                </a:solidFill>
                <a:latin typeface="方正粗圆简体"/>
                <a:ea typeface="方正粗圆简体"/>
              </a:rPr>
              <a:t>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5"/>
          <p:cNvSpPr/>
          <p:nvPr/>
        </p:nvSpPr>
        <p:spPr>
          <a:xfrm>
            <a:off x="0" y="1268280"/>
            <a:ext cx="9144000" cy="4528440"/>
          </a:xfrm>
          <a:prstGeom prst="rect">
            <a:avLst/>
          </a:prstGeom>
          <a:solidFill>
            <a:srgbClr val="ffffff">
              <a:alpha val="8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方正卡通简体"/>
                <a:ea typeface="方正卡通简体"/>
              </a:rPr>
              <a:t>庞涓第一天在追赶齐军的途中，发现</a:t>
            </a:r>
            <a:r>
              <a:rPr b="1" lang="zh-CN" sz="2400" spc="-1" strike="noStrike" u="sng">
                <a:solidFill>
                  <a:srgbClr val="003366"/>
                </a:solidFill>
                <a:uFillTx/>
                <a:latin typeface="方正卡通简体"/>
                <a:ea typeface="方正卡通简体"/>
              </a:rPr>
              <a:t>                    </a:t>
            </a:r>
            <a:r>
              <a:rPr b="1" lang="zh-CN" sz="2400" spc="-1" strike="noStrike">
                <a:solidFill>
                  <a:srgbClr val="003366"/>
                </a:solidFill>
                <a:latin typeface="方正卡通简体"/>
                <a:ea typeface="方正卡通简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方正卡通简体"/>
                <a:ea typeface="方正卡通简体"/>
              </a:rPr>
              <a:t>庞涓心里</a:t>
            </a:r>
            <a:r>
              <a:rPr b="1" lang="zh-CN" sz="2400" spc="-1" strike="noStrike" u="sng">
                <a:solidFill>
                  <a:srgbClr val="003366"/>
                </a:solidFill>
                <a:uFillTx/>
                <a:latin typeface="方正卡通简体"/>
                <a:ea typeface="方正卡通简体"/>
              </a:rPr>
              <a:t>            </a:t>
            </a:r>
            <a:r>
              <a:rPr b="1" lang="zh-CN" sz="2400" spc="-1" strike="noStrike">
                <a:solidFill>
                  <a:srgbClr val="003366"/>
                </a:solidFill>
                <a:latin typeface="方正卡通简体"/>
                <a:ea typeface="方正卡通简体"/>
              </a:rPr>
              <a:t>。第二天，庞涓却发现</a:t>
            </a:r>
            <a:r>
              <a:rPr b="1" lang="zh-CN" sz="2400" spc="-1" strike="noStrike" u="sng">
                <a:solidFill>
                  <a:srgbClr val="003366"/>
                </a:solidFill>
                <a:uFillTx/>
                <a:latin typeface="方正卡通简体"/>
                <a:ea typeface="方正卡通简体"/>
              </a:rPr>
              <a:t>           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方正卡通简体"/>
                <a:ea typeface="方正卡通简体"/>
              </a:rPr>
              <a:t>___</a:t>
            </a:r>
            <a:r>
              <a:rPr b="1" lang="zh-CN" sz="2400" spc="-1" strike="noStrike">
                <a:solidFill>
                  <a:srgbClr val="003366"/>
                </a:solidFill>
                <a:latin typeface="方正卡通简体"/>
                <a:ea typeface="方正卡通简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方正卡通简体"/>
                <a:ea typeface="方正卡通简体"/>
              </a:rPr>
              <a:t>庞涓</a:t>
            </a:r>
            <a:r>
              <a:rPr b="1" lang="zh-CN" sz="2400" spc="-1" strike="noStrike" u="sng">
                <a:solidFill>
                  <a:srgbClr val="003366"/>
                </a:solidFill>
                <a:uFillTx/>
                <a:latin typeface="方正卡通简体"/>
                <a:ea typeface="方正卡通简体"/>
              </a:rPr>
              <a:t>                     </a:t>
            </a:r>
            <a:r>
              <a:rPr b="1" lang="zh-CN" sz="2400" spc="-1" strike="noStrike">
                <a:solidFill>
                  <a:srgbClr val="003366"/>
                </a:solidFill>
                <a:latin typeface="方正卡通简体"/>
                <a:ea typeface="方正卡通简体"/>
              </a:rPr>
              <a:t>。第三天，庞涓高兴极了，因为</a:t>
            </a:r>
            <a:r>
              <a:rPr b="1" lang="zh-CN" sz="2400" spc="-1" strike="noStrike" u="sng">
                <a:solidFill>
                  <a:srgbClr val="003366"/>
                </a:solidFill>
                <a:uFillTx/>
                <a:latin typeface="方正卡通简体"/>
                <a:ea typeface="方正卡通简体"/>
              </a:rPr>
              <a:t>        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方正卡通简体"/>
                <a:ea typeface="方正卡通简体"/>
              </a:rPr>
              <a:t>______________________</a:t>
            </a:r>
            <a:r>
              <a:rPr b="1" lang="zh-CN" sz="2400" spc="-1" strike="noStrike">
                <a:solidFill>
                  <a:srgbClr val="003366"/>
                </a:solidFill>
                <a:latin typeface="方正卡通简体"/>
                <a:ea typeface="方正卡通简体"/>
              </a:rPr>
              <a:t>，庞涓认为</a:t>
            </a:r>
            <a:r>
              <a:rPr b="1" lang="zh-CN" sz="2400" spc="-1" strike="noStrike" u="sng">
                <a:solidFill>
                  <a:srgbClr val="003366"/>
                </a:solidFill>
                <a:uFillTx/>
                <a:latin typeface="方正卡通简体"/>
                <a:ea typeface="方正卡通简体"/>
              </a:rPr>
              <a:t>                   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方正卡通简体"/>
                <a:ea typeface="方正卡通简体"/>
              </a:rPr>
              <a:t>___</a:t>
            </a:r>
            <a:r>
              <a:rPr b="1" lang="zh-CN" sz="2400" spc="-1" strike="noStrike">
                <a:solidFill>
                  <a:srgbClr val="003366"/>
                </a:solidFill>
                <a:latin typeface="方正卡通简体"/>
                <a:ea typeface="方正卡通简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方正卡通简体"/>
                <a:ea typeface="方正卡通简体"/>
              </a:rPr>
              <a:t>所以庞涓骄傲地说</a:t>
            </a:r>
            <a:r>
              <a:rPr b="1" lang="zh-CN" sz="2400" spc="-1" strike="noStrike" u="sng">
                <a:solidFill>
                  <a:srgbClr val="003366"/>
                </a:solidFill>
                <a:uFillTx/>
                <a:latin typeface="方正卡通简体"/>
                <a:ea typeface="方正卡通简体"/>
              </a:rPr>
              <a:t>       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方正卡通简体"/>
                <a:ea typeface="方正卡通简体"/>
              </a:rPr>
              <a:t>_______________________________</a:t>
            </a:r>
            <a:r>
              <a:rPr b="1" lang="zh-CN" sz="2400" spc="-1" strike="noStrike">
                <a:solidFill>
                  <a:srgbClr val="003366"/>
                </a:solidFill>
                <a:latin typeface="方正卡通简体"/>
                <a:ea typeface="方正卡通简体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66"/>
                </a:solidFill>
                <a:latin typeface="方正卡通简体"/>
                <a:ea typeface="方正卡通简体"/>
              </a:rPr>
              <a:t>庞涓也顾不上多想，便</a:t>
            </a:r>
            <a:r>
              <a:rPr b="1" lang="zh-CN" sz="2400" spc="-1" strike="noStrike" u="sng">
                <a:solidFill>
                  <a:srgbClr val="003366"/>
                </a:solidFill>
                <a:uFillTx/>
                <a:latin typeface="方正卡通简体"/>
                <a:ea typeface="方正卡通简体"/>
              </a:rPr>
              <a:t>      </a:t>
            </a:r>
            <a:r>
              <a:rPr b="1" lang="en-US" sz="2400" spc="-1" strike="noStrike" u="sng">
                <a:solidFill>
                  <a:srgbClr val="003366"/>
                </a:solidFill>
                <a:uFillTx/>
                <a:latin typeface="方正卡通简体"/>
                <a:ea typeface="方正卡通简体"/>
              </a:rPr>
              <a:t>____________________________</a:t>
            </a:r>
            <a:r>
              <a:rPr b="1" lang="zh-CN" sz="2400" spc="-1" strike="noStrike">
                <a:solidFill>
                  <a:srgbClr val="003366"/>
                </a:solidFill>
                <a:latin typeface="方正卡通简体"/>
                <a:ea typeface="方正卡通简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6"/>
          <p:cNvSpPr/>
          <p:nvPr/>
        </p:nvSpPr>
        <p:spPr>
          <a:xfrm>
            <a:off x="4896000" y="1268280"/>
            <a:ext cx="424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齐军遗下的灶足够</a:t>
            </a:r>
            <a:r>
              <a:rPr b="1" lang="en-US" sz="2000" spc="-1" strike="noStrike">
                <a:solidFill>
                  <a:srgbClr val="ff3300"/>
                </a:solidFill>
                <a:latin typeface="宋体"/>
              </a:rPr>
              <a:t>10</a:t>
            </a:r>
            <a:r>
              <a:rPr b="1" lang="zh-CN" sz="2000" spc="-1" strike="noStrike">
                <a:solidFill>
                  <a:srgbClr val="ff3300"/>
                </a:solidFill>
                <a:latin typeface="宋体"/>
              </a:rPr>
              <a:t>万人吃饭使用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7"/>
          <p:cNvSpPr/>
          <p:nvPr/>
        </p:nvSpPr>
        <p:spPr>
          <a:xfrm>
            <a:off x="1403280" y="2452680"/>
            <a:ext cx="165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不免惴惴不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8"/>
          <p:cNvSpPr/>
          <p:nvPr/>
        </p:nvSpPr>
        <p:spPr>
          <a:xfrm>
            <a:off x="6227640" y="2349360"/>
            <a:ext cx="24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齐军的灶减去一半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9"/>
          <p:cNvSpPr/>
          <p:nvPr/>
        </p:nvSpPr>
        <p:spPr>
          <a:xfrm>
            <a:off x="609480" y="29862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又振作精神，令士兵加速追赶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0"/>
          <p:cNvSpPr/>
          <p:nvPr/>
        </p:nvSpPr>
        <p:spPr>
          <a:xfrm>
            <a:off x="0" y="335772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齐军的灶只剩下三万人用的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1"/>
          <p:cNvSpPr/>
          <p:nvPr/>
        </p:nvSpPr>
        <p:spPr>
          <a:xfrm>
            <a:off x="4932360" y="3276720"/>
            <a:ext cx="42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这是齐军不敢迎战，纷纷逃亡所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2"/>
          <p:cNvSpPr/>
          <p:nvPr/>
        </p:nvSpPr>
        <p:spPr>
          <a:xfrm>
            <a:off x="2484360" y="3860640"/>
            <a:ext cx="6191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我知道齐军一向怯懦，你们看，三天之中，逃跑的士兵就已经超过半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3"/>
          <p:cNvSpPr/>
          <p:nvPr/>
        </p:nvSpPr>
        <p:spPr>
          <a:xfrm>
            <a:off x="3059280" y="4941720"/>
            <a:ext cx="561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丢下大军率领一支轻装的骑兵，孤军深入，不分日夜地穷追齐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3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3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3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3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4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4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4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4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5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5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5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5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0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6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6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8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6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76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8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762120" y="990720"/>
          <a:ext cx="7619760" cy="4495680"/>
        </p:xfrm>
        <a:graphic>
          <a:graphicData uri="http://schemas.openxmlformats.org/drawingml/2006/table">
            <a:tbl>
              <a:tblPr/>
              <a:tblGrid>
                <a:gridCol w="2539800"/>
                <a:gridCol w="2539800"/>
                <a:gridCol w="2540160"/>
              </a:tblGrid>
              <a:tr h="685800">
                <a:tc grid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减灶示弱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黑体"/>
                        </a:rPr>
                        <a:t>庞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0948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时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行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1430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一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144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二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43000"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第三天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30" name="Text Box 26"/>
          <p:cNvSpPr/>
          <p:nvPr/>
        </p:nvSpPr>
        <p:spPr>
          <a:xfrm>
            <a:off x="3677760" y="2406600"/>
            <a:ext cx="184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遗下足够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吃饭用的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27"/>
          <p:cNvSpPr/>
          <p:nvPr/>
        </p:nvSpPr>
        <p:spPr>
          <a:xfrm>
            <a:off x="6610680" y="260496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惴惴不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28"/>
          <p:cNvSpPr/>
          <p:nvPr/>
        </p:nvSpPr>
        <p:spPr>
          <a:xfrm>
            <a:off x="4288320" y="359568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减去一半的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29"/>
          <p:cNvSpPr/>
          <p:nvPr/>
        </p:nvSpPr>
        <p:spPr>
          <a:xfrm>
            <a:off x="6604200" y="3581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振作精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0"/>
          <p:cNvSpPr/>
          <p:nvPr/>
        </p:nvSpPr>
        <p:spPr>
          <a:xfrm>
            <a:off x="3755880" y="4419720"/>
            <a:ext cx="16318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只剩下供</a:t>
            </a: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人用的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31"/>
          <p:cNvSpPr/>
          <p:nvPr/>
        </p:nvSpPr>
        <p:spPr>
          <a:xfrm>
            <a:off x="6773400" y="466236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骄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2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6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33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609480" y="1371600"/>
            <a:ext cx="8064720" cy="581400"/>
          </a:xfrm>
          <a:prstGeom prst="rect">
            <a:avLst/>
          </a:prstGeom>
          <a:solidFill>
            <a:srgbClr val="ffffff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公元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4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年，魏国派庞涓联合赵国攻打韩国。韩国向齐国求救。齐国以田忌、田婴为将，孙膑为军师，率军经曲阜、亢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今山东济宁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围攻魏国国都。庞涓听到消息后，急忙弃韩而回。魏国深恨齐国一再干预魏国的大事，于是派兵迎击齐军，仍以庞涓为将，太子申为上将军，随军参与指挥，誓与齐军决一死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2"/>
          <p:cNvSpPr/>
          <p:nvPr/>
        </p:nvSpPr>
        <p:spPr>
          <a:xfrm>
            <a:off x="585720" y="2060640"/>
            <a:ext cx="797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孙膑根据庞涓的行军速度，判断魏军在日落后可到达马陵道。马陵道位于两座大山之间，地势险要，树林茂密。孙膑让士兵把树砍倒，横七竖八丢在路上，只留其中最大一株，剥去树皮，写上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庞涓死于此树之下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几个大字。孙膑挑选了一万名弓箭手埋伏在附近，命令他们夜间看到火光，就一齐放箭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Line 3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Line 4"/>
          <p:cNvSpPr/>
          <p:nvPr/>
        </p:nvSpPr>
        <p:spPr>
          <a:xfrm>
            <a:off x="647640" y="2819520"/>
            <a:ext cx="78487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5"/>
          <p:cNvSpPr/>
          <p:nvPr/>
        </p:nvSpPr>
        <p:spPr>
          <a:xfrm>
            <a:off x="685800" y="228600"/>
            <a:ext cx="7815240" cy="1447920"/>
          </a:xfrm>
          <a:prstGeom prst="wedgeRectCallout">
            <a:avLst>
              <a:gd name="adj1" fmla="val 9050"/>
              <a:gd name="adj2" fmla="val 707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这句话交代了战事的地点：马陵道。不难看出，在马陵作战，齐国占尽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天时地利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天时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宋体"/>
              </a:rPr>
              <a:t>日落后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天黑，有利于伏兵；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地利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en-US" sz="20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0" lang="en-US" sz="1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地势险要，树林茂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，适于居高临下，万箭齐发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0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4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9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5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2"/>
          <p:cNvSpPr/>
          <p:nvPr/>
        </p:nvSpPr>
        <p:spPr>
          <a:xfrm>
            <a:off x="457200" y="1558800"/>
            <a:ext cx="8229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一切布置停当，夜幕降临时庞涓已率部进入马陵道。因为道路被遍地树木阻塞，魏军只得停了下来。暮（</a:t>
            </a:r>
            <a:r>
              <a:rPr b="0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ù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色中，庞涓隐约发现一株剥皮大树上写有数个大字，就命人点起火把，想看个究竟。就在这时，齐军万箭齐发。庞涓自知败局已定，无法挽回，长叹道：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让孙膑这小子成全了名声。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于是，手持佩剑自刎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wě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而死。魏军失去主帅，顿时乱成一团，溃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kuì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不成军。齐军乘胜进攻，全歼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jiān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魏军，并俘虏（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lǔ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了魏太子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Line 3"/>
          <p:cNvSpPr/>
          <p:nvPr/>
        </p:nvSpPr>
        <p:spPr>
          <a:xfrm>
            <a:off x="1143000" y="1981080"/>
            <a:ext cx="74674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Line 4"/>
          <p:cNvSpPr/>
          <p:nvPr/>
        </p:nvSpPr>
        <p:spPr>
          <a:xfrm>
            <a:off x="609480" y="2286000"/>
            <a:ext cx="632484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3124080" y="380880"/>
            <a:ext cx="5453280" cy="914400"/>
          </a:xfrm>
          <a:prstGeom prst="wedgeRectCallout">
            <a:avLst>
              <a:gd name="adj1" fmla="val 6157"/>
              <a:gd name="adj2" fmla="val 8593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两句简简单单的话，便体现孙膑的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运筹帷幄，料事如神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Line 6"/>
          <p:cNvSpPr/>
          <p:nvPr/>
        </p:nvSpPr>
        <p:spPr>
          <a:xfrm>
            <a:off x="5410080" y="3809880"/>
            <a:ext cx="32767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Line 7"/>
          <p:cNvSpPr/>
          <p:nvPr/>
        </p:nvSpPr>
        <p:spPr>
          <a:xfrm>
            <a:off x="571680" y="4191120"/>
            <a:ext cx="811512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Line 8"/>
          <p:cNvSpPr/>
          <p:nvPr/>
        </p:nvSpPr>
        <p:spPr>
          <a:xfrm>
            <a:off x="533520" y="4572000"/>
            <a:ext cx="4495680" cy="0"/>
          </a:xfrm>
          <a:prstGeom prst="line">
            <a:avLst/>
          </a:prstGeom>
          <a:ln w="38160">
            <a:solidFill>
              <a:srgbClr val="ff33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9"/>
          <p:cNvSpPr/>
          <p:nvPr/>
        </p:nvSpPr>
        <p:spPr>
          <a:xfrm>
            <a:off x="1143000" y="5181480"/>
            <a:ext cx="5943600" cy="1067040"/>
          </a:xfrm>
          <a:prstGeom prst="wedgeRectCallout">
            <a:avLst>
              <a:gd name="adj1" fmla="val 6143"/>
              <a:gd name="adj2" fmla="val -9643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交代了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马陵之战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的最后结果，也进一步突出了它在这场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援韩战争</a:t>
            </a:r>
            <a:r>
              <a:rPr b="0" lang="zh-CN" sz="20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所起的决定性作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5" dur="indefinite" restart="never" nodeType="tmRoot">
          <p:childTnLst>
            <p:seq>
              <p:cTn id="256" dur="indefinite" nodeType="mainSeq">
                <p:childTnLst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1000"/>
                            </p:stCondLst>
                            <p:childTnLst>
                              <p:par>
                                <p:cTn id="2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70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7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0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6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2000"/>
                            </p:stCondLst>
                            <p:childTnLst>
                              <p:par>
                                <p:cTn id="29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9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303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AutoShape 2"/>
          <p:cNvSpPr/>
          <p:nvPr/>
        </p:nvSpPr>
        <p:spPr>
          <a:xfrm>
            <a:off x="2362320" y="2255760"/>
            <a:ext cx="152280" cy="2057400"/>
          </a:xfrm>
          <a:custGeom>
            <a:avLst/>
            <a:gdLst>
              <a:gd name="textAreaLeft" fmla="*/ 97200 w 152280"/>
              <a:gd name="textAreaRight" fmla="*/ 152640 w 1522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2734920" y="19954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孙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5"/>
          <p:cNvSpPr/>
          <p:nvPr/>
        </p:nvSpPr>
        <p:spPr>
          <a:xfrm>
            <a:off x="2744280" y="39006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庞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6"/>
          <p:cNvSpPr/>
          <p:nvPr/>
        </p:nvSpPr>
        <p:spPr>
          <a:xfrm>
            <a:off x="7238880" y="2168640"/>
            <a:ext cx="304920" cy="2133360"/>
          </a:xfrm>
          <a:custGeom>
            <a:avLst/>
            <a:gdLst>
              <a:gd name="textAreaLeft" fmla="*/ 0 w 304920"/>
              <a:gd name="textAreaRight" fmla="*/ 110160 w 30492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8"/>
                </a:cubicBezTo>
                <a:lnTo>
                  <a:pt x="10800" y="9307"/>
                </a:lnTo>
                <a:cubicBezTo>
                  <a:pt x="10800" y="10206"/>
                  <a:pt x="16200" y="11105"/>
                  <a:pt x="21600" y="11105"/>
                </a:cubicBezTo>
                <a:cubicBezTo>
                  <a:pt x="16200" y="11105"/>
                  <a:pt x="10800" y="12004"/>
                  <a:pt x="10800" y="12903"/>
                </a:cubicBezTo>
                <a:lnTo>
                  <a:pt x="10800" y="19802"/>
                </a:lnTo>
                <a:cubicBezTo>
                  <a:pt x="10800" y="2070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7818480" y="295596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智取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687240" y="295596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马陵之战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9"/>
          <p:cNvSpPr/>
          <p:nvPr/>
        </p:nvSpPr>
        <p:spPr>
          <a:xfrm>
            <a:off x="3886560" y="1981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减灶示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10"/>
          <p:cNvSpPr/>
          <p:nvPr/>
        </p:nvSpPr>
        <p:spPr>
          <a:xfrm>
            <a:off x="3867480" y="3900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骄傲轻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15"/>
          <p:cNvGrpSpPr/>
          <p:nvPr/>
        </p:nvGrpSpPr>
        <p:grpSpPr>
          <a:xfrm>
            <a:off x="5181480" y="1981080"/>
            <a:ext cx="1832400" cy="2440080"/>
            <a:chOff x="5181480" y="1981080"/>
            <a:chExt cx="1832400" cy="2440080"/>
          </a:xfrm>
        </p:grpSpPr>
        <p:sp>
          <p:nvSpPr>
            <p:cNvPr id="157" name="Line 11"/>
            <p:cNvSpPr/>
            <p:nvPr/>
          </p:nvSpPr>
          <p:spPr>
            <a:xfrm>
              <a:off x="5181480" y="2286000"/>
              <a:ext cx="12193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Line 12"/>
            <p:cNvSpPr/>
            <p:nvPr/>
          </p:nvSpPr>
          <p:spPr>
            <a:xfrm>
              <a:off x="5181480" y="4191120"/>
              <a:ext cx="1219320" cy="0"/>
            </a:xfrm>
            <a:prstGeom prst="line">
              <a:avLst/>
            </a:prstGeom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13"/>
            <p:cNvSpPr/>
            <p:nvPr/>
          </p:nvSpPr>
          <p:spPr>
            <a:xfrm>
              <a:off x="6619680" y="198108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14"/>
            <p:cNvSpPr/>
            <p:nvPr/>
          </p:nvSpPr>
          <p:spPr>
            <a:xfrm>
              <a:off x="6600600" y="3900600"/>
              <a:ext cx="394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3300"/>
                  </a:solidFill>
                  <a:latin typeface="Arial"/>
                  <a:ea typeface="黑体"/>
                </a:rPr>
                <a:t>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1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0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4"/>
          <p:cNvSpPr/>
          <p:nvPr/>
        </p:nvSpPr>
        <p:spPr>
          <a:xfrm>
            <a:off x="533520" y="1219320"/>
            <a:ext cx="7848360" cy="1191240"/>
          </a:xfrm>
          <a:prstGeom prst="rect">
            <a:avLst/>
          </a:prstGeom>
          <a:solidFill>
            <a:srgbClr val="ffffff">
              <a:alpha val="6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66"/>
                </a:solidFill>
                <a:latin typeface="Arial"/>
                <a:ea typeface="方正粗圆简体"/>
              </a:rPr>
              <a:t>       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方正粗圆简体"/>
              </a:rPr>
              <a:t>既然“减灶示弱”这么有效，为什么课题干脆不以此为题，而要以“马陵之战”为题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AutoShape 2"/>
          <p:cNvSpPr/>
          <p:nvPr/>
        </p:nvSpPr>
        <p:spPr>
          <a:xfrm>
            <a:off x="380880" y="228600"/>
            <a:ext cx="5715000" cy="2514600"/>
          </a:xfrm>
          <a:prstGeom prst="cloudCallout">
            <a:avLst>
              <a:gd name="adj1" fmla="val -34138"/>
              <a:gd name="adj2" fmla="val 75884"/>
            </a:avLst>
          </a:prstGeom>
          <a:solidFill>
            <a:srgbClr val="ff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你觉得孙膑和庞涓各是怎样的人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762120" y="3421080"/>
            <a:ext cx="75610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方正剪纸简体"/>
              </a:rPr>
              <a:t>孙膑：善用兵法、知己知彼、料事如神、聪明机智、用兵如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00000"/>
                </a:solidFill>
                <a:latin typeface="Arial"/>
                <a:ea typeface="方正剪纸简体"/>
              </a:rPr>
              <a:t>庞涓：骄傲自满、狂妄自大、骄兵必败、轻率行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36" dur="5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1" dur="5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画卷"/>
          <p:cNvPicPr/>
          <p:nvPr/>
        </p:nvPicPr>
        <p:blipFill>
          <a:blip r:embed="rId1"/>
          <a:stretch/>
        </p:blipFill>
        <p:spPr>
          <a:xfrm>
            <a:off x="-252360" y="0"/>
            <a:ext cx="957744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68259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</a:rPr>
              <a:t>知识迁移</a:t>
            </a:r>
            <a:r>
              <a:rPr b="0" lang="zh-CN" sz="96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61128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6000" spc="-1" strike="noStrike">
                <a:solidFill>
                  <a:srgbClr val="ff0000"/>
                </a:solidFill>
                <a:latin typeface="Arial"/>
                <a:ea typeface="楷体_GB2312"/>
              </a:rPr>
              <a:t>战国七雄</a:t>
            </a:r>
            <a:r>
              <a:rPr b="0" lang="zh-CN" sz="7200" spc="-1" strike="noStrike">
                <a:solidFill>
                  <a:srgbClr val="ff0000"/>
                </a:solidFill>
                <a:latin typeface="Arial"/>
                <a:ea typeface="楷体_GB2312"/>
              </a:rPr>
              <a:t>：</a:t>
            </a: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齐、楚、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0" lang="zh-CN" sz="8000" spc="-1" strike="noStrike">
                <a:solidFill>
                  <a:srgbClr val="000000"/>
                </a:solidFill>
                <a:latin typeface="Arial"/>
                <a:ea typeface="楷体_GB2312"/>
              </a:rPr>
              <a:t>燕、赵、魏、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vert"/>
    <p:sndAc>
      <p:stSnd>
        <p:snd r:embed="rId2" name="camera.wav"/>
      </p:stSnd>
    </p:sndAc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8153640" cy="1112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800" spc="-1" strike="noStrike">
                <a:solidFill>
                  <a:srgbClr val="000000"/>
                </a:solidFill>
                <a:latin typeface="Arial"/>
                <a:ea typeface="楷体_GB2312"/>
              </a:rPr>
              <a:t>春秋五霸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五霸：  齐桓公 晋文公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楚庄王 吴王阖闾               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0" lang="zh-CN" sz="5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越国勾践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1349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马陵之战6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马陵之战6"/>
          <p:cNvPicPr/>
          <p:nvPr/>
        </p:nvPicPr>
        <p:blipFill>
          <a:blip r:embed="rId1"/>
          <a:stretch/>
        </p:blipFill>
        <p:spPr>
          <a:xfrm>
            <a:off x="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71" name="Text Box 3"/>
          <p:cNvSpPr/>
          <p:nvPr/>
        </p:nvSpPr>
        <p:spPr>
          <a:xfrm>
            <a:off x="2028600" y="380880"/>
            <a:ext cx="511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000000"/>
                </a:solidFill>
                <a:latin typeface="Arial"/>
                <a:ea typeface="楷体_GB2312"/>
              </a:rPr>
              <a:t>马陵古战场遗址公园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Picture 2" descr="马陵之战的图片"/>
          <p:cNvPicPr/>
          <p:nvPr/>
        </p:nvPicPr>
        <p:blipFill>
          <a:blip r:embed="rId1"/>
          <a:stretch/>
        </p:blipFill>
        <p:spPr>
          <a:xfrm>
            <a:off x="0" y="0"/>
            <a:ext cx="8820000" cy="6669000"/>
          </a:xfrm>
          <a:prstGeom prst="rect">
            <a:avLst/>
          </a:prstGeom>
          <a:ln w="0">
            <a:noFill/>
          </a:ln>
        </p:spPr>
      </p:pic>
      <p:sp>
        <p:nvSpPr>
          <p:cNvPr id="173" name="Text Box 3"/>
          <p:cNvSpPr/>
          <p:nvPr/>
        </p:nvSpPr>
        <p:spPr>
          <a:xfrm>
            <a:off x="459720" y="-269280"/>
            <a:ext cx="1826280" cy="38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马陵之战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Arial"/>
                <a:ea typeface="楷体_GB2312"/>
              </a:rPr>
              <a:t>纪念碑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矩形 7"/>
          <p:cNvSpPr/>
          <p:nvPr/>
        </p:nvSpPr>
        <p:spPr>
          <a:xfrm>
            <a:off x="4419720" y="5410080"/>
            <a:ext cx="734760" cy="24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1371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参考资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3" descr="1"/>
          <p:cNvPicPr/>
          <p:nvPr/>
        </p:nvPicPr>
        <p:blipFill>
          <a:blip r:embed="rId1"/>
          <a:stretch/>
        </p:blipFill>
        <p:spPr>
          <a:xfrm>
            <a:off x="2697120" y="749160"/>
            <a:ext cx="3747960" cy="535788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1"/>
          <p:cNvSpPr/>
          <p:nvPr/>
        </p:nvSpPr>
        <p:spPr>
          <a:xfrm>
            <a:off x="1469880" y="6434280"/>
            <a:ext cx="497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下载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5" descr="1"/>
          <p:cNvPicPr/>
          <p:nvPr/>
        </p:nvPicPr>
        <p:blipFill>
          <a:blip r:embed="rId1"/>
          <a:stretch/>
        </p:blipFill>
        <p:spPr>
          <a:xfrm>
            <a:off x="1447920" y="609480"/>
            <a:ext cx="6248160" cy="517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4"/>
          <p:cNvSpPr/>
          <p:nvPr/>
        </p:nvSpPr>
        <p:spPr>
          <a:xfrm>
            <a:off x="387180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自然风景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E0561-85B4-456B-AA12-C97AB26FF03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韩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há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3581640" y="5715000"/>
            <a:ext cx="19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注意：“韩”的韵母是前鼻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61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忌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jì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65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懦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nuò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69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暮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mù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73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溃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kuì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tianzigez"/>
          <p:cNvPicPr/>
          <p:nvPr/>
        </p:nvPicPr>
        <p:blipFill>
          <a:blip r:embed="rId2"/>
          <a:stretch/>
        </p:blipFill>
        <p:spPr>
          <a:xfrm>
            <a:off x="2878200" y="1523880"/>
            <a:ext cx="3370320" cy="33703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3633840" y="1279440"/>
            <a:ext cx="1933200" cy="35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3000" spc="-1" strike="noStrike">
                <a:solidFill>
                  <a:srgbClr val="000000"/>
                </a:solidFill>
                <a:latin typeface="Verdana"/>
                <a:ea typeface="楷体_GB2312"/>
              </a:rPr>
              <a:t>歼</a:t>
            </a:r>
            <a:endParaRPr b="0" lang="en-US" sz="2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0000"/>
                </a:solidFill>
                <a:latin typeface="宋体"/>
              </a:rPr>
              <a:t>jiā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3581640" y="5715000"/>
            <a:ext cx="198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注意：“歼”的韵母是前鼻音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ShockwaveFlash1" descr=""/>
          <p:cNvPicPr/>
          <p:nvPr/>
        </p:nvPicPr>
        <p:blipFill>
          <a:blip r:embed="rId3"/>
          <a:stretch/>
        </p:blipFill>
        <p:spPr>
          <a:xfrm>
            <a:off x="6477120" y="990720"/>
            <a:ext cx="53316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3T06:07:43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53:20Z</dcterms:modified>
  <cp:revision>3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