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5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6.png" ContentType="image/pn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A628-0541-4109-894D-B4DEC6139C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25D5-4526-49B1-AA04-A772DA5B93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3BE-0CE9-4BF4-BE9A-F53058F0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15D-B75A-4D21-A05A-CBF43CA9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AEE-5DE1-43D1-B361-E941CAD5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818-686E-495B-89AA-8D59BC96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122-60E7-42EC-8B93-BDE90F79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2CE-FAEC-4DA1-A3AC-E3649FC2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FC4-FCD8-495C-B708-504B459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EB1-6B69-4CB0-8867-228B0130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727-7D33-4D6C-99D9-F2B7CBEA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D8A-CCB7-430D-BA2F-2366AF9D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C7B-FD95-4F29-AD1C-7E02510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143-3F4C-4BE3-A594-BB4B4969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1027-33C2-4898-BE29-00E3B9BB96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vsky.com/Photo/436/123145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0" y="1092240"/>
            <a:ext cx="9144000" cy="576576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4" descr=""/>
          <p:cNvPicPr/>
          <p:nvPr/>
        </p:nvPicPr>
        <p:blipFill>
          <a:blip r:embed="rId2"/>
          <a:stretch/>
        </p:blipFill>
        <p:spPr>
          <a:xfrm>
            <a:off x="511200" y="2131920"/>
            <a:ext cx="8207280" cy="15699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9" descr=""/>
          <p:cNvPicPr/>
          <p:nvPr/>
        </p:nvPicPr>
        <p:blipFill>
          <a:blip r:embed="rId3"/>
          <a:stretch/>
        </p:blipFill>
        <p:spPr>
          <a:xfrm>
            <a:off x="1820880" y="60213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u=3722298363,3149165906&amp;fm=52&amp;gp=0[1]"/>
          <p:cNvPicPr/>
          <p:nvPr/>
        </p:nvPicPr>
        <p:blipFill>
          <a:blip r:embed="rId1"/>
          <a:stretch/>
        </p:blipFill>
        <p:spPr>
          <a:xfrm>
            <a:off x="108000" y="0"/>
            <a:ext cx="5167440" cy="681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5651640" y="1270080"/>
            <a:ext cx="280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究竟谁说的对呢？盲人们各执己见，互不相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他们谁说得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395280" y="476280"/>
            <a:ext cx="2160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说一说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71640" y="5719680"/>
            <a:ext cx="71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练习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象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来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4763880" cy="35672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1"/>
          <p:cNvSpPr/>
          <p:nvPr/>
        </p:nvSpPr>
        <p:spPr>
          <a:xfrm>
            <a:off x="2662200" y="119232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1989000" y="249228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学了这个故事你明白了什么道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3203640" y="981000"/>
            <a:ext cx="2592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3203640" y="836640"/>
            <a:ext cx="288108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课后作业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157560" y="2389320"/>
            <a:ext cx="314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写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练习讲这个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7596-1D43-4A6D-90DB-909BB14655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大象高清晰图片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-110Z5114500-l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图片23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13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268360" y="765000"/>
            <a:ext cx="27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学习提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32040" y="1989000"/>
            <a:ext cx="608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读故事，说说几个盲人各自摸到了象的哪几个部位？他们心中的大象分别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20736711_308922[1]"/>
          <p:cNvPicPr/>
          <p:nvPr/>
        </p:nvPicPr>
        <p:blipFill>
          <a:blip r:embed="rId1"/>
          <a:stretch/>
        </p:blipFill>
        <p:spPr>
          <a:xfrm>
            <a:off x="181080" y="46080"/>
            <a:ext cx="5432400" cy="6767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5823000" y="1755720"/>
            <a:ext cx="29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一天，有人从王宫里牵出一头大象，许多人前来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围观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。几个盲人也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争先恐后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地去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u=3495504748,1275414579&amp;fm=0&amp;gp=0[1]"/>
          <p:cNvPicPr/>
          <p:nvPr/>
        </p:nvPicPr>
        <p:blipFill>
          <a:blip r:embed="rId1"/>
          <a:stretch/>
        </p:blipFill>
        <p:spPr>
          <a:xfrm>
            <a:off x="108000" y="44280"/>
            <a:ext cx="5040360" cy="6697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u=4268411418,2129113098&amp;fm=0&amp;gp=0[1]"/>
          <p:cNvPicPr/>
          <p:nvPr/>
        </p:nvPicPr>
        <p:blipFill>
          <a:blip r:embed="rId2"/>
          <a:stretch/>
        </p:blipFill>
        <p:spPr>
          <a:xfrm rot="5340000">
            <a:off x="1144080" y="1531800"/>
            <a:ext cx="933120" cy="2282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921280" y="1982880"/>
            <a:ext cx="282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个盲人摸到象牙，就大喊起来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我知道了！我知道大象的样子了，他像根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棍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子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7"/>
          <p:cNvSpPr/>
          <p:nvPr/>
        </p:nvSpPr>
        <p:spPr>
          <a:xfrm>
            <a:off x="1692360" y="32353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u=1108046241,187069270&amp;fm=51&amp;gp=0[1]"/>
          <p:cNvPicPr/>
          <p:nvPr/>
        </p:nvPicPr>
        <p:blipFill>
          <a:blip r:embed="rId1"/>
          <a:stretch/>
        </p:blipFill>
        <p:spPr>
          <a:xfrm>
            <a:off x="252360" y="549360"/>
            <a:ext cx="5111640" cy="5759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5435640" y="220500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不对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另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个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扯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到象耳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的盲人说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它像一把大蒲扇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u=124653289,1622983253&amp;fm=52&amp;gp=0[1]"/>
          <p:cNvPicPr/>
          <p:nvPr/>
        </p:nvPicPr>
        <p:blipFill>
          <a:blip r:embed="rId1"/>
          <a:stretch/>
        </p:blipFill>
        <p:spPr>
          <a:xfrm>
            <a:off x="252360" y="549360"/>
            <a:ext cx="5040360" cy="5759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823000" y="2031840"/>
            <a:ext cx="299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三个盲人摸到象腿，也嚷起来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你们都错了，它像个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柱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子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u=668099632,2774751507&amp;fm=51&amp;gp=0[1]"/>
          <p:cNvPicPr/>
          <p:nvPr/>
        </p:nvPicPr>
        <p:blipFill>
          <a:blip r:embed="rId1"/>
          <a:stretch/>
        </p:blipFill>
        <p:spPr>
          <a:xfrm>
            <a:off x="254160" y="549360"/>
            <a:ext cx="5038560" cy="5759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694480" y="1998720"/>
            <a:ext cx="291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不，不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四个盲人摸着象肚子说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明明是一堵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墙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嘛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u=1319114842,3690879448&amp;fm=15&amp;gp=0[1]"/>
          <p:cNvPicPr/>
          <p:nvPr/>
        </p:nvPicPr>
        <p:blipFill>
          <a:blip r:embed="rId1"/>
          <a:stretch/>
        </p:blipFill>
        <p:spPr>
          <a:xfrm>
            <a:off x="252360" y="549360"/>
            <a:ext cx="5040360" cy="5759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u=3722298363,3149165906&amp;fm=52&amp;gp=0[1]"/>
          <p:cNvPicPr/>
          <p:nvPr/>
        </p:nvPicPr>
        <p:blipFill>
          <a:blip r:embed="rId2"/>
          <a:stretch/>
        </p:blipFill>
        <p:spPr>
          <a:xfrm>
            <a:off x="2700360" y="1773360"/>
            <a:ext cx="1422360" cy="1214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724360" y="234936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最后一个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抓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到象尾巴的却说它像根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绳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7:06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4:31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