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type.wav" ContentType="audio/x-wav"/>
  <Override PartName="/ppt/media/image5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0F9C-C4FA-4CE2-A94A-477F2C9A6C6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3DB0-4FED-469F-9D0B-3CAD62044D5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965-786E-4582-9511-9925E4C3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E844-AC3F-4B14-915C-A58AFC61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906-21FB-4F53-A71D-C1312E29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065-545F-474D-9DB6-D56B5B68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9AB-457D-42A7-AB40-87E5DD79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0C0-FEBA-4171-B019-636C9A5A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9AD-CC86-4B78-83B0-3C61F21B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1B2-98E8-4A12-9682-9D64B6A7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A5A-F155-401C-A79B-47C9473E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4043-D972-475F-87AA-EA82CE47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CC2-0CA4-448F-91A7-72B942F6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99CE-9C86-4664-8774-7B15EB36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021"/>
          <p:cNvPicPr/>
          <p:nvPr/>
        </p:nvPicPr>
        <p:blipFill>
          <a:blip r:embed="rId2"/>
          <a:stretch/>
        </p:blipFill>
        <p:spPr>
          <a:xfrm>
            <a:off x="0" y="0"/>
            <a:ext cx="3467160" cy="12445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河山图标"/>
          <p:cNvPicPr/>
          <p:nvPr/>
        </p:nvPicPr>
        <p:blipFill>
          <a:blip r:embed="rId3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02"/>
          <p:cNvPicPr/>
          <p:nvPr/>
        </p:nvPicPr>
        <p:blipFill>
          <a:blip r:embed="rId4"/>
          <a:stretch/>
        </p:blipFill>
        <p:spPr>
          <a:xfrm>
            <a:off x="5194440" y="4102200"/>
            <a:ext cx="3949560" cy="275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A9A1-24CB-45F2-B225-D305496D51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牧童评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1899720" y="6021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欣赏动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3203640" y="2709720"/>
            <a:ext cx="977760" cy="486000"/>
          </a:xfrm>
          <a:prstGeom prst="rightArrow">
            <a:avLst>
              <a:gd name="adj1" fmla="val 50000"/>
              <a:gd name="adj2" fmla="val 502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注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0720"/>
            <a:ext cx="7772400" cy="30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士：有德有才而没有做官的读书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曝：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拊掌：拍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搐：抽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掉尾：翘起尾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谬：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然：认为是对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译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四川有个杜处士，喜爱书画，他所珍藏的书画有几百种。其中有一幅是戴嵩画的牛，尤其珍爱。他用锦缝制了画套，用玉做了画轴，经常随身带着。有一天，他摊开了书画晒太阳，有个牧童看见了戴嵩画的牛，拍手大笑着说：“这张画是画的斗牛啊！斗牛的力气用在角上，尾巴紧紧地夹在两腿中间。现在这幅画上的牛却是摇着尾巴在斗，错了！”杜处士笑笑，感到他说得很有道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牧童是个什么样的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善于观察，敢于挑战权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杜处士是个什么样的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虚心好学，乐于接受别人意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533520" y="609588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停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蜀中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杜处士，好书画，所宝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百数。有戴嵩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牛一轴，尤所爱，锦囊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玉轴，常以自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日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曝书画，有一牧童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见之，拊掌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大笑曰：“此画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斗牛也！牛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力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角，尾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搐入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两股间。今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乃掉尾而斗，谬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矣！”处士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笑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而然之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E6CD-50D3-4A7D-86A6-B6DE072955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BzJx"/>
          <p:cNvPicPr/>
          <p:nvPr/>
        </p:nvPicPr>
        <p:blipFill>
          <a:blip r:embed="rId1"/>
          <a:stretch/>
        </p:blipFill>
        <p:spPr>
          <a:xfrm>
            <a:off x="36360" y="-15840"/>
            <a:ext cx="907416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能掌握本课“蜀、嵩、轴、锦、囊、曝、乃、谬、矣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生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能读通、读顺课文，理解课文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能学习牧童善于观察、敢于挑战权威的精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6"/>
          <p:cNvSpPr/>
          <p:nvPr/>
        </p:nvSpPr>
        <p:spPr>
          <a:xfrm>
            <a:off x="1979640" y="321300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知识链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戴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唐朝一位著名的画家。他特别喜欢画牛，画的牛跟真的一样。所画的《斗牛图》、《三牛图》、《归牧图》等作品被视为绝世之作。特别是《斗牛图》传神生动，目前，被收藏在中国台北故宫博物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201103041507127957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38360" y="549360"/>
            <a:ext cx="21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三牛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20040108_771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519120" y="495360"/>
            <a:ext cx="261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归牧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thumbnail_400_400"/>
          <p:cNvPicPr/>
          <p:nvPr/>
        </p:nvPicPr>
        <p:blipFill>
          <a:blip r:embed="rId1"/>
          <a:stretch/>
        </p:blipFill>
        <p:spPr>
          <a:xfrm>
            <a:off x="0" y="1440"/>
            <a:ext cx="9180360" cy="6756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3513240" y="273060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斗牛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自主学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课文读通、读顺，遇到难读的词语或句子多读几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原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蜀中有杜处士，好书画，所宝以百数。有戴嵩牛一轴，尤所爱，锦囊玉轴，常以自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日曝书画，有一牧童见之，拊掌大笑曰：“此画斗牛也！牛斗力在角，尾搐入两股间。今乃掉尾而斗，谬矣！”处士笑而然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7T00:54:54Z</dcterms:modified>
  <cp:revision>1</cp:revision>
  <dc:subject/>
  <dc:title>牧童评画</dc:title>
</cp:coreProperties>
</file>