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11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40AC-606E-4D1C-A77C-9ED0F5CE6F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516D-3BF2-4531-BE2A-86B66CEB83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968-2C3D-40A4-A7E6-3D452F11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786-1321-4C49-91C2-6D047D43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9D0-387D-43DC-9C5D-629F3E58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A9E-B975-4548-A215-4F277E69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687-B8EB-48BC-ABBA-7397FB13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4F4-2ECF-4F33-8AE9-D0665E34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63F-6F1F-4629-B145-364B5C80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4E6-923B-45A9-BCD5-E73AC2D5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650-7026-4AC4-ACF2-6AB02813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819-A6B2-4F9D-BF8D-C8D6B197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6C2-0520-4571-8C4C-85BE58E6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70F-E9EB-4317-A025-9B7A0355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9558-27D3-483B-8D58-5035BAD9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067920" y="167652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族小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703520" y="6002280"/>
            <a:ext cx="5769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68760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学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44008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朋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>
            <a:off x="144792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4008600" y="1736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上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6021360" y="1736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问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6"/>
          <p:cNvSpPr/>
          <p:nvPr/>
        </p:nvSpPr>
        <p:spPr>
          <a:xfrm>
            <a:off x="3473280" y="1905120"/>
            <a:ext cx="381240" cy="3200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7"/>
          <p:cNvSpPr/>
          <p:nvPr/>
        </p:nvSpPr>
        <p:spPr>
          <a:xfrm>
            <a:off x="4876920" y="2057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3520" y="1050840"/>
            <a:ext cx="8076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们虽然穿戴不同，语言不同，但一来到学校，很快就成了朋友。他们一起向高高飘扬的国旗敬礼，向老师问好，向树上欢叫的小鸟问好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上课了，大家坐在教室里，跟着老师用普通话读课文，清亮的声音真好听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5181480" y="3581280"/>
            <a:ext cx="3124440" cy="914400"/>
          </a:xfrm>
          <a:prstGeom prst="wedgeRoundRectCallout">
            <a:avLst>
              <a:gd name="adj1" fmla="val 67124"/>
              <a:gd name="adj2" fmla="val -107814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些学生是怎样上课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1295280" y="304812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7696080" y="304812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609480" y="34290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8760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学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008600" y="1736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上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00860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上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021360" y="1736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问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0213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学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3473280" y="1905120"/>
            <a:ext cx="381240" cy="3200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44008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朋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144792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4876920" y="2057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4876920" y="3429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43080" y="1600200"/>
            <a:ext cx="8458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时候，外边十分安静。树枝不摇了，鸟儿不吵了，蝴蝶也停在花朵上，好像在听读书的声音。几只顽皮的小猴趴在窗台上，好奇地向教室里张望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1066680" y="205740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2057400" y="762120"/>
            <a:ext cx="4191120" cy="457200"/>
          </a:xfrm>
          <a:prstGeom prst="wedgeRoundRectCallout">
            <a:avLst>
              <a:gd name="adj1" fmla="val -38296"/>
              <a:gd name="adj2" fmla="val 135069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安静”和“十分安静”有什么不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685800" y="4191120"/>
            <a:ext cx="3657600" cy="761760"/>
          </a:xfrm>
          <a:prstGeom prst="wedgeRoundRectCallout">
            <a:avLst>
              <a:gd name="adj1" fmla="val -43750"/>
              <a:gd name="adj2" fmla="val 8208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从哪里可以看出外边十分安静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572000" y="2057400"/>
            <a:ext cx="4114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57200" y="2438280"/>
            <a:ext cx="2209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8760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学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008600" y="1736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上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0860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上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021360" y="1736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问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0213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学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3473280" y="1905120"/>
            <a:ext cx="381240" cy="3200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44008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朋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144792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71643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安静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4876920" y="2057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4876920" y="3429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914400" y="3886200"/>
            <a:ext cx="4114800" cy="1905120"/>
          </a:xfrm>
          <a:prstGeom prst="cloudCallout">
            <a:avLst>
              <a:gd name="adj1" fmla="val -49500"/>
              <a:gd name="adj2" fmla="val 72833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外面十分安静，教室里面怎么样呢？小猴会看到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04920" y="150804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下课了，小学生们蹦蹦跳跳来到大树下，有的跳舞，有的摔跤，还有的做游戏。孔雀、小鹿和小猴，都躲在一旁看热闹哩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990720" y="198108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2971800" y="23623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760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学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4008600" y="1736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上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00860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上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008600" y="4572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下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021360" y="1736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问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0213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学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021360" y="4572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游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473280" y="1905120"/>
            <a:ext cx="381240" cy="3200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44008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朋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144792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71643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安静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4876920" y="2057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4876920" y="3429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4876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304920" y="150804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下课了，小学生们蹦蹦跳跳来到大树下，有的跳舞，有的摔跤，还有的做游戏。孔雀、小鹿和小猴，都躲在一旁看热闹哩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1066680" y="1981080"/>
            <a:ext cx="7543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80880" y="236232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762120" y="3733920"/>
            <a:ext cx="754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下课了，小学生们蹦蹦跳跳来到大树下，有的跳舞，有的摔跤，还有的做游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09480" y="1523880"/>
            <a:ext cx="784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下课了，小学生们蹦蹦跳跳来到大树下，跳舞，摔跤，做游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14160" y="4572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较一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7315200" y="419112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1523880" y="45720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3124080" y="45720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2590920" y="5257800"/>
            <a:ext cx="3962160" cy="457200"/>
          </a:xfrm>
          <a:prstGeom prst="wedgeRectCallout">
            <a:avLst>
              <a:gd name="adj1" fmla="val -29449"/>
              <a:gd name="adj2" fmla="val -149652"/>
            </a:avLst>
          </a:prstGeom>
          <a:solidFill>
            <a:srgbClr val="ffaa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有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有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还有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课后"/>
          <p:cNvPicPr/>
          <p:nvPr/>
        </p:nvPicPr>
        <p:blipFill>
          <a:blip r:embed="rId1"/>
          <a:stretch/>
        </p:blipFill>
        <p:spPr>
          <a:xfrm>
            <a:off x="644400" y="1143000"/>
            <a:ext cx="7853400" cy="2814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671760" y="4861080"/>
            <a:ext cx="807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有的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有的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还有的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/>
          <p:cNvSpPr/>
          <p:nvPr/>
        </p:nvSpPr>
        <p:spPr>
          <a:xfrm>
            <a:off x="380880" y="457200"/>
            <a:ext cx="3353040" cy="1752480"/>
          </a:xfrm>
          <a:prstGeom prst="cloudCallout">
            <a:avLst>
              <a:gd name="adj1" fmla="val -43041"/>
              <a:gd name="adj2" fmla="val 8568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仔细看，图上画了谁？他们正准备去干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267080" y="1066680"/>
            <a:ext cx="3733920" cy="2362320"/>
          </a:xfrm>
          <a:prstGeom prst="cloudCallout">
            <a:avLst>
              <a:gd name="adj1" fmla="val 74870"/>
              <a:gd name="adj2" fmla="val 3850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朋友仔细看看，他们的穿着各不一样。为什么他们的穿戴各不一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04920" y="150804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下课了，小学生们蹦蹦跳跳来到大树下，有的跳舞，有的摔跤，还有的做游戏。孔雀、小鹿和小猴，都躲在一旁看热闹哩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380880" y="2743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8760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学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008600" y="1736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上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00860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上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4008600" y="4572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下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021360" y="1736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问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0213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学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021360" y="4572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游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473280" y="1905120"/>
            <a:ext cx="381240" cy="3200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44008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朋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44792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71643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安静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4360" y="45720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热闹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4876920" y="2057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4876920" y="3429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4876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685800" y="380880"/>
            <a:ext cx="3733920" cy="1676520"/>
          </a:xfrm>
          <a:prstGeom prst="cloudCallout">
            <a:avLst>
              <a:gd name="adj1" fmla="val -43750"/>
              <a:gd name="adj2" fmla="val 10274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想象：下课了，小学生们还可以能会干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2109600" y="380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会填（填一个字就能变出四个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beijing "/>
          <p:cNvPicPr/>
          <p:nvPr/>
        </p:nvPicPr>
        <p:blipFill>
          <a:blip r:embed="rId1"/>
          <a:stretch/>
        </p:blipFill>
        <p:spPr>
          <a:xfrm>
            <a:off x="91440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8" descr="beijing "/>
          <p:cNvPicPr/>
          <p:nvPr/>
        </p:nvPicPr>
        <p:blipFill>
          <a:blip r:embed="rId2"/>
          <a:stretch/>
        </p:blipFill>
        <p:spPr>
          <a:xfrm>
            <a:off x="5791320" y="2286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9"/>
          <p:cNvSpPr/>
          <p:nvPr/>
        </p:nvSpPr>
        <p:spPr>
          <a:xfrm>
            <a:off x="1824840" y="236232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1847160" y="387036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1108800" y="318456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2510640" y="318456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3"/>
          <p:cNvSpPr/>
          <p:nvPr/>
        </p:nvSpPr>
        <p:spPr>
          <a:xfrm>
            <a:off x="1728720" y="3124080"/>
            <a:ext cx="609840" cy="609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6725520" y="236232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6747840" y="387036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6009480" y="318456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7411320" y="318456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8"/>
          <p:cNvSpPr/>
          <p:nvPr/>
        </p:nvSpPr>
        <p:spPr>
          <a:xfrm>
            <a:off x="6629400" y="3124080"/>
            <a:ext cx="609480" cy="609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"/>
          <p:cNvSpPr/>
          <p:nvPr/>
        </p:nvSpPr>
        <p:spPr>
          <a:xfrm>
            <a:off x="1971720" y="5481720"/>
            <a:ext cx="61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674640" y="38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103480" y="173664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丽  盛开    很快  敬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103480" y="266688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凉  十分    安静  顽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154240" y="373392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奇  张望     蹦蹦跳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808200" y="1136520"/>
            <a:ext cx="7610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族  景  昌  戴  普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80880" y="743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111560" y="743040"/>
            <a:ext cx="9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chā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228000" y="7621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484280" y="3935520"/>
            <a:ext cx="6467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  蝴  蝶  躲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219320" y="35812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ō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210120" y="35053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228600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jǐ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116320" y="35053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6960240" y="35053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u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8119440" y="7621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ShockwaveFlash1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88" name="ShockwaveFlash2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89" name="ShockwaveFlash3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90" name="ShockwaveFlash4" descr=""/>
          <p:cNvPicPr/>
          <p:nvPr/>
        </p:nvPicPr>
        <p:blipFill>
          <a:blip r:embed="rId5"/>
          <a:stretch/>
        </p:blipFill>
        <p:spPr>
          <a:xfrm>
            <a:off x="6248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ShockwaveFlash5" descr=""/>
          <p:cNvPicPr/>
          <p:nvPr/>
        </p:nvPicPr>
        <p:blipFill>
          <a:blip r:embed="rId6"/>
          <a:stretch/>
        </p:blipFill>
        <p:spPr>
          <a:xfrm>
            <a:off x="8153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92" name="ShockwaveFlash6" descr=""/>
          <p:cNvPicPr/>
          <p:nvPr/>
        </p:nvPicPr>
        <p:blipFill>
          <a:blip r:embed="rId7"/>
          <a:stretch/>
        </p:blipFill>
        <p:spPr>
          <a:xfrm>
            <a:off x="13716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93" name="ShockwaveFlash7" descr=""/>
          <p:cNvPicPr/>
          <p:nvPr/>
        </p:nvPicPr>
        <p:blipFill>
          <a:blip r:embed="rId8"/>
          <a:stretch/>
        </p:blipFill>
        <p:spPr>
          <a:xfrm>
            <a:off x="32004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ShockwaveFlash8" descr=""/>
          <p:cNvPicPr/>
          <p:nvPr/>
        </p:nvPicPr>
        <p:blipFill>
          <a:blip r:embed="rId9"/>
          <a:stretch/>
        </p:blipFill>
        <p:spPr>
          <a:xfrm>
            <a:off x="51814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ShockwaveFlash9" descr=""/>
          <p:cNvPicPr/>
          <p:nvPr/>
        </p:nvPicPr>
        <p:blipFill>
          <a:blip r:embed="rId10"/>
          <a:stretch/>
        </p:blipFill>
        <p:spPr>
          <a:xfrm>
            <a:off x="7086600" y="51055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323280" y="304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云南省石林彝族自治县民族小学"/>
          <p:cNvPicPr/>
          <p:nvPr/>
        </p:nvPicPr>
        <p:blipFill>
          <a:blip r:embed="rId1"/>
          <a:stretch/>
        </p:blipFill>
        <p:spPr>
          <a:xfrm>
            <a:off x="5257800" y="1562040"/>
            <a:ext cx="2738520" cy="36957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3338640" y="58665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云南省石林彝族自治县民族小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xinsrc_704a747a2b2d43f6819d4057b3c6660c_HoYN5517"/>
          <p:cNvPicPr/>
          <p:nvPr/>
        </p:nvPicPr>
        <p:blipFill>
          <a:blip r:embed="rId2"/>
          <a:stretch/>
        </p:blipFill>
        <p:spPr>
          <a:xfrm>
            <a:off x="1447920" y="1625760"/>
            <a:ext cx="246528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3678120" y="60199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新疆民族学校学生在上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ls00300017"/>
          <p:cNvPicPr/>
          <p:nvPr/>
        </p:nvPicPr>
        <p:blipFill>
          <a:blip r:embed="rId1"/>
          <a:stretch/>
        </p:blipFill>
        <p:spPr>
          <a:xfrm>
            <a:off x="2576520" y="1143000"/>
            <a:ext cx="399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3186000" y="57902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广西融水苗族自治县融水镇民族小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00123f37b41e0b8c86f901"/>
          <p:cNvPicPr/>
          <p:nvPr/>
        </p:nvPicPr>
        <p:blipFill>
          <a:blip r:embed="rId1"/>
          <a:stretch/>
        </p:blipFill>
        <p:spPr>
          <a:xfrm>
            <a:off x="1781280" y="1143000"/>
            <a:ext cx="55814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53E7-E202-4A95-8A32-D9C3A244C2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"/>
          <p:cNvSpPr/>
          <p:nvPr/>
        </p:nvSpPr>
        <p:spPr>
          <a:xfrm>
            <a:off x="2057400" y="30351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1157444769"/>
          <p:cNvPicPr/>
          <p:nvPr/>
        </p:nvPicPr>
        <p:blipFill>
          <a:blip r:embed="rId1"/>
          <a:stretch/>
        </p:blipFill>
        <p:spPr>
          <a:xfrm>
            <a:off x="1257480" y="1600200"/>
            <a:ext cx="6591240" cy="3352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917520" y="525780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民族合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457200" y="198108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早晨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chén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，美丽的彩霞染红了天空。山花盛开的小路上，走来一群小学生，有白族的、景颇族的、阿昌族的，还有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hàn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族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933000" y="533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族小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533520" y="1050840"/>
            <a:ext cx="8076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们虽然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chuān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戴不同，语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yán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不同，但一来到学校，很快就成了朋友。他们一起向高高飘扬的国旗敬礼，向老师问好，向树上欢叫的小鸟问好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上课了，大家坐在教室里，跟着老师用普通话读课文，清亮的声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yīn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真好听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43080" y="1600200"/>
            <a:ext cx="8458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时候，外边十分安静。树枝不摇了，鸟儿不吵了，蝴蝶也停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tínɡ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在花朵上，好像在听读书的声音。几只顽皮的小猴趴在窗台上，好奇地向教室里张望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04920" y="150804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下课了，小学生们蹦蹦跳跳来到大树下，有的跳舞，有的摔跤，还有的做游戏。孔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kǒnɡ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雀、小鹿和小猴，都躲在一旁看热闹哩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7200" y="198108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早晨，美丽的彩霞染红了天空。山花盛开的小路上，走来一群小学生，有白族的、景颇族的、阿昌族的，还有汉族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933000" y="533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族小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4800600" y="3429000"/>
            <a:ext cx="3352680" cy="914400"/>
          </a:xfrm>
          <a:prstGeom prst="wedgeRoundRectCallout">
            <a:avLst>
              <a:gd name="adj1" fmla="val 70407"/>
              <a:gd name="adj2" fmla="val 93055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民族小学有哪些民族的学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3429000" y="28195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4800600" y="2819520"/>
            <a:ext cx="1066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6248520" y="281952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533520" y="32004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3520" y="1050840"/>
            <a:ext cx="8076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们虽然穿戴不同，语言不同，但一来到学校，很快就成了朋友。他们一起向高高飘扬的国旗敬礼，向老师问好，向树上欢叫的小鸟问好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上课了，大家坐在教室里，跟着老师用普通话读课文，清亮的声音真好听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>
            <a:off x="1828800" y="19051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990720" y="228600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4419720" y="22860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49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4:33Z</dcterms:modified>
  <cp:revision>20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