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A949-9F22-424E-B5AF-6BADFCA80C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E41-B30F-4C17-A0F1-A2E2939CDC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79B-F864-4C37-A9F2-893AD927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531-CAE3-49C0-AA4F-B1F07D5E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7A1-1C2B-4D8D-8D31-61255E13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549-6BE5-4C8F-AE7D-9D324B1F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0C2-569F-4018-A93C-8DF003CC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AAF-A82A-441D-8289-28E57AC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05F-B345-44BB-ABD1-C92C22B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042-97B9-4E10-8A0D-C183C6EF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28C9-A88E-4368-80BF-F4D12E8E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DCA-7DF1-40AD-89FD-8F3EB9D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269-3B9F-4449-82E0-EBF55E1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CB4-1896-4AAD-810D-8176A8DE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160-6FF5-4AB7-A88C-F5C7818CA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华文隶书"/>
                <a:ea typeface="华文隶书"/>
              </a:rPr>
              <a:t>聂耳与国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906200" y="5562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2"/>
          <p:cNvPicPr/>
          <p:nvPr/>
        </p:nvPicPr>
        <p:blipFill>
          <a:blip r:embed="rId1"/>
          <a:stretch/>
        </p:blipFill>
        <p:spPr>
          <a:xfrm>
            <a:off x="1022400" y="1314360"/>
            <a:ext cx="70992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066680" y="9907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检查自学效果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同桌互相测试对方对生字的认识情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重点词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聂耳   世纪   危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义勇军  情景    民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读课文，理解课文脉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图：你看懂了什么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说说课文分别讲了哪几个“镜头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精读课文，探究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导读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第一自然段主要写了什么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指导有感情地朗读课文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读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哪些词语最能代表聂耳的想法，行动和心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让我们随着音乐伴奏，一起来高唱国歌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中华人民共和国国歌 - 义勇军进行曲.mp3" descr="中华人民共和国国歌 - 义勇军进行曲"/>
          <p:cNvPicPr/>
          <p:nvPr/>
        </p:nvPicPr>
        <p:blipFill>
          <a:blip r:embed="rId1"/>
          <a:stretch/>
        </p:blipFill>
        <p:spPr>
          <a:xfrm>
            <a:off x="3352680" y="4952880"/>
            <a:ext cx="457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72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品读课文的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国歌的创作和谱曲成功以后，在祖国抗战时期起了什么作用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 背诵这一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总结全文，升华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读课文第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自然段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对这一段的内容有什么体会？有什么感想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我们要从小刻苦学习，长大报效祖国，让祖国更加富强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外作业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一个有关中华民族受苦受难，奋起反抗的历史故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后搜集聂耳的其他作品，大家一起来交流体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2130480" y="5743440"/>
            <a:ext cx="61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在中国现代音乐史上享有显赫声誉的聂耳，是位传奇般的人物。 聂耳原名聂守信，是云南玉溪人。他虽然出生于一个清寒的医家，却自幼爱好音乐，小小的年纪学会了演奏多种民族乐器，被人视为“神童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　　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0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，聂耳离开家乡来到上海，第二年就考入了黎锦晖领导下的“明月歌舞剧社”，任小提琴师。黎锦晖是位热心于儿童歌舞音乐和通俗歌舞音乐的音乐家。可是，在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1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“ 九一八”事变后民族存亡危机深重的时候，明月歌舞剧社却还在大演轻歌曼舞的节目。聂耳对此大为不满，在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2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的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月间，连续在报刊上发表文章，对当时的音乐界前辈黎锦晖进行批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　　聂耳在《中国歌舞短论》一文中尖锐的指出： “我们需要的不是软豆腐，而是真刀真枪的硬功夫！”他忠告黎锦晖说： “亲爱的创办歌舞的鼻祖哟，你不要以为你有反封建的意识便满足，你不听见在地球上，有着无穷的一群人在它周围呐喊、狂呼；你要向那群众深入，在这里面，你将有新鲜的材料，会创造出新鲜的艺术。喂，努力！那条才是时代的大路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743200" y="685440"/>
            <a:ext cx="5562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不久，聂耳毅然离开了明月剧社去北平，并加入了中国共产党，投身到左翼革命音乐队伍中去。此后，他积极参加左翼音乐、戏剧、电影等工作中去，开始了他一生中极为短暂，却极其辉煌的艺术创作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F200808221347401083442104"/>
          <p:cNvPicPr/>
          <p:nvPr/>
        </p:nvPicPr>
        <p:blipFill>
          <a:blip r:embed="rId1"/>
          <a:stretch/>
        </p:blipFill>
        <p:spPr>
          <a:xfrm>
            <a:off x="533520" y="76320"/>
            <a:ext cx="2236680" cy="3124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33520" y="3124080"/>
            <a:ext cx="830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从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933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月发表第一首作品《矿工歌》，到 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1935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月东渡日本，在不到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年的时间里，聂耳在中国现代乐坛上留下了令人难忘的印迹：创作了《码头工人歌》、《大路歌》、《开路先锋》、《卖报歌》、《毕业歌》、《新的女性》等鼓舞人心的群众歌曲和《梅娘曲》、《塞外村女》、《铁蹄下的歌女》等优美隽永的抒情歌曲。再加上他写的其他歌曲和他根据民间音乐整理改编的《金蛇狂舞》等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首器乐曲，共有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41</a:t>
            </a:r>
            <a:r>
              <a:rPr b="0" lang="zh-CN" sz="2400" spc="-1" strike="noStrike">
                <a:solidFill>
                  <a:srgbClr val="ff0066"/>
                </a:solidFill>
                <a:latin typeface="宋体"/>
              </a:rPr>
              <a:t>部作品。这突出的成绩令人叹服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风云儿女"/>
          <p:cNvPicPr/>
          <p:nvPr/>
        </p:nvPicPr>
        <p:blipFill>
          <a:blip r:embed="rId1"/>
          <a:stretch/>
        </p:blipFill>
        <p:spPr>
          <a:xfrm>
            <a:off x="228600" y="30492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6858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当夏衍正要拿给他这部电影的剧本，以便让他熟悉剧中的故事内容和思想情绪时，聂耳说他早已熟悉了剧本。为了证明这一点，他把田汉写的这首主题歌的歌词背了两遍，丝毫不差。这使夏衍大为惊奇，也对这位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22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岁的青年有了信心。于是，主题歌的谱曲任务就交给了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181480" y="1600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聂耳短暂创作中的辉煌顶点是《义勇军进行曲》。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1934</a:t>
            </a:r>
            <a:r>
              <a:rPr b="0" lang="zh-CN" sz="2000" spc="-1" strike="noStrike">
                <a:solidFill>
                  <a:srgbClr val="ff0066"/>
                </a:solidFill>
                <a:latin typeface="宋体"/>
              </a:rPr>
              <a:t>年，由夏衍编剧的电影《风云儿女》开始拍摄。在这部电影的结尾处，安排有一首主题歌。聂耳主动去找夏衍，表示他能写好这首主题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8288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生字，正确掌握生字的书写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课文的学习，激发热爱国歌、热爱祖国的思想感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352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《风云儿女》上映后，影片的主题歌《义勇军进行曲》给人们留下了深刻的印象。它表达了处在民族危机中的中华民族不屈的心声。为此很快就在中华大地上传唱开来。由于它在中国历史的这一特定时刻所产生过的巨大作用，在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49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被确定为代国歌，以后又被定为国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35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日，聂耳因赴苏联途经日本逗留时，在日本藤泽市鹄沼海滨游泳，不幸溺水逝世，终年仅为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岁。但他不朽的旋律，至今仍伴随着中华民族继续奋进不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D1FE-78EE-425A-AF28-CDF52C357C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创设情境，导入新课</a:t>
            </a:r>
            <a:br>
              <a:rPr sz="4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歌曲欣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你们知道这是什么歌吗？知道这首歌的含义吗？今天我们就来学习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《聂耳与国歌》，了解《义勇军进行曲》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国歌 - 义勇军进行曲.mp3" descr="国歌 - 义勇军进行曲"/>
          <p:cNvPicPr/>
          <p:nvPr/>
        </p:nvPicPr>
        <p:blipFill>
          <a:blip r:embed="rId1"/>
          <a:stretch/>
        </p:blipFill>
        <p:spPr>
          <a:xfrm>
            <a:off x="2895480" y="1981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89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48132214608_2"/>
          <p:cNvPicPr/>
          <p:nvPr/>
        </p:nvPicPr>
        <p:blipFill>
          <a:blip r:embed="rId2"/>
          <a:stretch/>
        </p:blipFill>
        <p:spPr>
          <a:xfrm>
            <a:off x="2362320" y="304920"/>
            <a:ext cx="4471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1690560" y="3657600"/>
            <a:ext cx="733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聂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原名聂守信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，云南玉溪人，出生于昆明。著名音乐家，中华人民共和国国歌《义勇军进行曲》的作曲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聂耳"/>
          <p:cNvPicPr/>
          <p:nvPr/>
        </p:nvPicPr>
        <p:blipFill>
          <a:blip r:embed="rId1"/>
          <a:stretch/>
        </p:blipFill>
        <p:spPr>
          <a:xfrm>
            <a:off x="914400" y="1066680"/>
            <a:ext cx="228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读课文，整体感知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读课文，要求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读准字音，认识新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理解相应生词，不理解的词语在边上做记号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通读课文，做到流利准确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纪     省     族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亡     危     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景     首     聂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烧     挥     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"/>
          <p:cNvPicPr/>
          <p:nvPr/>
        </p:nvPicPr>
        <p:blipFill>
          <a:blip r:embed="rId1"/>
          <a:stretch/>
        </p:blipFill>
        <p:spPr>
          <a:xfrm>
            <a:off x="1155600" y="895320"/>
            <a:ext cx="6832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1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2:12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5:34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