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4D9-A1A5-4852-AFD7-2968FC57B6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B7C-8592-4789-9C5F-A3DCBE090F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0E8-99CF-435A-84D2-BF560A0C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F0E-0B09-49EE-999E-7A6C95F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00D-8F3F-4468-BDA5-5653D560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23D-A281-4CB6-B7F3-CD9464EC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9E0-CCC2-4875-B708-A13A0929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E0D-73B5-4237-AE5F-81105178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27D-481E-41E0-8B45-7147A89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B6C-85E3-479F-B710-B611FE61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1E6-3382-4992-BE16-EEACD35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959-7FA9-4554-8C64-401E7C8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6E1-74B1-45E4-95DE-0FAAE748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C57-8B6F-48D1-81B5-CD74027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630-279E-44F1-B572-A5EF8D65E4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华文隶书"/>
                <a:ea typeface="华文隶书"/>
              </a:rPr>
              <a:t>聂耳与国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906200" y="5562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1022400" y="1314360"/>
            <a:ext cx="70992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检查自学效果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同桌互相测试对方对生字的认识情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重点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聂耳   世纪   危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义勇军  情景    民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读课文，理解课文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：你看懂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说说课文分别讲了哪几个“镜头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读课文，探究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读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第一自然段主要写了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指导有感情地朗读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读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哪些词语最能代表聂耳的想法，行动和心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让我们随着音乐伴奏，一起来高唱国歌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中华人民共和国国歌 - 义勇军进行曲.mp3" descr="中华人民共和国国歌 - 义勇军进行曲"/>
          <p:cNvPicPr/>
          <p:nvPr/>
        </p:nvPicPr>
        <p:blipFill>
          <a:blip r:embed="rId1"/>
          <a:stretch/>
        </p:blipFill>
        <p:spPr>
          <a:xfrm>
            <a:off x="3352680" y="495288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72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品读课文的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国歌的创作和谱曲成功以后，在祖国抗战时期起了什么作用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背诵这一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结全文，升华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课文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对这一段的内容有什么体会？有什么感想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我们要从小刻苦学习，长大报效祖国，让祖国更加富强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外作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一个有关中华民族受苦受难，奋起反抗的历史故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搜集聂耳的其他作品，大家一起来交流体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1593720" y="10065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在中国现代音乐史上享有显赫声誉的聂耳，是位传奇般的人物。 聂耳原名聂守信，是云南玉溪人。他虽然出生于一个清寒的医家，却自幼爱好音乐，小小的年纪学会了演奏多种民族乐器，被人视为“神童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　　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0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，聂耳离开家乡来到上海，第二年就考入了黎锦晖领导下的“明月歌舞剧社”，任小提琴师。黎锦晖是位热心于儿童歌舞音乐和通俗歌舞音乐的音乐家。可是，在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1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“ 九一八”事变后民族存亡危机深重的时候，明月歌舞剧社却还在大演轻歌曼舞的节目。聂耳对此大为不满，在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2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的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月间，连续在报刊上发表文章，对当时的音乐界前辈黎锦晖进行批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　　聂耳在《中国歌舞短论》一文中尖锐的指出： “我们需要的不是软豆腐，而是真刀真枪的硬功夫！”他忠告黎锦晖说： “亲爱的创办歌舞的鼻祖哟，你不要以为你有反封建的意识便满足，你不听见在地球上，有着无穷的一群人在它周围呐喊、狂呼；你要向那群众深入，在这里面，你将有新鲜的材料，会创造出新鲜的艺术。喂，努力！那条才是时代的大路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743200" y="6854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不久，聂耳毅然离开了明月剧社去北平，并加入了中国共产党，投身到左翼革命音乐队伍中去。此后，他积极参加左翼音乐、戏剧、电影等工作中去，开始了他一生中极为短暂，却极其辉煌的艺术创作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F200808221347401083442104"/>
          <p:cNvPicPr/>
          <p:nvPr/>
        </p:nvPicPr>
        <p:blipFill>
          <a:blip r:embed="rId1"/>
          <a:stretch/>
        </p:blipFill>
        <p:spPr>
          <a:xfrm>
            <a:off x="533520" y="76320"/>
            <a:ext cx="223668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33520" y="312408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从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933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月发表第一首作品《矿工歌》，到 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935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月东渡日本，在不到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的时间里，聂耳在中国现代乐坛上留下了令人难忘的印迹：创作了《码头工人歌》、《大路歌》、《开路先锋》、《卖报歌》、《毕业歌》、《新的女性》等鼓舞人心的群众歌曲和《梅娘曲》、《塞外村女》、《铁蹄下的歌女》等优美隽永的抒情歌曲。再加上他写的其他歌曲和他根据民间音乐整理改编的《金蛇狂舞》等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首器乐曲，共有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部作品。这突出的成绩令人叹服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风云儿女"/>
          <p:cNvPicPr/>
          <p:nvPr/>
        </p:nvPicPr>
        <p:blipFill>
          <a:blip r:embed="rId1"/>
          <a:stretch/>
        </p:blipFill>
        <p:spPr>
          <a:xfrm>
            <a:off x="228600" y="30492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6858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当夏衍正要拿给他这部电影的剧本，以便让他熟悉剧中的故事内容和思想情绪时，聂耳说他早已熟悉了剧本。为了证明这一点，他把田汉写的这首主题歌的歌词背了两遍，丝毫不差。这使夏衍大为惊奇，也对这位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22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岁的青年有了信心。于是，主题歌的谱曲任务就交给了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1814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聂耳短暂创作中的辉煌顶点是《义勇军进行曲》。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4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，由夏衍编剧的电影《风云儿女》开始拍摄。在这部电影的结尾处，安排有一首主题歌。聂耳主动去找夏衍，表示他能写好这首主题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生字，正确掌握生字的书写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课文的学习，激发热爱国歌、热爱祖国的思想感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352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《风云儿女》上映后，影片的主题歌《义勇军进行曲》给人们留下了深刻的印象。它表达了处在民族危机中的中华民族不屈的心声。为此很快就在中华大地上传唱开来。由于它在中国历史的这一特定时刻所产生过的巨大作用，在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49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被确定为代国歌，以后又被定为国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35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日，聂耳因赴苏联途经日本逗留时，在日本藤泽市鹄沼海滨游泳，不幸溺水逝世，终年仅为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岁。但他不朽的旋律，至今仍伴随着中华民族继续奋进不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CBCB-C1E4-435C-946D-D7EB9FE126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创设情境，导入新课</a:t>
            </a:r>
            <a:br>
              <a:rPr sz="4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歌曲欣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你们知道这是什么歌吗？知道这首歌的含义吗？今天我们就来学习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《聂耳与国歌》，了解《义勇军进行曲》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国歌 - 义勇军进行曲.mp3" descr="国歌 - 义勇军进行曲"/>
          <p:cNvPicPr/>
          <p:nvPr/>
        </p:nvPicPr>
        <p:blipFill>
          <a:blip r:embed="rId1"/>
          <a:stretch/>
        </p:blipFill>
        <p:spPr>
          <a:xfrm>
            <a:off x="2895480" y="1981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89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48132214608_2"/>
          <p:cNvPicPr/>
          <p:nvPr/>
        </p:nvPicPr>
        <p:blipFill>
          <a:blip r:embed="rId2"/>
          <a:stretch/>
        </p:blipFill>
        <p:spPr>
          <a:xfrm>
            <a:off x="2362320" y="304920"/>
            <a:ext cx="4471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690560" y="365760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聂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原名聂守信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，云南玉溪人，出生于昆明。著名音乐家，中华人民共和国国歌《义勇军进行曲》的作曲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聂耳"/>
          <p:cNvPicPr/>
          <p:nvPr/>
        </p:nvPicPr>
        <p:blipFill>
          <a:blip r:embed="rId1"/>
          <a:stretch/>
        </p:blipFill>
        <p:spPr>
          <a:xfrm>
            <a:off x="914400" y="106668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读课文，整体感知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读课文，要求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读准字音，认识新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理解相应生词，不理解的词语在边上做记号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通读课文，做到流利准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纪     省     族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亡     危     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景     首     聂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烧     挥     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1155600" y="895320"/>
            <a:ext cx="6832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2:12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3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