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7E8-54E2-4E20-9D48-F10E5F2E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3D33-8505-4883-A59F-B9FE60642F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69A-8A35-4028-8475-9294F3F2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1E4-7054-4A22-82B7-1C1CD034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646-C232-40AC-8638-A9280F2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62-7B09-4DF1-BBC3-8D3EA1B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F29-F9EA-45DB-89D9-D90E244A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ED6-F620-4CFA-97F8-E5DBDF60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30D-79FD-4D4A-9D2B-94CDD77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A47-172D-4B18-AC9A-11691BB7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5A0-FB15-4B5C-99BB-26A5A0E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CF7-96DF-443E-A23F-030D0D8D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33E-BB93-4C30-B4DF-D8CA3420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8BA-070C-47BE-BF2D-3CC2738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3B6-91B0-4B96-8F6A-1367B39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A46-199C-4992-AA15-467A5B1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4A55-378F-4C0F-B201-6119A21585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icture 54"/>
          <p:cNvSpPr/>
          <p:nvPr/>
        </p:nvSpPr>
        <p:spPr>
          <a:xfrm>
            <a:off x="0" y="0"/>
            <a:ext cx="918036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难忘的八个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2"/>
          <a:stretch/>
        </p:blipFill>
        <p:spPr>
          <a:xfrm>
            <a:off x="657360" y="423720"/>
            <a:ext cx="1116000" cy="5616720"/>
          </a:xfrm>
          <a:prstGeom prst="rect">
            <a:avLst/>
          </a:prstGeom>
          <a:ln w="0">
            <a:noFill/>
          </a:ln>
        </p:spPr>
      </p:pic>
      <p:pic>
        <p:nvPicPr>
          <p:cNvPr id="51" name="矩形 3" descr=""/>
          <p:cNvPicPr/>
          <p:nvPr/>
        </p:nvPicPr>
        <p:blipFill>
          <a:blip r:embed="rId3"/>
          <a:stretch/>
        </p:blipFill>
        <p:spPr>
          <a:xfrm>
            <a:off x="1865160" y="619596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169880" y="1989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我一跨进校门，同学们就开始嘲笑我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763640" y="2637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5435640" y="2708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826920" y="1341360"/>
            <a:ext cx="778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除了家里人以外，没人会喜欢我，更没人会疼爱我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19280" y="981000"/>
            <a:ext cx="84247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看她一眼，她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悄悄说句话，她都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当同学轻声谈笑一下，她又会以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79C76A6-2271-46DD-AB36-B34B6CCD17A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Administrator\Desktop\还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09480" y="990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i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敢肯定</a:t>
            </a:r>
            <a:r>
              <a:rPr b="1" i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i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除了家里人以外，没人会喜欢我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11280" y="2708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i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这句话抒发了一个残疾孩子自卑的心声。她孤独无助，对人生没有足够的信心，她比任何一个孩子都渴望爱和关怀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0089272149871512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33280" y="334800"/>
            <a:ext cx="8701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伦纳德老师是一个（    ）的老师。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66"/>
                </a:solidFill>
                <a:uFillTx/>
                <a:latin typeface="楷体_GB2312"/>
                <a:ea typeface="楷体_GB2312"/>
              </a:rPr>
              <a:t>胖胖、美丽、令人喜欢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从这句话中你体会到了什么？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136240" y="549360"/>
            <a:ext cx="456984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伦纳德老师胖胖的，很美，也很可爱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她有着金光闪闪的头发和一双黑黑的、笑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眯眯的眼睛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63528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99564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427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29272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5651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94836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7308720" y="1484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7667640" y="1484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205092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248436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91636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320364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363528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608472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6443640" y="242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687708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7740720" y="2421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>
            <a:off x="75564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1"/>
          <p:cNvSpPr/>
          <p:nvPr/>
        </p:nvSpPr>
        <p:spPr>
          <a:xfrm>
            <a:off x="118728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154764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005050105155374306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62120" y="1219320"/>
            <a:ext cx="7489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i="1" lang="zh-CN" sz="3200" spc="-1" strike="noStrike">
                <a:solidFill>
                  <a:srgbClr val="660033"/>
                </a:solidFill>
                <a:latin typeface="Arial"/>
              </a:rPr>
              <a:t>一个小女孩儿，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有着一副</a:t>
            </a:r>
            <a:r>
              <a:rPr b="1" i="1" lang="zh-CN" sz="3200" spc="-1" strike="noStrike">
                <a:solidFill>
                  <a:srgbClr val="4115e3"/>
                </a:solidFill>
                <a:latin typeface="Arial"/>
              </a:rPr>
              <a:t>畸形难看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的嘴唇，</a:t>
            </a:r>
            <a:r>
              <a:rPr b="1" i="1" lang="zh-CN" sz="3200" spc="-1" strike="noStrike">
                <a:solidFill>
                  <a:srgbClr val="4115e3"/>
                </a:solidFill>
                <a:latin typeface="Arial"/>
              </a:rPr>
              <a:t>弯曲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的鼻子，</a:t>
            </a:r>
            <a:r>
              <a:rPr b="1" i="1" lang="zh-CN" sz="3200" spc="-1" strike="noStrike">
                <a:solidFill>
                  <a:srgbClr val="4115e3"/>
                </a:solidFill>
                <a:latin typeface="Arial"/>
              </a:rPr>
              <a:t>倾斜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的牙齿，说起话来还结巴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55640" y="306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伦纳德老师</a:t>
            </a:r>
            <a:r>
              <a:rPr b="1" i="1" lang="zh-CN" sz="3200" spc="-1" strike="noStrike">
                <a:solidFill>
                  <a:srgbClr val="4115e3"/>
                </a:solidFill>
                <a:latin typeface="Times New Roman"/>
              </a:rPr>
              <a:t>胖胖的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很</a:t>
            </a:r>
            <a:r>
              <a:rPr b="1" i="1" lang="zh-CN" sz="3200" spc="-1" strike="noStrike">
                <a:solidFill>
                  <a:srgbClr val="4115e3"/>
                </a:solidFill>
                <a:latin typeface="Times New Roman"/>
              </a:rPr>
              <a:t>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也很</a:t>
            </a:r>
            <a:r>
              <a:rPr b="1" i="1" lang="zh-CN" sz="3200" spc="-1" strike="noStrike">
                <a:solidFill>
                  <a:srgbClr val="4115e3"/>
                </a:solidFill>
                <a:latin typeface="Times New Roman"/>
              </a:rPr>
              <a:t>可爱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。她有着</a:t>
            </a:r>
            <a:r>
              <a:rPr b="1" i="1" lang="zh-CN" sz="3200" spc="-1" strike="noStrike">
                <a:solidFill>
                  <a:srgbClr val="4115e3"/>
                </a:solidFill>
                <a:latin typeface="Times New Roman"/>
              </a:rPr>
              <a:t>金光闪闪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的头发和一双</a:t>
            </a:r>
            <a:r>
              <a:rPr b="1" i="1" lang="zh-CN" sz="3200" spc="-1" strike="noStrike">
                <a:solidFill>
                  <a:srgbClr val="4115e3"/>
                </a:solidFill>
                <a:latin typeface="Times New Roman"/>
              </a:rPr>
              <a:t>黑黑的、笑眯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的眼睛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14400" y="52578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14400" y="53341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抓住人物特点写人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2860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17880" y="2994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692080" y="2133720"/>
            <a:ext cx="335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每个孩子都喜欢她、敬慕她。但是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没有一个人    我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从这句话中你体会到了什么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64788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41160" y="306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爱她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355840" y="5578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627280" y="3068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比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71116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比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64680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71640" y="907920"/>
            <a:ext cx="300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学习提示：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92200" y="907920"/>
            <a:ext cx="57970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默读课文，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==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勾画出在这次耳语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测验中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是怎么做的，联系上下文体会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为什么要这样做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062080" y="771480"/>
            <a:ext cx="42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fd"/>
                </a:solidFill>
                <a:latin typeface="Arial"/>
                <a:ea typeface="楷体_GB2312"/>
              </a:rPr>
              <a:t>你的生活中会有令你难忘的东西，一次难忘的旅行，一个难忘的人，一本难忘的书。在你的生活中，你最难忘的是什么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803600" y="765000"/>
            <a:ext cx="55998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终于轮到我了，我把左耳对着伦纳德老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师，同时用右手紧紧捂住了右耳。然后，稍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稍把右手抬起一点儿，这样就可以听清老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的话了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706760" y="1268280"/>
            <a:ext cx="588600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我的左耳先天失聪，几乎听不见任何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声音，我不愿把这事说出来，因为我害怕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同学们会更加嘲笑我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9440302669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254160"/>
            <a:ext cx="892656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小女孩还有一个什么秘密？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左耳先天失聪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耳语测验时，用一个词来说明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当时的心情。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紧张、害怕、忐忑不安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3680" y="3807000"/>
            <a:ext cx="64166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2008121094048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57040" y="419040"/>
            <a:ext cx="80517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位痛苦的小女孩带着害怕的心情走上讲台时，她的耳边响起八个字，就是</a:t>
            </a:r>
            <a:r>
              <a:rPr b="1" lang="en-US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______</a:t>
            </a:r>
            <a:r>
              <a:rPr b="1" lang="zh-CN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★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位自卑的小女孩带着紧张的心情在猜测老师的问题时，她的耳边响起八个字，就是</a:t>
            </a:r>
            <a:r>
              <a:rPr b="1" lang="en-US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__________</a:t>
            </a:r>
            <a:r>
              <a:rPr b="1" lang="zh-CN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★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位陷入困境的小女孩带着忐忑不安的心情把右手抬起了一点儿，她的耳边响起了八个字，那就是</a:t>
            </a:r>
            <a:r>
              <a:rPr b="1" lang="en-US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______</a:t>
            </a:r>
            <a:r>
              <a:rPr b="1" lang="zh-CN" sz="1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愿你是我的女儿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为什么说这句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838080" y="17359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</a:t>
            </a:r>
            <a:r>
              <a:rPr b="1" i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我等待着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……</a:t>
            </a:r>
            <a:r>
              <a:rPr b="1" i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伦纳德老师说了八个字，这八个  字仿佛是一束温暖的阳光直射我的心田。这八个      字抚慰了我受伤的、幼小的心灵</a:t>
            </a:r>
            <a:r>
              <a:rPr b="1" i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r>
              <a:rPr b="1" i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改变了我对人生 的看法</a:t>
            </a:r>
            <a:r>
              <a:rPr b="1" i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r>
              <a:rPr b="1" i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令我终生难忘。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i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             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</a:t>
            </a:r>
            <a:r>
              <a:rPr b="1" i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这位胖胖的、很美、很可爱的老师轻轻说道：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35800" y="373320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我愿你是我的女儿！”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gif017"/>
          <p:cNvPicPr/>
          <p:nvPr/>
        </p:nvPicPr>
        <p:blipFill>
          <a:blip r:embed="rId1"/>
          <a:stretch/>
        </p:blipFill>
        <p:spPr>
          <a:xfrm>
            <a:off x="6019920" y="3809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f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/>
          <p:cNvSpPr/>
          <p:nvPr/>
        </p:nvSpPr>
        <p:spPr>
          <a:xfrm>
            <a:off x="1219320" y="380880"/>
            <a:ext cx="4724280" cy="1143000"/>
          </a:xfrm>
          <a:prstGeom prst="cloudCallout">
            <a:avLst>
              <a:gd name="adj1" fmla="val 34240"/>
              <a:gd name="adj2" fmla="val 66944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我愿你是我的女儿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206064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句话表面简单，如仔细分析，它却有丰富的内涵。里面包括了伦纳德老师对孩子的无比尊重和真切的关爱，这句话让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感到骄傲和幸福，也能让全班学生在老师的启发下，改变对一个残疾儿童的看法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01-03-001-0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486400"/>
            <a:ext cx="1181160" cy="9842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609480" y="11113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希望你是我女儿。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888920" y="1628640"/>
            <a:ext cx="56898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此以后，课堂上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在路上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过生日时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；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对待身边的弱小，她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09730212866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79280" y="5619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小女孩听了以后内心发生什么样的变化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仿宋_GB2312"/>
              </a:rPr>
              <a:t>自卑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仿宋_GB2312"/>
              </a:rPr>
              <a:t>→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仿宋_GB2312"/>
              </a:rPr>
              <a:t>自信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从那以后“我”是一个怎样的女孩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仿宋_GB2312"/>
              </a:rPr>
              <a:t>开朗、乐观、积极向上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436120" y="620640"/>
            <a:ext cx="45702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八个字仿佛是一束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暖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阳光直射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的心田。这八个字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抚慰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了我受伤的、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的心灵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改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了我对人生的看法，令我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终生难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4184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句话写出了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爱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真谛，爱像一束阳光温暖了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受伤自卑的心灵，唤起了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人生的信心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836640"/>
            <a:ext cx="83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年龄   嘲笑   厌恶   测验  畸形   倾斜</a:t>
            </a: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敬慕   测验   捂住   抚慰   伦纳德老师</a:t>
            </a: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01E863F-7B4B-4611-ABB5-D48935DF1DC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Administrator\Desktop\你.JPG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840A24A-39C8-4468-8B29-3A44235C570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我的成功是因为八个字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bbe0e3"/>
                </a:solidFill>
                <a:latin typeface="Arial"/>
                <a:ea typeface="黑体"/>
              </a:rPr>
              <a:t>我愿你是我的女儿”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62120" y="838080"/>
            <a:ext cx="738504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我愿你是我的女儿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伦纳德老师为什么对“我”说“我愿你是我的女儿”这句话？</a:t>
            </a:r>
            <a:br>
              <a:rPr sz="3200"/>
            </a:b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这八个字让“我”终生难忘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00ff"/>
                </a:solidFill>
                <a:latin typeface="Arial"/>
              </a:rPr>
              <a:t>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2495520" y="5403960"/>
            <a:ext cx="60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228600"/>
            <a:ext cx="73850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我愿你是我的女儿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伦纳德老师为什么对“我”说“我愿你是我的女儿”这句话？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因为伦纳德老师心中有爱，伦纳德老师像母亲一样对小女孩有充分的了解，又特别关爱她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这八个字让“我”终生难忘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cc00ff"/>
                </a:solidFill>
                <a:latin typeface="Arial"/>
              </a:rPr>
              <a:t>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这八个字仿佛是一束温暖的阳光直射我的心田。这八个 字抚慰了我受伤的、幼小的心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改变了我对人生 的看法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令我终生难忘。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0E116BF-EB1B-4C7A-94F6-1A28466D17F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4200" cy="71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36D7CE8-6371-4C1A-80B6-2B2A175C0D5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C:\Users\Administrator\Desktop\人.JPG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4360" y="620640"/>
            <a:ext cx="79930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我    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的生活中没有光明，我愿做你的眼睛；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不能表达你的心意，我愿成为你的声音；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你的世界里没有音韵，我愿走进你的心灵；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愿是一颗爱的种子，播种在你的心里。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4546-B63F-4D8C-AD8E-881C64D1FC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93209565789"/>
          <p:cNvPicPr/>
          <p:nvPr/>
        </p:nvPicPr>
        <p:blipFill>
          <a:blip r:embed="rId1"/>
          <a:stretch/>
        </p:blipFill>
        <p:spPr>
          <a:xfrm>
            <a:off x="0" y="0"/>
            <a:ext cx="9328320" cy="6996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071720" y="704880"/>
            <a:ext cx="71564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课文思考：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难忘的八个字是什么？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99cc00"/>
                </a:solidFill>
                <a:latin typeface="Arial"/>
                <a:ea typeface="楷体_GB2312"/>
              </a:rPr>
              <a:t>我愿你是我的女儿”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（诚恳、深情、关爱）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听了这句话你有什么感受？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131560" y="1474920"/>
            <a:ext cx="456984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八个字仿佛是一束温暖的阳光直射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的心田。这八个字抚慰了我受伤的、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的心灵，改变了我对人生的看法，令我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终生难忘。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47640" y="102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47800" y="2050920"/>
            <a:ext cx="80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一个（      ）的小女孩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令人厌恶、难看、说话结巴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2081160"/>
            <a:ext cx="76201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个小女孩儿，有着一副畸形难看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嘴唇，弯曲的鼻子，倾斜的牙齿，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话来还结巴。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300720" y="29415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7596360" y="29415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6732720" y="29415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7164360" y="29415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3059280" y="3733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00360" y="3733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5508720" y="3733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5148360" y="3733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3132000" y="4525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2771640" y="4525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47640" y="102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09640" y="1479600"/>
            <a:ext cx="8037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一个（      ）的小女孩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令人厌恶、难看、说话结巴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仿宋_GB2312"/>
              </a:rPr>
              <a:t>假如你是小女孩，你的心情怎样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66880" y="2030400"/>
            <a:ext cx="780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一个（    ）的小女孩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660066"/>
                </a:solidFill>
                <a:uFillTx/>
                <a:latin typeface="Arial"/>
              </a:rPr>
              <a:t>自卑、痛苦、烦恼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06Z</dcterms:modified>
  <cp:revision>1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