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A20E5-F31A-4A8E-A8E4-0E917FB4948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4.xml"/><Relationship Id="rId24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AE82-26F0-48F3-8499-6857652611D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53AF-07E6-43B8-9F21-85ACD76B5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6612B-774E-4222-B2D8-2E0060DBC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71097-2E65-4E63-9A53-1A662350D5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B58C-3768-40C1-96DA-0C9B9A61C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74B65-2324-42C7-895A-0DFF5219F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62D-15D9-4942-AFB0-979188A3E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E08D-1C01-4B08-A36E-E089107AD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15876-1C91-4540-B470-80B758E91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77CC-AA2A-4F20-A98F-30B81869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A070-3AF0-4D70-8BA0-84CD91AC4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E6889-1E0F-4E1E-921F-E9BB2A5FD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6E4C-A05B-445D-94DA-2BAB0D85D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3DBB-F277-4F5C-BEAF-AD9FE959C3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4071de188b56c40d35fa41b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304920" y="5587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ff"/>
                </a:solidFill>
                <a:latin typeface="华文中宋"/>
                <a:ea typeface="华文中宋"/>
              </a:rPr>
              <a:t>皮巧根桥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182700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11280" y="2349360"/>
            <a:ext cx="6624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小象伸直鼻子。小象冲着满是污泥的车身喷起了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）邻居们看到了这一家的变化。邻居们也开始粉刷房子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611280" y="476280"/>
            <a:ext cx="6148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4"/>
          <p:cNvSpPr/>
          <p:nvPr/>
        </p:nvSpPr>
        <p:spPr>
          <a:xfrm>
            <a:off x="2411280" y="1341360"/>
            <a:ext cx="5419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宋体"/>
              </a:rPr>
              <a:t>2.</a:t>
            </a:r>
            <a:r>
              <a:rPr b="1" lang="zh-CN" sz="4400" spc="-1" strike="noStrike">
                <a:solidFill>
                  <a:srgbClr val="333399"/>
                </a:solidFill>
                <a:latin typeface="宋体"/>
              </a:rPr>
              <a:t>把两个句子合并成一句话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2157480" y="5778360"/>
            <a:ext cx="592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13B72-E1CB-4319-BBE3-54A05697C5D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5"/>
          <p:cNvSpPr/>
          <p:nvPr/>
        </p:nvSpPr>
        <p:spPr>
          <a:xfrm>
            <a:off x="1295280" y="175248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陡    峭          湍  急       朽  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295280" y="99072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dǒu  qiào      tuān         xi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0"/>
          <p:cNvSpPr/>
          <p:nvPr/>
        </p:nvSpPr>
        <p:spPr>
          <a:xfrm>
            <a:off x="1219320" y="2819520"/>
            <a:ext cx="6933960" cy="253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谈论       绕道      砍掉        栏杆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混凝土     允许      笔直       主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1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来来往往   不声不响   不约而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51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770" fill="hold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</p:cBhvr>
                                      <p:from x="200000" y="450000"/>
                                      <p:to x="10000" y="10000"/>
                                    </p:animScale>
                                    <p:animScale>
                                      <p:cBhvr>
                                        <p:cTn id="8" dur="1230" fill="hold"/>
                                        <p:tgtEl>
                                          <p:spTgt spid="53"/>
                                        </p:tgtEl>
                                      </p:cBhvr>
                                      <p:from x="100000" y="100000"/>
                                      <p:to x="200000" y="450000"/>
                                    </p:animScale>
                                    <p:anim calcmode="lin" valueType="num" from="(#ppt_x)" to="(0.5)">
                                      <p:cBhvr additive="repl">
                                        <p:cTn id="9" dur="123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0.5)" to="(0.5)">
                                      <p:cBhvr additive="repl">
                                        <p:cTn id="10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#ppt_y)" to="(#ppt_y+0.4)">
                                      <p:cBhvr additive="repl">
                                        <p:cTn id="11" dur="123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 calcmode="lin" valueType="num" from="(#ppt_y)" to="(#ppt_y)">
                                      <p:cBhvr additive="repl">
                                        <p:cTn id="12" dur="770">
                                          <p:stCondLst>
                                            <p:cond delay="123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1219320" y="1981080"/>
            <a:ext cx="6933960" cy="22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ǎ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逮住）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á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便宜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逮                           便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8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ài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逮捕） 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iàn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方便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6"/>
          <p:cNvSpPr/>
          <p:nvPr/>
        </p:nvSpPr>
        <p:spPr>
          <a:xfrm>
            <a:off x="1752480" y="2362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7"/>
          <p:cNvSpPr/>
          <p:nvPr/>
        </p:nvSpPr>
        <p:spPr>
          <a:xfrm>
            <a:off x="5181480" y="228600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newsflash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8"/>
          <p:cNvSpPr/>
          <p:nvPr/>
        </p:nvSpPr>
        <p:spPr>
          <a:xfrm>
            <a:off x="250920" y="204156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未命名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Text Box 5"/>
          <p:cNvSpPr/>
          <p:nvPr/>
        </p:nvSpPr>
        <p:spPr>
          <a:xfrm>
            <a:off x="914400" y="1066680"/>
            <a:ext cx="594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思考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文写了谁的什么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990720" y="190512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课文记叙了皮巧根在爷爷的帮助下，砍倒一颗大柳树，在一条小河上造起一座木桥的事，表现了一个孩子虽然力量有限，却用爱心为人们架设起一座安全方便的桥，受到人们的爱戴和敬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cover dir="u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图片1c"/>
          <p:cNvPicPr/>
          <p:nvPr/>
        </p:nvPicPr>
        <p:blipFill>
          <a:blip r:embed="rId1"/>
          <a:stretch/>
        </p:blipFill>
        <p:spPr>
          <a:xfrm>
            <a:off x="0" y="112680"/>
            <a:ext cx="9144000" cy="674532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5"/>
          <p:cNvSpPr/>
          <p:nvPr/>
        </p:nvSpPr>
        <p:spPr>
          <a:xfrm>
            <a:off x="990720" y="914400"/>
            <a:ext cx="54100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可是，皮巧根没有谈论这些。他是个不声不响的孩子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       “</a:t>
            </a:r>
            <a:r>
              <a:rPr b="1" lang="zh-CN" sz="3200" spc="-1" strike="noStrike">
                <a:solidFill>
                  <a:srgbClr val="d60093"/>
                </a:solidFill>
                <a:latin typeface="Arial"/>
              </a:rPr>
              <a:t>不声不响”指不出声响，表明皮巧根是个不愿意显示自己的孩子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图片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609480" y="609480"/>
            <a:ext cx="85345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由读课文，想一想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皮巧根为什么要架桥？怎样架桥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990720" y="190512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为了能使同学们安全地走近路去上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838080" y="2514600"/>
            <a:ext cx="7391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Arial"/>
              </a:rPr>
              <a:t>         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在爷爷的帮助下经过磨偶斧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砍树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把大树架在河上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砍光柳枝</a:t>
            </a: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3300"/>
                </a:solidFill>
                <a:latin typeface="Arial"/>
              </a:rPr>
              <a:t>加上栏杆等工序，为人们造起了一座又方便、又安全的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pull dir="r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图片m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609480" y="685800"/>
            <a:ext cx="769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有了新桥，人们为什么还是那样喜欢叫“皮巧根桥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685800" y="1828800"/>
            <a:ext cx="7696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人们还是喜欢叫它的老名字“皮巧根桥”是因为人们不忘最初的皮巧根给大家带来的方便，也表现了人们对皮巧根的无限敬仰之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20080229_08ad45666a3166a9be46H1GrYGZb0t7a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Rectangle 3"/>
          <p:cNvSpPr/>
          <p:nvPr/>
        </p:nvSpPr>
        <p:spPr>
          <a:xfrm>
            <a:off x="380880" y="1768320"/>
            <a:ext cx="85345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作业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后阅读本文作者的小说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灰狼的故事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《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骆背熊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》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755640" y="1628640"/>
            <a:ext cx="7272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1258920" y="1125360"/>
            <a:ext cx="63374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4360" y="549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333399"/>
                </a:solidFill>
                <a:latin typeface="Arial"/>
              </a:rPr>
              <a:t>练习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436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填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皮巧根想在水小河上（         ）一座桥。（搭  塔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桥两边有漂亮的铁（         ）杆。  （栏  拦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inxing</cp:lastModifiedBy>
  <dcterms:modified xsi:type="dcterms:W3CDTF">2017-04-17T01:04:12Z</dcterms:modified>
  <cp:revision>1</cp:revision>
  <dc:subject/>
  <dc:title>幻灯片 1</dc:title>
</cp:coreProperties>
</file>