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1C71-CCDA-40F3-B3A8-76E510DA6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1DED-B24B-49F2-8716-EC6818E85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496-0B39-4362-9B2F-2434485A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BAC-E37A-439F-AE0F-C32F8C4B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B70-BAA7-4A5D-BE57-D49218BB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77B-7183-4813-AEDA-82653E38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FF3-7FAE-4417-A2E2-F48A4566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3C5-53DB-4949-A0C7-FB407EF6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D16-98BF-4409-A756-A1B1885A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063-5E54-4F2C-BF57-9008D8A7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740-0539-46FE-977E-A389E4AB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C31-A91F-473D-A4D6-BBA55488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A53-B48B-43F2-B88D-9EBDFC88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50C-F1BC-4305-87A8-E45214FC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8A2F-2E2C-4205-82F7-328E179A1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33680" y="2133720"/>
            <a:ext cx="5688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25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朋友之间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55640" y="981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湘教版 二年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4188800000[1]"/>
          <p:cNvPicPr/>
          <p:nvPr/>
        </p:nvPicPr>
        <p:blipFill>
          <a:blip r:embed="rId4"/>
          <a:stretch/>
        </p:blipFill>
        <p:spPr>
          <a:xfrm>
            <a:off x="5835600" y="3716280"/>
            <a:ext cx="2233800" cy="193212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1719000" y="57405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39640" y="404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11280" y="1052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学习第二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朋友之间插图1"/>
          <p:cNvPicPr/>
          <p:nvPr/>
        </p:nvPicPr>
        <p:blipFill>
          <a:blip r:embed="rId1"/>
          <a:stretch/>
        </p:blipFill>
        <p:spPr>
          <a:xfrm>
            <a:off x="4464000" y="4540320"/>
            <a:ext cx="4680000" cy="2317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611280" y="1557360"/>
            <a:ext cx="770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两个人都抢着吃小果子，说明两个朋友内心是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么想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39640" y="2852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极度干渴时，两个果子显得更加珍贵，多吃一口，就多一线生存的希望，多一份力量。他们都想把大果子让给对方，说明了两个朋友在艰苦的环境中心里想到的却是对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975240" y="112536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三自然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9640" y="404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11280" y="206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①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望着一行远去的脚印，他心里有点纳闷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纳闷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拖着沉重的脚步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为什么脚步是沉重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71640" y="1341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第四自然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9640" y="404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042920" y="220500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他看见朋友们手中握着的果子，比自己的更小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后面用省略号，省略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9640" y="2276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们一定能走出沙漠。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因为他们互相鼓励，互相关心，一心想着对方，所以一定会克服一切困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个好朋友能走出沙漠吗？为什么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你有好朋友吗？说说你的好朋友是谁？你为什么喜欢和他交朋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     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个好朋友在沙漠中行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个好朋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行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沙漠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建筑工人在风雪中奋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建筑工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奋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风雪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755640" y="3141720"/>
            <a:ext cx="6840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684360" y="5516640"/>
            <a:ext cx="6624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003640" y="3141720"/>
            <a:ext cx="144720" cy="287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500720" y="5516640"/>
            <a:ext cx="144360" cy="287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574560" y="1341360"/>
            <a:ext cx="856944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一、我会组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坚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(     )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量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(      )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持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(      )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扶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竖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(     )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里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(      )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待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(      )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夫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二、我会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尽头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(jìng  jìn )      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坚持（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hí  cí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）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重量（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liàng   niàng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332000" y="54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图片1"/>
          <p:cNvPicPr/>
          <p:nvPr/>
        </p:nvPicPr>
        <p:blipFill>
          <a:blip r:embed="rId1"/>
          <a:stretch/>
        </p:blipFill>
        <p:spPr>
          <a:xfrm>
            <a:off x="468360" y="404640"/>
            <a:ext cx="1000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332000" y="54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图片1"/>
          <p:cNvPicPr/>
          <p:nvPr/>
        </p:nvPicPr>
        <p:blipFill>
          <a:blip r:embed="rId1"/>
          <a:stretch/>
        </p:blipFill>
        <p:spPr>
          <a:xfrm>
            <a:off x="468360" y="404640"/>
            <a:ext cx="1000080" cy="7621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4360" y="9079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三、我会写类似的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例：迷迷糊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（         ）      （         ）         （         ）      （         ）          （         ）      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四、请收集、摘抄至少四条关于友谊的名言谚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F767-8DBE-458A-BEF0-E2556F02A1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68360" y="1125360"/>
            <a:ext cx="813600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，其中会写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漠、克、坚、尽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量、拖、持、扶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这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练习正确、流利地朗读课文，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体会朋友之间在艰苦的环境中互相帮助，互相关心的真挚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360" y="476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教学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892080" y="5978520"/>
            <a:ext cx="63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1700280"/>
            <a:ext cx="7956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沙漠  克服  坚强  尽力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力量  坚持  拖走  扶起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187280" y="1268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700360" y="134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43280" y="134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732720" y="134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042920" y="3789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276720" y="3789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716360" y="3789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659640" y="3789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539640" y="476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24000" y="1844640"/>
            <a:ext cx="856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威胁  鼓励  凭着  艰难 迈步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迷迷糊糊  晕倒  水洼  握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9640" y="476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11280" y="3645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140360" y="148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651640" y="3645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796000" y="148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916360" y="148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7308720" y="148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348000" y="357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7093080" y="3573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539640" y="141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649880" y="765000"/>
            <a:ext cx="58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扶起     晕倒     尽心    坚强     迈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717200" y="2133720"/>
            <a:ext cx="567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沙漠    拖走     凭着    水洼     力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645560" y="3573360"/>
            <a:ext cx="567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克服    坚持     握着    鼓励     沉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697760" y="494172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服    艰难     威胁     迷迷糊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9280" y="692280"/>
          <a:ext cx="1103400" cy="10951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</a:tblGrid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492360" y="692280"/>
          <a:ext cx="1103400" cy="10951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</a:tblGrid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43640" y="692280"/>
          <a:ext cx="1103400" cy="10951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</a:tblGrid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79280" y="2997360"/>
          <a:ext cx="1103400" cy="10951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</a:tblGrid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492360" y="2924280"/>
          <a:ext cx="1103400" cy="10951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</a:tblGrid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443640" y="2852640"/>
          <a:ext cx="1103400" cy="109548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</a:tblGrid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68360" y="4941720"/>
          <a:ext cx="1103400" cy="115236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</a:tblGrid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780000" y="5084640"/>
          <a:ext cx="1103040" cy="1095480"/>
        </p:xfrm>
        <a:graphic>
          <a:graphicData uri="http://schemas.openxmlformats.org/drawingml/2006/table">
            <a:tbl>
              <a:tblPr/>
              <a:tblGrid>
                <a:gridCol w="552240"/>
                <a:gridCol w="550800"/>
              </a:tblGrid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93"/>
          <p:cNvSpPr/>
          <p:nvPr/>
        </p:nvSpPr>
        <p:spPr>
          <a:xfrm>
            <a:off x="349560" y="620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4"/>
          <p:cNvSpPr/>
          <p:nvPr/>
        </p:nvSpPr>
        <p:spPr>
          <a:xfrm>
            <a:off x="3733920" y="620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5"/>
          <p:cNvSpPr/>
          <p:nvPr/>
        </p:nvSpPr>
        <p:spPr>
          <a:xfrm>
            <a:off x="6687720" y="620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6"/>
          <p:cNvSpPr/>
          <p:nvPr/>
        </p:nvSpPr>
        <p:spPr>
          <a:xfrm>
            <a:off x="420840" y="2997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7"/>
          <p:cNvSpPr/>
          <p:nvPr/>
        </p:nvSpPr>
        <p:spPr>
          <a:xfrm>
            <a:off x="3733920" y="2852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8"/>
          <p:cNvSpPr/>
          <p:nvPr/>
        </p:nvSpPr>
        <p:spPr>
          <a:xfrm>
            <a:off x="6650280" y="2855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9"/>
          <p:cNvSpPr/>
          <p:nvPr/>
        </p:nvSpPr>
        <p:spPr>
          <a:xfrm>
            <a:off x="709920" y="4869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0"/>
          <p:cNvSpPr/>
          <p:nvPr/>
        </p:nvSpPr>
        <p:spPr>
          <a:xfrm>
            <a:off x="3949920" y="5013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85760" y="108000"/>
            <a:ext cx="1089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0"/>
          <p:cNvSpPr/>
          <p:nvPr/>
        </p:nvSpPr>
        <p:spPr>
          <a:xfrm>
            <a:off x="3497400" y="108000"/>
            <a:ext cx="7142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1"/>
          <p:cNvSpPr/>
          <p:nvPr/>
        </p:nvSpPr>
        <p:spPr>
          <a:xfrm>
            <a:off x="6438960" y="108000"/>
            <a:ext cx="9842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2"/>
          <p:cNvSpPr/>
          <p:nvPr/>
        </p:nvSpPr>
        <p:spPr>
          <a:xfrm>
            <a:off x="179280" y="2413080"/>
            <a:ext cx="928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3"/>
          <p:cNvSpPr/>
          <p:nvPr/>
        </p:nvSpPr>
        <p:spPr>
          <a:xfrm>
            <a:off x="3457440" y="2290680"/>
            <a:ext cx="1214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4"/>
          <p:cNvSpPr/>
          <p:nvPr/>
        </p:nvSpPr>
        <p:spPr>
          <a:xfrm>
            <a:off x="6456240" y="2205000"/>
            <a:ext cx="855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5"/>
          <p:cNvSpPr/>
          <p:nvPr/>
        </p:nvSpPr>
        <p:spPr>
          <a:xfrm>
            <a:off x="755640" y="4292640"/>
            <a:ext cx="8571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6"/>
          <p:cNvSpPr/>
          <p:nvPr/>
        </p:nvSpPr>
        <p:spPr>
          <a:xfrm>
            <a:off x="3924360" y="4292640"/>
            <a:ext cx="855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6"/>
          <p:cNvSpPr/>
          <p:nvPr/>
        </p:nvSpPr>
        <p:spPr>
          <a:xfrm>
            <a:off x="145584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7"/>
          <p:cNvSpPr/>
          <p:nvPr/>
        </p:nvSpPr>
        <p:spPr>
          <a:xfrm>
            <a:off x="1432440" y="9079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冷漠  沙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漠视   大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8"/>
          <p:cNvSpPr/>
          <p:nvPr/>
        </p:nvSpPr>
        <p:spPr>
          <a:xfrm>
            <a:off x="4694400" y="9810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克服  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克星  休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9"/>
          <p:cNvSpPr/>
          <p:nvPr/>
        </p:nvSpPr>
        <p:spPr>
          <a:xfrm>
            <a:off x="7626600" y="10717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坚持  坚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坚固  坚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0"/>
          <p:cNvSpPr/>
          <p:nvPr/>
        </p:nvSpPr>
        <p:spPr>
          <a:xfrm>
            <a:off x="1481760" y="32846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尽心 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尽头  尽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1"/>
          <p:cNvSpPr/>
          <p:nvPr/>
        </p:nvSpPr>
        <p:spPr>
          <a:xfrm>
            <a:off x="4845600" y="33037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力量  重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数量  量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2"/>
          <p:cNvSpPr/>
          <p:nvPr/>
        </p:nvSpPr>
        <p:spPr>
          <a:xfrm>
            <a:off x="7725240" y="32320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保持  坚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维持  主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3"/>
          <p:cNvSpPr/>
          <p:nvPr/>
        </p:nvSpPr>
        <p:spPr>
          <a:xfrm>
            <a:off x="1694520" y="51577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拖鞋  拖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拖车  拖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4"/>
          <p:cNvSpPr/>
          <p:nvPr/>
        </p:nvSpPr>
        <p:spPr>
          <a:xfrm>
            <a:off x="5101200" y="51577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扶持  扶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扶起   扶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7"/>
          <p:cNvSpPr/>
          <p:nvPr/>
        </p:nvSpPr>
        <p:spPr>
          <a:xfrm>
            <a:off x="3529080" y="30621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539640" y="1341360"/>
            <a:ext cx="7488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阅读课文并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每个自然段分别讲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课文写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9640" y="404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初步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MCj04273570000[1]"/>
          <p:cNvPicPr/>
          <p:nvPr/>
        </p:nvPicPr>
        <p:blipFill>
          <a:blip r:embed="rId1"/>
          <a:stretch/>
        </p:blipFill>
        <p:spPr>
          <a:xfrm>
            <a:off x="6948360" y="3860640"/>
            <a:ext cx="13464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90792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第一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①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两个好朋友在沙漠中遇到了什么困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②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应该学习两个好朋友的什么好品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9640" y="404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MCj04271810000[1]"/>
          <p:cNvPicPr/>
          <p:nvPr/>
        </p:nvPicPr>
        <p:blipFill>
          <a:blip r:embed="rId1"/>
          <a:stretch/>
        </p:blipFill>
        <p:spPr>
          <a:xfrm>
            <a:off x="7740720" y="5459400"/>
            <a:ext cx="1403280" cy="1398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2673000" y="2781360"/>
            <a:ext cx="16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干渴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威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着他们的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39640" y="436572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他们互相鼓励，不怕困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意志坚强的好品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11280" y="981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二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39640" y="404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9640" y="2781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人看了，都坚持要对方摘大的，自己吃小的。争来争去，谁也没说服谁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11280" y="1557360"/>
            <a:ext cx="75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两个人看到树上的果子时，各是怎能样说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试着表演一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朋友之间插图1"/>
          <p:cNvPicPr/>
          <p:nvPr/>
        </p:nvPicPr>
        <p:blipFill>
          <a:blip r:embed="rId1"/>
          <a:stretch/>
        </p:blipFill>
        <p:spPr>
          <a:xfrm>
            <a:off x="4500720" y="3741840"/>
            <a:ext cx="46432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2:05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5:52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