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8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C545-D70C-401C-924A-27422D3281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79A-B03E-49CF-8769-4A243C7A88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9CA-4B90-42A8-87EA-0E077366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5B3-3E18-4873-AA98-5A312516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A5F-A241-4CAE-AD0C-474AAB74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69D-31F2-4FC3-931C-DB95E1F9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251-5175-45A6-BC97-807E3BBA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52E-5AD7-400F-AA99-81CA690F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6AC-DE1B-4101-B615-D92FC1CD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5A3-B142-404C-8546-E23F7FB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BC4-9885-42EC-9915-A000F5E2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6D5-6B03-419C-A875-4FE4800F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5A9-646C-4AE1-A37A-AA15B398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0FC-E07C-45BF-9EEC-8DA1D95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DA3A-35AE-4854-810A-6A389C8F1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9"/>
          <p:cNvSpPr txBox="1"/>
          <p:nvPr/>
        </p:nvSpPr>
        <p:spPr>
          <a:xfrm>
            <a:off x="4419720" y="765000"/>
            <a:ext cx="388620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清贫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5662440" y="312732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方志敏</a:t>
            </a:r>
            <a:endParaRPr b="1" lang="en-US" sz="24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7442280" y="4076640"/>
            <a:ext cx="1033560" cy="160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603840" y="4076640"/>
            <a:ext cx="1033560" cy="160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字新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5765760" y="4076640"/>
            <a:ext cx="1033560" cy="160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朗读课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4851360" y="4076640"/>
            <a:ext cx="1033560" cy="160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013280" y="4076640"/>
            <a:ext cx="1033560" cy="160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74472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图片 1" descr=""/>
          <p:cNvPicPr/>
          <p:nvPr/>
        </p:nvPicPr>
        <p:blipFill>
          <a:blip r:embed="rId4"/>
          <a:stretch/>
        </p:blipFill>
        <p:spPr>
          <a:xfrm>
            <a:off x="0" y="0"/>
            <a:ext cx="389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SC00009_199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643280" y="836640"/>
            <a:ext cx="4032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志敏以“清贫”生活为乐，无论革命事业处于何等困境，始终坚持信念，不彷徨、不动摇、不退缩的崇高气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859280" y="392040"/>
            <a:ext cx="42498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清贫”的生活对于革命者到底有什么意义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方志敏08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"/>
          <p:cNvSpPr/>
          <p:nvPr/>
        </p:nvSpPr>
        <p:spPr>
          <a:xfrm>
            <a:off x="853920" y="6067440"/>
            <a:ext cx="74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468360" y="404640"/>
            <a:ext cx="4392720" cy="192240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贫，洁白朴素的生活，正是我们革命者能够战胜许多困难的地方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940360" y="404640"/>
            <a:ext cx="2843280" cy="1434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清贫“是共产党员自觉的生活态度，是植根于革命者心底的勇往直前的精神力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200701292006462328"/>
          <p:cNvPicPr/>
          <p:nvPr/>
        </p:nvPicPr>
        <p:blipFill>
          <a:blip r:embed="rId1"/>
          <a:stretch/>
        </p:blipFill>
        <p:spPr>
          <a:xfrm>
            <a:off x="684360" y="3284640"/>
            <a:ext cx="4032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648320" y="4572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0880" y="304920"/>
            <a:ext cx="4572000" cy="62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方志敏同志诗一首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敌人只能砍下我们的头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决不能动摇我们的信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我们信仰的主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乃是宇宙的真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着共产主义牺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着苏维埃流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是我们十分情愿的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方志敏06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80880" y="304920"/>
            <a:ext cx="85345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可爱的中国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片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志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朋友！中国是生育我们的母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们觉得这位母亲可爱吗？我想你们是和我一样的见解，我觉得这位母亲是蛮可爱蛮可爱的。以言气候，中国处于温带，不十分热，也不十分冷，好象我们母亲的体温，不高不低，最适宜于孩儿们的依偎。以言国土，中国土地广大，纵横万数千里，好象我们的母亲是一个身体魁大，胸宽体阔的妇人，不象日本姑娘那样苗条瘦小。中国许多有名的崇山大岭，长江巨河，以及大小湖泊，岂不象征着我们的母亲丰满坚实的肥肤上的肉纹和肉窝？中国土地的生产力是无限的；地底蕴藏着未开发的宝藏也是无限的；废置而未曾利用起来的天然力，更是无限的；这又岂不象征着我们的母亲，保有着无穷的乳汁，无穷的力量，以养育她四万万的孩儿？我想世界上再没有比她养得更多的孩子的母亲吧。至于说到中国天然风景的美丽，我可以说，不但是雄巍的峨嵋，妩媚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179280" y="304920"/>
            <a:ext cx="8964720" cy="123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西湖，幽雅的雁荡，与夫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秀丽甲天下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的桂林山水，可以傲睨一世，令人称羡；其实中国是无地不美，到处皆景，自城市以至乡村，一山一水，一丘一壑，只要稍加修饰和培植，都可以成流连难舍的胜景；这好象我们的母亲，她是一个天资玉质的美人，她的身体的每一个部分，都有令人爱慕之美。中国海岸线之长而且弯曲，照现代艺术家说来，这象征我们母亲富有曲线美吧。咳！母亲！美丽的母亲，可爱的母亲，只因你受着人家的压榨和剥削，弄成贫穷已极；甚至不能买一件新好看的衣服，把你自己装饰起来；甚至不能买块香皂将你的全身洗擦洗擦，以致现出怪难看的一种憔悴和污秽不洁的形容来！啊！我们的母亲太可怜了，一个天生的丽人，现在却变成叫化的婆子！站在欧州，美州各位华贵的太太面前，固然是深愧不如，就是站在那日本小姑娘面前，也自惭形秽的很呢！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听着！朋友！母亲躲到一边去哭泣了，哭得伤心得很呀！她似乎在骂着：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难道我四万万的孩子，都是白生了吗？难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80880" y="533520"/>
            <a:ext cx="84582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们真象着了魔的狮子，一天到晚的睡不醒吗？难道他们不知道自己伟大的团结力量，去与残害母亲，剥削母亲的敌人斗争吗？难道他们不想将母亲从敌人手里救出来，把母亲也装饰起来，成为世界上一个最出色，最美丽，最令人尊敬的母亲吗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..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地球仪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172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F9CC-5F82-4F0D-8F88-EAF7873C2E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124000" y="127080"/>
            <a:ext cx="7020000" cy="239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志敏简介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志敏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），江西省弋阳人，中国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共产党的优秀党员，江西党组织的创始人之一，闽、浙、皖、赣革命根据地的创建者。他历任县委书记、特委书记、省委书记、军区司令员、红十军政委、闽浙赣省苏维埃政府主席，中华苏维埃政府中央主席团委员，党中央委员。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1934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年，红七军团和红十军团合编为北上抗日先遣队，方志敏任总司令。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1935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日，由于叛徒的出卖，他不幸被俘入狱，在狱中坚贞不屈，拒不投降。在敌人的监狱里，方志敏用敌人让他写“供词”的纸笔，在极端艰苦的条件下，写下了传世之作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清贫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可爱的中国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等，成为教育后代的生动教材 。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1935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日，方志敏在南昌英勇就义，时年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方志敏03"/>
          <p:cNvPicPr/>
          <p:nvPr/>
        </p:nvPicPr>
        <p:blipFill>
          <a:blip r:embed="rId2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地球仪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1880" y="6172200"/>
            <a:ext cx="32724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7164360" y="260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？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WordArt 5"/>
          <p:cNvSpPr txBox="1"/>
          <p:nvPr/>
        </p:nvSpPr>
        <p:spPr>
          <a:xfrm rot="5400000">
            <a:off x="395640" y="764280"/>
            <a:ext cx="3024000" cy="24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16200000"/>
                </a:gradFill>
                <a:latin typeface="宋体"/>
              </a:rPr>
              <a:t>清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16200000"/>
              </a:gradFill>
              <a:latin typeface="宋体"/>
              <a:ea typeface="宋体"/>
            </a:endParaRPr>
          </a:p>
        </p:txBody>
      </p:sp>
      <p:sp>
        <p:nvSpPr>
          <p:cNvPr id="62" name="WordArt 6"/>
          <p:cNvSpPr txBox="1"/>
          <p:nvPr/>
        </p:nvSpPr>
        <p:spPr>
          <a:xfrm rot="5400000">
            <a:off x="4031280" y="1521360"/>
            <a:ext cx="2879640" cy="251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162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贫</a:t>
            </a:r>
            <a:endParaRPr b="1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162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468360" y="3789360"/>
            <a:ext cx="2448000" cy="1873080"/>
          </a:xfrm>
          <a:prstGeom prst="cloudCallout">
            <a:avLst>
              <a:gd name="adj1" fmla="val 27300"/>
              <a:gd name="adj2" fmla="val -113560"/>
            </a:avLst>
          </a:prstGeom>
          <a:solidFill>
            <a:srgbClr val="ffccff">
              <a:alpha val="75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6227640" y="4653000"/>
            <a:ext cx="2448000" cy="1871640"/>
          </a:xfrm>
          <a:prstGeom prst="cloudCallout">
            <a:avLst>
              <a:gd name="adj1" fmla="val -72245"/>
              <a:gd name="adj2" fmla="val -107504"/>
            </a:avLst>
          </a:prstGeom>
          <a:solidFill>
            <a:srgbClr val="ffccff">
              <a:alpha val="75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042920" y="4005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隶书"/>
              </a:rPr>
              <a:t>清白清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659640" y="4941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隶书"/>
              </a:rPr>
              <a:t>贫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1979640" y="3357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自学提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989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自读课文，把课文读流利，画出不懂的地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抓住以下关键词，概括课文讲了一件什么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方志敏  敌人  一只时表   一支自来水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26"/>
          <p:cNvSpPr/>
          <p:nvPr/>
        </p:nvSpPr>
        <p:spPr>
          <a:xfrm>
            <a:off x="1391760" y="401760"/>
            <a:ext cx="65710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给下列划线字注音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奢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持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抛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深山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27"/>
          <p:cNvSpPr/>
          <p:nvPr/>
        </p:nvSpPr>
        <p:spPr>
          <a:xfrm>
            <a:off x="1493640" y="11430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hē ch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28"/>
          <p:cNvSpPr/>
          <p:nvPr/>
        </p:nvSpPr>
        <p:spPr>
          <a:xfrm>
            <a:off x="4572720" y="1066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9"/>
          <p:cNvSpPr/>
          <p:nvPr/>
        </p:nvSpPr>
        <p:spPr>
          <a:xfrm>
            <a:off x="6361200" y="10666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30"/>
          <p:cNvSpPr/>
          <p:nvPr/>
        </p:nvSpPr>
        <p:spPr>
          <a:xfrm>
            <a:off x="7621920" y="1066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ǒ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31"/>
          <p:cNvSpPr/>
          <p:nvPr/>
        </p:nvSpPr>
        <p:spPr>
          <a:xfrm>
            <a:off x="1830600" y="27432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hu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32"/>
          <p:cNvSpPr/>
          <p:nvPr/>
        </p:nvSpPr>
        <p:spPr>
          <a:xfrm>
            <a:off x="4420800" y="28195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33"/>
          <p:cNvSpPr/>
          <p:nvPr/>
        </p:nvSpPr>
        <p:spPr>
          <a:xfrm>
            <a:off x="68594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34"/>
          <p:cNvSpPr/>
          <p:nvPr/>
        </p:nvSpPr>
        <p:spPr>
          <a:xfrm>
            <a:off x="2364840" y="43434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35"/>
          <p:cNvSpPr/>
          <p:nvPr/>
        </p:nvSpPr>
        <p:spPr>
          <a:xfrm>
            <a:off x="4429440" y="43434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ě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6"/>
          <p:cNvSpPr/>
          <p:nvPr/>
        </p:nvSpPr>
        <p:spPr>
          <a:xfrm>
            <a:off x="6859800" y="4343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u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039" descr="地球仪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172200"/>
            <a:ext cx="403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方志敏05"/>
          <p:cNvPicPr/>
          <p:nvPr/>
        </p:nvPicPr>
        <p:blipFill>
          <a:blip r:embed="rId2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 rot="5400000">
            <a:off x="5714640" y="411480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分角色朗读</a:t>
            </a:r>
            <a:endParaRPr b="1" lang="en-US" sz="4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84" name="Picture 7" descr="地球仪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4520" y="6172200"/>
            <a:ext cx="403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8985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Object 6" descr=""/>
          <p:cNvPicPr/>
          <p:nvPr/>
        </p:nvPicPr>
        <p:blipFill>
          <a:blip r:embed="rId2"/>
          <a:stretch/>
        </p:blipFill>
        <p:spPr>
          <a:xfrm>
            <a:off x="6480" y="-23760"/>
            <a:ext cx="32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3505320" y="457200"/>
            <a:ext cx="5333760" cy="321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什么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？为什么他们满心希望能从方志敏身上搜出大洋来？为什么国民党士兵会认定方志敏有钱？两个士兵满心希望得到钱，他们是怎么做的？怎么说的？怎么想的？把相关的句子用横线划出。从中看出国民党士兵的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648320" y="4572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04920" y="228600"/>
            <a:ext cx="4495680" cy="23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志敏同志是如何面对国民党士兵的？把描写方志敏同志语言、动作的相关语句用横线划出。为什么方志敏同志说它是一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趣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？方志敏同志哪句话最令你感动？从中表现了方志敏同志怎样的高贵品质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11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026"/>
          <p:cNvSpPr/>
          <p:nvPr/>
        </p:nvSpPr>
        <p:spPr>
          <a:xfrm>
            <a:off x="8985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28"/>
          <p:cNvSpPr/>
          <p:nvPr/>
        </p:nvSpPr>
        <p:spPr>
          <a:xfrm>
            <a:off x="4284720" y="115920"/>
            <a:ext cx="4859280" cy="41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课文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小节对方志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家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的补叙有什么表达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方志敏同志为什么要坚持一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清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生活态度？他是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而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贫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29" descr="地球仪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019920"/>
            <a:ext cx="326880" cy="326880"/>
          </a:xfrm>
          <a:prstGeom prst="rect">
            <a:avLst/>
          </a:prstGeom>
          <a:ln w="0">
            <a:noFill/>
          </a:ln>
        </p:spPr>
      </p:pic>
      <p:pic>
        <p:nvPicPr>
          <p:cNvPr id="94" name="Object 1030" descr=""/>
          <p:cNvPicPr/>
          <p:nvPr/>
        </p:nvPicPr>
        <p:blipFill>
          <a:blip r:embed="rId4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06:01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53Z</dcterms:modified>
  <cp:revision>1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