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3DD-ED0A-47D3-9F5E-C32B1F4038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7159-A5BC-4BB3-881E-E2DE57DC2C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D2E-A538-44B0-822F-B9CEC96E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EE5-9F8D-420A-9331-46E1430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93A-8FEA-4CDE-BD32-96A0DB35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431-6332-436C-90EA-71B8EBB2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74F-BF1B-4E2B-AF40-7C3A522E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1DF-46B1-4F50-BFCF-080D7975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6D9-64E7-4B03-BC83-27451E39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235-C6D3-4E04-B318-6903AC4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269-CA1F-47D9-A001-04BA36C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575-1EF9-47DA-8A87-3812919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135-3884-4C53-8A86-C23F2DD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71E-4CE4-4A46-96A0-A0F8FC1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0F9-2AF5-48D0-914B-EFF34B6F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952560" y="3068640"/>
            <a:ext cx="442440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952560" y="1413000"/>
            <a:ext cx="719280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球王贝利的童年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878280" y="522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Cj04266870000[1]"/>
          <p:cNvPicPr/>
          <p:nvPr/>
        </p:nvPicPr>
        <p:blipFill>
          <a:blip r:embed="rId2"/>
          <a:stretch/>
        </p:blipFill>
        <p:spPr>
          <a:xfrm>
            <a:off x="5877000" y="3909960"/>
            <a:ext cx="2268360" cy="196704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180468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5640" y="1700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是由于贝利有了很多好朋友的帮助，所以他终于买了一个足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球，他们就自主地成立了球队，贝利被大家选为队长，从此以后，他们刻苦训练。因此，贝利就成了一代球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MCj04245740000[1]"/>
          <p:cNvPicPr/>
          <p:nvPr/>
        </p:nvPicPr>
        <p:blipFill>
          <a:blip r:embed="rId1"/>
          <a:stretch/>
        </p:blipFill>
        <p:spPr>
          <a:xfrm>
            <a:off x="6732720" y="429264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755640" y="2492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了课文，你觉得贝利是个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认为哪里最吸引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学生自由发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873080" y="5556240"/>
            <a:ext cx="53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826920" y="220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从课文中了解到了球王贝利小时候的故事，除此以外，同学们还收集了哪些球星的故事，大家一起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拓展学习"/>
          <p:cNvPicPr/>
          <p:nvPr/>
        </p:nvPicPr>
        <p:blipFill>
          <a:blip r:embed="rId1"/>
          <a:stretch/>
        </p:blipFill>
        <p:spPr>
          <a:xfrm>
            <a:off x="539640" y="1197000"/>
            <a:ext cx="2006640" cy="496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MCj00890340000[1]"/>
          <p:cNvPicPr/>
          <p:nvPr/>
        </p:nvPicPr>
        <p:blipFill>
          <a:blip r:embed="rId2"/>
          <a:stretch/>
        </p:blipFill>
        <p:spPr>
          <a:xfrm>
            <a:off x="6732720" y="4365720"/>
            <a:ext cx="17920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843280" y="2492280"/>
            <a:ext cx="293220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8" name="Picture 5" descr="MCj04294430000[1]"/>
          <p:cNvPicPr/>
          <p:nvPr/>
        </p:nvPicPr>
        <p:blipFill>
          <a:blip r:embed="rId1"/>
          <a:stretch/>
        </p:blipFill>
        <p:spPr>
          <a:xfrm>
            <a:off x="6732720" y="4292640"/>
            <a:ext cx="17967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DF50-74C7-474F-989B-9A793A9CA0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206064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课文１６个生字，会写８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学习与小组学习相结合学习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掌握学字方法中得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1520" y="98100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课文的生字，会写８个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朗读中体会球王贝利小时的志趣在你成长中起的作用，以及他所付出的努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1916280"/>
            <a:ext cx="7850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贝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生于巴西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加入了他效力终生的巴西桑托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俱乐部。在他辉煌的足球生涯中，共参加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比赛，射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球，代表巴西国家队出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在国际比赛中破门得分。他首次捧得世界杯时年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。此后他又三次出现在世界杯赛场上，帮助巴西队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两度夺魁。他至今仍保持着多项世界纪录，如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上演帽子戏法；在不少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场比赛中单场独中四元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贝利最终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，在一场有将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名记者出席的表演赛后，彻底地挂靴了。此后，他出演地多部好莱坞电影，创作过音乐，还担任过巴西体育部长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他被命名为“世纪运动员”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他名列拳王阿里之后，获“世纪体育家”大奖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340000" y="1341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球王贝利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476360" y="2637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           对           买        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9640" y="1197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47636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059280" y="227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43280" y="220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15636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47640" y="3716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059280" y="37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i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1692360" y="4292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童          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71640" y="24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读课文并想想：课文写了谁的什么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16000" y="234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贝利为了拥有一个足球，想了哪些办法？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7286760" y="495468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84360" y="2421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贝利的小伙伴，你打算帮他吗？怎么帮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42457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468360" y="1125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00000" y="2276640"/>
            <a:ext cx="734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时的小孩有没有零花钱？他们都是有钱人的孩子吗？你怎么知道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Cj04245720000[1]"/>
          <p:cNvPicPr/>
          <p:nvPr/>
        </p:nvPicPr>
        <p:blipFill>
          <a:blip r:embed="rId1"/>
          <a:stretch/>
        </p:blipFill>
        <p:spPr>
          <a:xfrm>
            <a:off x="6659640" y="4221000"/>
            <a:ext cx="18414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58:11Z</dcterms:modified>
  <cp:revision>1</cp:revision>
  <dc:subject/>
  <dc:title>幻灯片 1</dc:title>
</cp:coreProperties>
</file>