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DE7A-6ED3-44A6-8F01-E90B96F38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4B7E-888E-4080-8972-AE77BA018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406-4E25-4C65-906E-C6F2A173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3CC-00CD-406F-BE9D-2F3D5FA6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E5DC-A45F-4444-A190-18516703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B20-45EA-439C-9CDB-58698808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92C-40D4-4E81-B440-04C89EE8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BC2-8F64-4D03-A5BC-EBE603CE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B53-7B5B-4B04-B7C8-BCD43B6A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15A-CDC2-4629-8DC7-A315765C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7FE-3F44-4FAC-A41A-5F4012F0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57B-7688-447E-B691-F56FAD78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C1E-7E85-4B6C-8341-A00AA850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A5E-BDCE-4886-9F81-3EFA42D5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66E5-E3B3-4739-9892-1ED27C17A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贝利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523880" y="3284640"/>
            <a:ext cx="609624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华文中宋"/>
              </a:rPr>
              <a:t>球王贝利</a:t>
            </a:r>
            <a:endParaRPr b="1" lang="en-US" sz="1800" spc="1" strike="noStrike">
              <a:ln w="18360">
                <a:solidFill>
                  <a:srgbClr val="ffffff"/>
                </a:solidFill>
                <a:round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82700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Arial"/>
                <a:ea typeface="华文隶书"/>
              </a:rPr>
              <a:t>读读下列生字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5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干涸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祈祷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(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子     别墅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s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贫民窟       垃圾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铁锹          誉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5327ce161271053f972b43d9"/>
          <p:cNvPicPr/>
          <p:nvPr/>
        </p:nvPicPr>
        <p:blipFill>
          <a:blip r:embed="rId1"/>
          <a:stretch/>
        </p:blipFill>
        <p:spPr>
          <a:xfrm>
            <a:off x="6084720" y="3068640"/>
            <a:ext cx="2513160" cy="3133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7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13da615d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385200" y="1066680"/>
            <a:ext cx="13993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隶书"/>
              </a:rPr>
              <a:t>一代球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1300000057292123538401100231_s"/>
          <p:cNvPicPr/>
          <p:nvPr/>
        </p:nvPicPr>
        <p:blipFill>
          <a:blip r:embed="rId2"/>
          <a:stretch/>
        </p:blipFill>
        <p:spPr>
          <a:xfrm>
            <a:off x="2057400" y="228600"/>
            <a:ext cx="260820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贝利风采"/>
          <p:cNvPicPr/>
          <p:nvPr/>
        </p:nvPicPr>
        <p:blipFill>
          <a:blip r:embed="rId3"/>
          <a:stretch/>
        </p:blipFill>
        <p:spPr>
          <a:xfrm>
            <a:off x="5486400" y="304920"/>
            <a:ext cx="2689200" cy="3632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3340080" y="41137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课文，思考：写了贝利的哪几件事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362040" y="4724280"/>
            <a:ext cx="282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酷爱踢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得到足球  卖劲练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感动教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685800" y="11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全文分三部分（试着自己分段落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57200" y="25146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部分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部分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部分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0492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考：课文写了贝利的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全文分三部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部分：</a:t>
            </a:r>
            <a:r>
              <a:rPr b="1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写贝利从小喜欢踢足球，一位教练送给他一个足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0492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考：课文写了贝利的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3835440" y="1628640"/>
            <a:ext cx="4267080" cy="2514600"/>
          </a:xfrm>
          <a:prstGeom prst="cloudCallout">
            <a:avLst>
              <a:gd name="adj1" fmla="val -48884"/>
              <a:gd name="adj2" fmla="val 6212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同学们能找出相应的段落范围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全文分三部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部分：</a:t>
            </a:r>
            <a:r>
              <a:rPr b="1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教练被小男孩的真诚感动，让他到训练场参加训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0492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考：课文写了贝利的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851280" y="1700280"/>
            <a:ext cx="4267080" cy="2514600"/>
          </a:xfrm>
          <a:prstGeom prst="cloudCallout">
            <a:avLst>
              <a:gd name="adj1" fmla="val -48884"/>
              <a:gd name="adj2" fmla="val 6212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同学们能找出相应的段落范围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全文分三部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部分：</a:t>
            </a: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小男孩与巴西队球员一起捧回了世界杯足球赛金杯，他就是</a:t>
            </a:r>
            <a:r>
              <a:rPr b="0" lang="zh-CN" sz="4800" spc="-1" strike="noStrike">
                <a:solidFill>
                  <a:srgbClr val="9900cc"/>
                </a:solidFill>
                <a:latin typeface="宋体"/>
                <a:ea typeface="黑体"/>
              </a:rPr>
              <a:t>“</a:t>
            </a: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一代球王</a:t>
            </a:r>
            <a:r>
              <a:rPr b="0" lang="zh-CN" sz="4800" spc="-1" strike="noStrike">
                <a:solidFill>
                  <a:srgbClr val="9900cc"/>
                </a:solidFill>
                <a:latin typeface="宋体"/>
                <a:ea typeface="黑体"/>
              </a:rPr>
              <a:t>”</a:t>
            </a: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贝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0492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考：课文写了贝利的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3851280" y="1844640"/>
            <a:ext cx="4267080" cy="2514600"/>
          </a:xfrm>
          <a:prstGeom prst="cloudCallout">
            <a:avLst>
              <a:gd name="adj1" fmla="val -48884"/>
              <a:gd name="adj2" fmla="val 6212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同学们能找出相应的段落范围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716040" y="1192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全文分三部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66560" y="2205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部分：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写贝利从小喜欢踢足球，一位教练送给他一个足球。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部分：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教练被小男孩的真诚感动，让他到训练场参加训练。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部分：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男孩与巴西队球员一起捧回了世界杯足球赛金杯，他就是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代球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贝利。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0492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考：课文写了贝利的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ll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609480" y="16765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从哪些地方可以看出贝利酷爱踢球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找出课文用了几个“踢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酷爱踢球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657600" y="1905120"/>
            <a:ext cx="5181480" cy="1752480"/>
          </a:xfrm>
          <a:prstGeom prst="wedgeRectCallout">
            <a:avLst>
              <a:gd name="adj1" fmla="val -55574"/>
              <a:gd name="adj2" fmla="val -5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他非常喜欢踢足球，可是又买不起，于是就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他在院子里踢，在巷口踢，在能找到的任何一片空地上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525280" y="449568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301680" y="4648320"/>
            <a:ext cx="4846680" cy="2209680"/>
          </a:xfrm>
          <a:prstGeom prst="cloudCallout">
            <a:avLst>
              <a:gd name="adj1" fmla="val 57416"/>
              <a:gd name="adj2" fmla="val -4333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可以体会出贝利对足球的酷爱程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01300000162748121242138146855"/>
          <p:cNvPicPr/>
          <p:nvPr/>
        </p:nvPicPr>
        <p:blipFill>
          <a:blip r:embed="rId2"/>
          <a:stretch/>
        </p:blipFill>
        <p:spPr>
          <a:xfrm>
            <a:off x="7010280" y="4419720"/>
            <a:ext cx="157824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01640" y="1557000"/>
            <a:ext cx="768672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2626"/>
                </a:solidFill>
                <a:latin typeface="Arial"/>
              </a:rPr>
              <a:t>得到足球后的贝利，心情怎么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84360" y="689040"/>
            <a:ext cx="717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“得到足球，卖劲练球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115080" y="3141720"/>
            <a:ext cx="6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激动、高兴、欣喜万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5940360" y="4010040"/>
            <a:ext cx="457200" cy="1074600"/>
          </a:xfrm>
          <a:custGeom>
            <a:avLst/>
            <a:gdLst>
              <a:gd name="textAreaLeft" fmla="*/ 61200 w 457200"/>
              <a:gd name="textAreaRight" fmla="*/ 396000 w 457200"/>
              <a:gd name="textAreaTop" fmla="*/ 205560 h 1074600"/>
              <a:gd name="textAreaBottom" fmla="*/ 785160 h 10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73" stAng="-5400000" swAng="5400000"/>
                <a:lnTo>
                  <a:pt x="21600" y="11643"/>
                </a:lnTo>
                <a:arcTo wR="21600" hR="8273" stAng="0" swAng="2837838"/>
                <a:lnTo>
                  <a:pt x="7198" y="21127"/>
                </a:lnTo>
                <a:lnTo>
                  <a:pt x="0" y="18230"/>
                </a:lnTo>
                <a:lnTo>
                  <a:pt x="7198" y="14387"/>
                </a:lnTo>
                <a:lnTo>
                  <a:pt x="7198" y="16072"/>
                </a:lnTo>
                <a:arcTo wR="21600" hR="8273" stAng="2837838" swAng="-2564497"/>
                <a:lnTo>
                  <a:pt x="21147" y="9958"/>
                </a:lnTo>
                <a:arcTo wR="21600" hR="8273" stAng="-273341" swAng="-5126659"/>
                <a:close/>
              </a:path>
              <a:path fill="darkenLess" w="21600" h="21600">
                <a:moveTo>
                  <a:pt x="0" y="0"/>
                </a:moveTo>
                <a:arcTo wR="21600" hR="8273" stAng="-5400000" swAng="5400000"/>
                <a:lnTo>
                  <a:pt x="21600" y="11643"/>
                </a:lnTo>
                <a:arcTo wR="21600" hR="8273" stAng="0" swAng="-273341"/>
                <a:lnTo>
                  <a:pt x="21147" y="9958"/>
                </a:lnTo>
                <a:arcTo wR="21600" hR="8273" stAng="-273341" swAng="-512665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225600" y="45435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所以他就踢得更卖劲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01300000162748121224459727338"/>
          <p:cNvPicPr/>
          <p:nvPr/>
        </p:nvPicPr>
        <p:blipFill>
          <a:blip r:embed="rId1"/>
          <a:stretch/>
        </p:blipFill>
        <p:spPr>
          <a:xfrm>
            <a:off x="6516720" y="3014640"/>
            <a:ext cx="215748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0920" y="1197000"/>
            <a:ext cx="58323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他得到足球后，欣喜万分，于是他就踢得更卖劲了。从这，我们可以感受到小时侯的贝利就有一种什么样的品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4251960" y="5234040"/>
            <a:ext cx="7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勤奋刻苦、有韧劲、有恒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01300000162748121224459727338"/>
          <p:cNvPicPr/>
          <p:nvPr/>
        </p:nvPicPr>
        <p:blipFill>
          <a:blip r:embed="rId1"/>
          <a:stretch/>
        </p:blipFill>
        <p:spPr>
          <a:xfrm>
            <a:off x="6465960" y="836640"/>
            <a:ext cx="2157480" cy="323856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"/>
          <p:cNvSpPr/>
          <p:nvPr/>
        </p:nvSpPr>
        <p:spPr>
          <a:xfrm>
            <a:off x="1144440" y="6154560"/>
            <a:ext cx="53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xin_01307052310154373029829"/>
          <p:cNvPicPr/>
          <p:nvPr/>
        </p:nvPicPr>
        <p:blipFill>
          <a:blip r:embed="rId1"/>
          <a:stretch/>
        </p:blipFill>
        <p:spPr>
          <a:xfrm>
            <a:off x="609480" y="1773360"/>
            <a:ext cx="3299040" cy="441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329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ff0000"/>
                </a:solidFill>
                <a:latin typeface="Arial"/>
                <a:ea typeface="楷体_GB2312"/>
              </a:rPr>
              <a:t>魅力足球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995640" y="267516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在足球之国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巴西，流传着这样一句话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巴西人来说，不知道自己国家总统的名字是可能的，但是不知道贝利的名字是万万不可能的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。你知道这是怎么回事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304920" y="574560"/>
            <a:ext cx="82296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了这些可贵的精神品质，才为贝利今后成为球王打下了扎实的基础，但是，在他身上还有一种闪亮的品质，在发光，你知道是什么吗？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什么感动了教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是贝利的真诚待人和懂得感恩感动了教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0492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“感动教练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post-302383-1194338252"/>
          <p:cNvPicPr/>
          <p:nvPr/>
        </p:nvPicPr>
        <p:blipFill>
          <a:blip r:embed="rId2"/>
          <a:stretch/>
        </p:blipFill>
        <p:spPr>
          <a:xfrm>
            <a:off x="6084720" y="4819680"/>
            <a:ext cx="2845080" cy="185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post-302383-11943382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8472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9999"/>
                </a:solidFill>
                <a:latin typeface="Arial"/>
                <a:ea typeface="幼圆"/>
              </a:rPr>
              <a:t>贝利的人生真悟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48765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这就是球王贝利的品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个勤奋刻苦的人，一个真诚待人的人，一个会感恩的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xioniao"/>
          <p:cNvPicPr/>
          <p:nvPr/>
        </p:nvPicPr>
        <p:blipFill>
          <a:blip r:embed="rId2"/>
          <a:stretch/>
        </p:blipFill>
        <p:spPr>
          <a:xfrm>
            <a:off x="6705720" y="304920"/>
            <a:ext cx="2133360" cy="180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贝利3"/>
          <p:cNvPicPr/>
          <p:nvPr/>
        </p:nvPicPr>
        <p:blipFill>
          <a:blip r:embed="rId3"/>
          <a:stretch/>
        </p:blipFill>
        <p:spPr>
          <a:xfrm>
            <a:off x="7751880" y="4762440"/>
            <a:ext cx="139212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1"/>
                            </p:stCondLst>
                            <p:childTnLst>
                              <p:par>
                                <p:cTn id="1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贝利，已经是一位六十多岁的老人了，他把参加比赛获奖的奖金都捐给了巴西儿童少年基金会，直到今天他的名字依然那么响亮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man2-13"/>
          <p:cNvPicPr/>
          <p:nvPr/>
        </p:nvPicPr>
        <p:blipFill>
          <a:blip r:embed="rId1"/>
          <a:stretch/>
        </p:blipFill>
        <p:spPr>
          <a:xfrm>
            <a:off x="4181400" y="3386160"/>
            <a:ext cx="781200" cy="952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YW_TP_001"/>
          <p:cNvPicPr/>
          <p:nvPr/>
        </p:nvPicPr>
        <p:blipFill>
          <a:blip r:embed="rId2"/>
          <a:stretch/>
        </p:blipFill>
        <p:spPr>
          <a:xfrm>
            <a:off x="684360" y="2743200"/>
            <a:ext cx="3962160" cy="35812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/>
          <p:cNvSpPr/>
          <p:nvPr/>
        </p:nvSpPr>
        <p:spPr>
          <a:xfrm>
            <a:off x="3995640" y="2666880"/>
            <a:ext cx="4870440" cy="2362320"/>
          </a:xfrm>
          <a:prstGeom prst="cloudCallout">
            <a:avLst>
              <a:gd name="adj1" fmla="val -65921"/>
              <a:gd name="adj2" fmla="val 5315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为足球而生，就像贝多芬为音乐而生一样。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贝利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15560"/>
            <a:ext cx="54864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ff0000"/>
                </a:solidFill>
                <a:latin typeface="Arial"/>
                <a:ea typeface="幼圆"/>
              </a:rPr>
              <a:t>贝利的人生真悟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1915920"/>
            <a:ext cx="540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cc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幼圆"/>
                <a:ea typeface="幼圆"/>
              </a:rPr>
              <a:t>永远不满足，永远不停止前进的步伐。没有最好，只有更好。不要放松自己，因为我们应该明白，我们永远是在逆水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xioniao"/>
          <p:cNvPicPr/>
          <p:nvPr/>
        </p:nvPicPr>
        <p:blipFill>
          <a:blip r:embed="rId1"/>
          <a:stretch/>
        </p:blipFill>
        <p:spPr>
          <a:xfrm>
            <a:off x="6316560" y="542880"/>
            <a:ext cx="2000520" cy="1695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贝利3"/>
          <p:cNvPicPr/>
          <p:nvPr/>
        </p:nvPicPr>
        <p:blipFill>
          <a:blip r:embed="rId2"/>
          <a:stretch/>
        </p:blipFill>
        <p:spPr>
          <a:xfrm>
            <a:off x="6012000" y="2305080"/>
            <a:ext cx="2608200" cy="39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0D8D-C745-4BFB-A517-596A4BA7DB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C20100902140000484"/>
          <p:cNvPicPr/>
          <p:nvPr/>
        </p:nvPicPr>
        <p:blipFill>
          <a:blip r:embed="rId1"/>
          <a:stretch/>
        </p:blipFill>
        <p:spPr>
          <a:xfrm>
            <a:off x="6732720" y="3573360"/>
            <a:ext cx="1866600" cy="2637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611280" y="606600"/>
            <a:ext cx="631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贝利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年足球生涯中共参加过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00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多场比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射进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30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多个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被称为“球王”。他极善盘带和凌空射门，又能连过数人射门得分。一次曾连过９人后绕过守门员射门成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22440" y="69192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贝利这位集上帝恩赐的天赋和幸运于一身的足球天才，创造了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纪足球传奇的故事，他曾经三次举起了世界杯，并让金光闪耀的雷米特杯永远留在了巴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1f56948206f96583f703a629"/>
          <p:cNvPicPr/>
          <p:nvPr/>
        </p:nvPicPr>
        <p:blipFill>
          <a:blip r:embed="rId1"/>
          <a:stretch/>
        </p:blipFill>
        <p:spPr>
          <a:xfrm>
            <a:off x="4737240" y="3411360"/>
            <a:ext cx="2047680" cy="281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YW_TP_001"/>
          <p:cNvPicPr/>
          <p:nvPr/>
        </p:nvPicPr>
        <p:blipFill>
          <a:blip r:embed="rId2"/>
          <a:stretch/>
        </p:blipFill>
        <p:spPr>
          <a:xfrm>
            <a:off x="1258920" y="3797280"/>
            <a:ext cx="2666880" cy="24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7"/>
          <p:cNvSpPr/>
          <p:nvPr/>
        </p:nvSpPr>
        <p:spPr>
          <a:xfrm>
            <a:off x="4229280" y="2565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131120" y="981000"/>
            <a:ext cx="13993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隶书"/>
              </a:rPr>
              <a:t>一代球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1300000057292123538401100231_s"/>
          <p:cNvPicPr/>
          <p:nvPr/>
        </p:nvPicPr>
        <p:blipFill>
          <a:blip r:embed="rId1"/>
          <a:stretch/>
        </p:blipFill>
        <p:spPr>
          <a:xfrm>
            <a:off x="3271680" y="523800"/>
            <a:ext cx="2608560" cy="3481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贝利风采"/>
          <p:cNvPicPr/>
          <p:nvPr/>
        </p:nvPicPr>
        <p:blipFill>
          <a:blip r:embed="rId2"/>
          <a:stretch/>
        </p:blipFill>
        <p:spPr>
          <a:xfrm>
            <a:off x="5940360" y="523800"/>
            <a:ext cx="2689200" cy="3481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贝利4"/>
          <p:cNvPicPr/>
          <p:nvPr/>
        </p:nvPicPr>
        <p:blipFill>
          <a:blip r:embed="rId3"/>
          <a:stretch/>
        </p:blipFill>
        <p:spPr>
          <a:xfrm>
            <a:off x="3276720" y="4038480"/>
            <a:ext cx="3376440" cy="2256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球王贝利2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657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SC20100902140000484"/>
          <p:cNvPicPr/>
          <p:nvPr/>
        </p:nvPicPr>
        <p:blipFill>
          <a:blip r:embed="rId1"/>
          <a:stretch/>
        </p:blipFill>
        <p:spPr>
          <a:xfrm>
            <a:off x="2700360" y="549360"/>
            <a:ext cx="4046400" cy="5715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85800" y="396720"/>
            <a:ext cx="7772400" cy="6072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853920" y="62604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为什么被称为球王？他是怎么努力才成为球王的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828720" y="35917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因为这位</a:t>
            </a: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7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岁的男孩率领巴西人第一次捧回了世界杯足球赛的金杯，所以男孩的名字一下子传遍了世界，成了家喻户晓的人物，巴西人民为此自豪，后来，他还为巴西人再捧回两次金杯，连夺三连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7:51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8:06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