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8C9D-72A9-4D09-B4A2-534CA74A9AC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8709-5EC5-49BB-9663-CE830D6B8BF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4741-F43D-46EA-9536-E8345796F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E9AC-DAD4-46C1-BC5C-D4E91234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6187-321B-413B-BE5A-9258ACB96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6C75-FACA-4C57-B173-FE3D79159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5E2E-5666-4DBD-99CE-11E3192F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F475-5357-4161-8B38-60B54FF0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D4AF-A5D9-43FA-93E1-9876CA8D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A137-4F14-4D91-A833-A6114FE9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2B2D-01F5-445C-94C2-35726EB8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F76E-15F2-465A-82D3-A768B16E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A1B7-2D4A-441A-B87E-CB04F03C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274C-8559-4862-A057-3044ECD8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C1B1-988E-4EF3-AD48-FABEC7DE9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9"/>
          <p:cNvSpPr/>
          <p:nvPr/>
        </p:nvSpPr>
        <p:spPr>
          <a:xfrm>
            <a:off x="2089440" y="2276640"/>
            <a:ext cx="487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迷你简少儿"/>
                <a:ea typeface="迷你简少儿"/>
              </a:rPr>
              <a:t>巧 装 蛋 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11"/>
          <p:cNvSpPr txBox="1"/>
          <p:nvPr/>
        </p:nvSpPr>
        <p:spPr>
          <a:xfrm>
            <a:off x="684360" y="779400"/>
            <a:ext cx="446400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latin typeface="宋体"/>
              </a:rPr>
              <a:t>湘教版一年级语文下册</a:t>
            </a:r>
            <a:endParaRPr b="1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latin typeface="宋体"/>
              <a:ea typeface="宋体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906200" y="5877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田"/>
          <p:cNvPicPr/>
          <p:nvPr/>
        </p:nvPicPr>
        <p:blipFill>
          <a:blip r:embed="rId1"/>
          <a:stretch/>
        </p:blipFill>
        <p:spPr>
          <a:xfrm>
            <a:off x="1908000" y="1197000"/>
            <a:ext cx="5943600" cy="42670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1161360" y="1125360"/>
            <a:ext cx="683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263720" y="1700280"/>
            <a:ext cx="683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气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1066680" y="396252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1066680" y="28954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7164360" y="292428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7162920" y="396252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3720960" y="1052640"/>
            <a:ext cx="208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Times New Roman"/>
              </a:rPr>
              <a:t>久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田"/>
          <p:cNvPicPr/>
          <p:nvPr/>
        </p:nvPicPr>
        <p:blipFill>
          <a:blip r:embed="rId1"/>
          <a:stretch/>
        </p:blipFill>
        <p:spPr>
          <a:xfrm>
            <a:off x="1908000" y="1197000"/>
            <a:ext cx="5943600" cy="4267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1161360" y="1125360"/>
            <a:ext cx="683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7263720" y="1700280"/>
            <a:ext cx="683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气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1066680" y="396252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1066680" y="28954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7164360" y="292428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7162920" y="396252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3720960" y="1052640"/>
            <a:ext cx="208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Times New Roman"/>
              </a:rPr>
              <a:t>气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0" y="620640"/>
            <a:ext cx="4572000" cy="6237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4572000" y="620640"/>
            <a:ext cx="4572000" cy="6237360"/>
          </a:xfrm>
          <a:prstGeom prst="rect">
            <a:avLst/>
          </a:prstGeom>
          <a:ln w="0">
            <a:noFill/>
          </a:ln>
        </p:spPr>
      </p:pic>
      <p:sp>
        <p:nvSpPr>
          <p:cNvPr id="115" name="WordArt 6"/>
          <p:cNvSpPr txBox="1"/>
          <p:nvPr/>
        </p:nvSpPr>
        <p:spPr>
          <a:xfrm>
            <a:off x="3657600" y="921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课文欣赏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4971960" cy="5310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5508720" y="1844640"/>
            <a:ext cx="33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想一想，高尔基巧装蛋糕“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巧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”在哪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2436120" y="2060640"/>
            <a:ext cx="456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高尔基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将九块蛋糕分装在三个盒子里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把这三个盒子装进一个大盒子里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包扎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690920" y="4149720"/>
            <a:ext cx="542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6"/>
          <p:cNvSpPr txBox="1"/>
          <p:nvPr/>
        </p:nvSpPr>
        <p:spPr>
          <a:xfrm>
            <a:off x="3657600" y="765000"/>
            <a:ext cx="20667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理解句子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练一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4360" y="1125360"/>
            <a:ext cx="777240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加部首组成新字，再组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占（     ）（     ）  工（     ）（     ）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十（    ） （     ）  气（     ）（  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方（     ）（     ）  合（    ） 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写出量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（     ）顾客        一（     ） 蛋糕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（     ）盒子        一（     ）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（     ）纸            一（     ）书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（     ）笔            一（     ）课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想一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258920" y="2060640"/>
            <a:ext cx="6478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朋友，你能切三刀把这块蛋糕分七块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2700360" y="3357720"/>
            <a:ext cx="395928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2268360" y="1557360"/>
            <a:ext cx="460872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7" name="文本框 1"/>
          <p:cNvSpPr/>
          <p:nvPr/>
        </p:nvSpPr>
        <p:spPr>
          <a:xfrm>
            <a:off x="2370240" y="5456160"/>
            <a:ext cx="598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F61A-A02C-48BB-81D7-9FBA5FBC38E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4360" y="1773360"/>
            <a:ext cx="878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本课生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认识生字、书写生字，朗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理解课文内容，弄懂高尔基智慧的表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269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人物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042920" y="1483920"/>
            <a:ext cx="741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高尔基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868.3.28―1936.6.1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英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Gorky·Maksi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全名高尔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马克西姆，原名阿列克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马克西莫维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彼什科夫也叫斯克列夫茨基，前苏联伟大的无产阶级作家，列宁说他是“无产阶级艺术最伟大的代表者”，社会主义、现实主义文学奠基人，无产阶级革命文学导师，苏联文学的创始人。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86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日出生于俄国伏尔加河畔的下诺夫戈罗德城（今高尔基城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代表作品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母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还有自传体三部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童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人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我的大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567160" y="2160720"/>
            <a:ext cx="3812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奇怪   顾客   订做   为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包扎   仔细   检查   拎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满意   伙计   佩服   智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5"/>
          <p:cNvSpPr txBox="1"/>
          <p:nvPr/>
        </p:nvSpPr>
        <p:spPr>
          <a:xfrm>
            <a:off x="2685960" y="836640"/>
            <a:ext cx="3772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学习词语</a:t>
            </a:r>
            <a:endParaRPr b="1" lang="en-US" sz="18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田"/>
          <p:cNvPicPr/>
          <p:nvPr/>
        </p:nvPicPr>
        <p:blipFill>
          <a:blip r:embed="rId1"/>
          <a:stretch/>
        </p:blipFill>
        <p:spPr>
          <a:xfrm>
            <a:off x="1908000" y="1197000"/>
            <a:ext cx="5943600" cy="42670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1161360" y="1125360"/>
            <a:ext cx="683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7263720" y="1700280"/>
            <a:ext cx="683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气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"/>
          <p:cNvSpPr/>
          <p:nvPr/>
        </p:nvSpPr>
        <p:spPr>
          <a:xfrm>
            <a:off x="1066680" y="396252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1066680" y="28954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7164360" y="292428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8"/>
          <p:cNvSpPr/>
          <p:nvPr/>
        </p:nvSpPr>
        <p:spPr>
          <a:xfrm>
            <a:off x="7162920" y="396252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3720960" y="1052640"/>
            <a:ext cx="208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Times New Roman"/>
              </a:rPr>
              <a:t>店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田"/>
          <p:cNvPicPr/>
          <p:nvPr/>
        </p:nvPicPr>
        <p:blipFill>
          <a:blip r:embed="rId1"/>
          <a:stretch/>
        </p:blipFill>
        <p:spPr>
          <a:xfrm>
            <a:off x="1908000" y="1197000"/>
            <a:ext cx="5943600" cy="42670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1161360" y="1125360"/>
            <a:ext cx="683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7263720" y="1700280"/>
            <a:ext cx="683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气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1066680" y="396252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1066680" y="28954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7164360" y="292428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7162920" y="396252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3720960" y="1052640"/>
            <a:ext cx="208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Times New Roman"/>
              </a:rPr>
              <a:t>工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田"/>
          <p:cNvPicPr/>
          <p:nvPr/>
        </p:nvPicPr>
        <p:blipFill>
          <a:blip r:embed="rId1"/>
          <a:stretch/>
        </p:blipFill>
        <p:spPr>
          <a:xfrm>
            <a:off x="1908000" y="1197000"/>
            <a:ext cx="5943600" cy="42670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1161360" y="1125360"/>
            <a:ext cx="683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7263720" y="1700280"/>
            <a:ext cx="683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气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1066680" y="396252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6"/>
          <p:cNvSpPr/>
          <p:nvPr/>
        </p:nvSpPr>
        <p:spPr>
          <a:xfrm>
            <a:off x="1066680" y="28954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7"/>
          <p:cNvSpPr/>
          <p:nvPr/>
        </p:nvSpPr>
        <p:spPr>
          <a:xfrm>
            <a:off x="7164360" y="292428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7162920" y="396252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3720960" y="1052640"/>
            <a:ext cx="208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Times New Roman"/>
              </a:rPr>
              <a:t>计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田"/>
          <p:cNvPicPr/>
          <p:nvPr/>
        </p:nvPicPr>
        <p:blipFill>
          <a:blip r:embed="rId1"/>
          <a:stretch/>
        </p:blipFill>
        <p:spPr>
          <a:xfrm>
            <a:off x="1908000" y="1197000"/>
            <a:ext cx="5943600" cy="42670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1161360" y="1125360"/>
            <a:ext cx="683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7263720" y="1700280"/>
            <a:ext cx="683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气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1066680" y="396252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1066680" y="28954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7164360" y="292428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7162920" y="396252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3720960" y="1052640"/>
            <a:ext cx="208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Times New Roman"/>
              </a:rPr>
              <a:t>块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田"/>
          <p:cNvPicPr/>
          <p:nvPr/>
        </p:nvPicPr>
        <p:blipFill>
          <a:blip r:embed="rId1"/>
          <a:stretch/>
        </p:blipFill>
        <p:spPr>
          <a:xfrm>
            <a:off x="1908000" y="1197000"/>
            <a:ext cx="5943600" cy="42670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1161360" y="1125360"/>
            <a:ext cx="683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263720" y="1700280"/>
            <a:ext cx="683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气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1066680" y="396252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1066680" y="28954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"/>
          <p:cNvSpPr/>
          <p:nvPr/>
        </p:nvSpPr>
        <p:spPr>
          <a:xfrm>
            <a:off x="7164360" y="292428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7162920" y="396252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3720960" y="1052640"/>
            <a:ext cx="208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11:26:07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7T00:09:24Z</dcterms:modified>
  <cp:revision>3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