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click.wav" ContentType="audio/x-wav"/>
  <Override PartName="/ppt/media/type.wav" ContentType="audio/x-wav"/>
  <Override PartName="/ppt/media/image7.wmf" ContentType="image/x-wmf"/>
  <Override PartName="/ppt/media/image14.jpeg" ContentType="image/jpeg"/>
  <Override PartName="/ppt/media/image2.png" ContentType="image/png"/>
  <Override PartName="/ppt/media/image13.jpeg" ContentType="image/jpeg"/>
  <Override PartName="/ppt/media/image4.png" ContentType="image/png"/>
  <Override PartName="/ppt/media/image12.jpeg" ContentType="image/jpeg"/>
  <Override PartName="/ppt/media/image1.jpeg" ContentType="image/jpeg"/>
  <Override PartName="/ppt/media/image8.jpeg" ContentType="image/jpeg"/>
  <Override PartName="/ppt/media/image5.png" ContentType="image/png"/>
  <Override PartName="/ppt/media/image6.jpeg" ContentType="image/jpeg"/>
  <Override PartName="/ppt/media/image10.png" ContentType="image/png"/>
  <Override PartName="/ppt/media/image9.jpeg" ContentType="image/jpeg"/>
  <Override PartName="/ppt/media/image11.jpeg" ContentType="image/jpeg"/>
  <Override PartName="/ppt/media/chimes.wav" ContentType="audio/x-wav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9A3A-1A76-4236-8D8E-95F3966E03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C355-8AD7-4569-8D88-6B06BC332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30842-C156-48CB-BAD9-1DB0EA2556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E8A8-B764-4657-98AA-210475451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5119C-F59E-485D-AEA2-418A6B83B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B65C-4254-4D35-9F40-820BD5DAA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A4BBD-D382-4A52-A191-51C85AEA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55A3-22D6-4ED0-8B47-D32F4F2F9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4E740-4B74-4387-B2ED-EE43D6AA5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A2CA6-F8CC-4E88-8F17-7E35CAC52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EE55-A878-4932-9315-D052F5B9D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1FCF-00AB-46AA-B871-7257EA40C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6B2E-4E8F-4C26-9651-A0974629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967B-1EC7-45EE-AE87-D5AD54727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AFB1-5575-4F10-BC17-EB97673FB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70741-16E0-4E0E-B9EA-2EF5645304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file:///&#22825;&#31383;&#22791;&#35838;&#36164;&#26009;/&#38899;&#25928;%20&#30005;&#38378;&#38647;&#40483;&#22768;.mp3" TargetMode="Externa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audio" Target="../media/chimes.wav"/><Relationship Id="rId3" Type="http://schemas.openxmlformats.org/officeDocument/2006/relationships/audio" Target="../media/type.wav"/><Relationship Id="rId4" Type="http://schemas.openxmlformats.org/officeDocument/2006/relationships/audio" Target="../media/click.wav"/><Relationship Id="rId5" Type="http://schemas.openxmlformats.org/officeDocument/2006/relationships/audio" Target="../media/click.wav"/><Relationship Id="rId6" Type="http://schemas.openxmlformats.org/officeDocument/2006/relationships/audio" Target="../media/click.wav"/><Relationship Id="rId7" Type="http://schemas.openxmlformats.org/officeDocument/2006/relationships/audio" Target="../media/click.wav"/><Relationship Id="rId8" Type="http://schemas.openxmlformats.org/officeDocument/2006/relationships/audio" Target="../media/click.wav"/><Relationship Id="rId9" Type="http://schemas.openxmlformats.org/officeDocument/2006/relationships/audio" Target="../media/click.wav"/><Relationship Id="rId10" Type="http://schemas.openxmlformats.org/officeDocument/2006/relationships/audio" Target="../media/type.wav"/><Relationship Id="rId11" Type="http://schemas.openxmlformats.org/officeDocument/2006/relationships/audio" Target="../media/click.wav"/><Relationship Id="rId12" Type="http://schemas.openxmlformats.org/officeDocument/2006/relationships/audio" Target="../media/type.wav"/><Relationship Id="rId13" Type="http://schemas.openxmlformats.org/officeDocument/2006/relationships/audio" Target="../media/click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5.xml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990720" y="250920"/>
            <a:ext cx="73818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1" strike="noStrike">
                <a:ln w="12600">
                  <a:solidFill>
                    <a:srgbClr val="000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_GB2312"/>
              </a:rPr>
              <a:t>送报的少年</a:t>
            </a:r>
            <a:endParaRPr b="1" lang="en-US" sz="9600" spc="1" strike="noStrike">
              <a:ln w="12600">
                <a:solidFill>
                  <a:srgbClr val="000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6781680" y="2362320"/>
            <a:ext cx="26672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矩形 6" descr=""/>
          <p:cNvPicPr/>
          <p:nvPr/>
        </p:nvPicPr>
        <p:blipFill>
          <a:blip r:embed="rId4"/>
          <a:stretch/>
        </p:blipFill>
        <p:spPr>
          <a:xfrm>
            <a:off x="1889280" y="5943600"/>
            <a:ext cx="5670360" cy="4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266760" y="2425320"/>
            <a:ext cx="872496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一个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Arial"/>
                <a:ea typeface="楷体_GB2312"/>
                <a:hlinkClick r:id="rId2"/>
              </a:rPr>
              <a:t>大雨滂沱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日子，送报的少年头一次误点了。上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点半钟，才出现在我家门口。他浑身衣服湿透，胳膊肘上有一道摔伤的血痕，报纸也打湿了一角。他像一个做了错事的孩子，嗫嚅着说：“对不起，我摔了一跤，自行车不能骑了，报纸也弄湿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>
            <a:off x="5943600" y="2514600"/>
            <a:ext cx="25146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>
            <a:off x="457200" y="2971800"/>
            <a:ext cx="83818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"/>
          <p:cNvSpPr/>
          <p:nvPr/>
        </p:nvSpPr>
        <p:spPr>
          <a:xfrm>
            <a:off x="495360" y="3352680"/>
            <a:ext cx="83437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6"/>
          <p:cNvSpPr/>
          <p:nvPr/>
        </p:nvSpPr>
        <p:spPr>
          <a:xfrm>
            <a:off x="457200" y="3809880"/>
            <a:ext cx="64008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7"/>
          <p:cNvSpPr/>
          <p:nvPr/>
        </p:nvSpPr>
        <p:spPr>
          <a:xfrm>
            <a:off x="4800600" y="4876920"/>
            <a:ext cx="2590920" cy="457200"/>
          </a:xfrm>
          <a:prstGeom prst="wedgeRectCallout">
            <a:avLst>
              <a:gd name="adj1" fmla="val -50856"/>
              <a:gd name="adj2" fmla="val -20520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少年的诚实守信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000"/>
                            </p:stCondLst>
                            <p:childTnLst>
                              <p:par>
                                <p:cTn id="23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000"/>
                            </p:stCondLst>
                            <p:childTnLst>
                              <p:par>
                                <p:cTn id="2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343080" y="167652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转眼到了８月底，儿子接到大学的入学通知书，高高兴兴地清点行囊准备上学了。这天８点刚过，送报的少年准时出现在门口。他把报纸交给我后，笑吟吟地说：“万老师，从明天起，报纸还是由我爸爸送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随口问：“那你呢？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少年说：“我被北京大学录取了，明天去报到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343080" y="1561320"/>
            <a:ext cx="84582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惊讶得不知说什么好。那少年又补充道：“我爸摔伤了，身体刚刚康复，行动可能慢一点，以后若送迟了，您多包涵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少年深深地朝我鞠了一躬，便下楼去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关上门，一转身，看见儿子呆呆地站着，仿佛有了什么心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3"/>
          <p:cNvSpPr/>
          <p:nvPr/>
        </p:nvSpPr>
        <p:spPr>
          <a:xfrm>
            <a:off x="7848720" y="1371600"/>
            <a:ext cx="6858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4"/>
          <p:cNvSpPr/>
          <p:nvPr/>
        </p:nvSpPr>
        <p:spPr>
          <a:xfrm>
            <a:off x="457200" y="1828800"/>
            <a:ext cx="80773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"/>
          <p:cNvSpPr/>
          <p:nvPr/>
        </p:nvSpPr>
        <p:spPr>
          <a:xfrm>
            <a:off x="457200" y="2209680"/>
            <a:ext cx="34290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6"/>
          <p:cNvSpPr/>
          <p:nvPr/>
        </p:nvSpPr>
        <p:spPr>
          <a:xfrm>
            <a:off x="5029200" y="2933640"/>
            <a:ext cx="3886200" cy="1028880"/>
          </a:xfrm>
          <a:prstGeom prst="wedgeRectCallout">
            <a:avLst>
              <a:gd name="adj1" fmla="val -51268"/>
              <a:gd name="adj2" fmla="val -152930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少年的家庭经济状况不好，但他成熟、懂事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2000"/>
                            </p:stCondLst>
                            <p:childTnLst>
                              <p:par>
                                <p:cTn id="2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7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4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5" descr="c45c50fe21851ed3fc037fa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6"/>
          <p:cNvSpPr/>
          <p:nvPr/>
        </p:nvSpPr>
        <p:spPr>
          <a:xfrm>
            <a:off x="380880" y="1066680"/>
            <a:ext cx="4114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交流讨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儿子可能有些什么心事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4" descr="http_imgloadCAU1YZ2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WordArt 5"/>
          <p:cNvSpPr txBox="1"/>
          <p:nvPr/>
        </p:nvSpPr>
        <p:spPr>
          <a:xfrm>
            <a:off x="3962520" y="1219320"/>
            <a:ext cx="464796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ln w="0">
                  <a:noFill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楷体_GB2312"/>
              </a:rPr>
              <a:t>再见</a:t>
            </a:r>
            <a:endParaRPr b="1" lang="en-US" sz="9600" spc="-1" strike="noStrike">
              <a:ln w="0">
                <a:noFill/>
              </a:ln>
              <a:blipFill rotWithShape="0">
                <a:blip r:embed="rId3"/>
                <a:srcRect/>
                <a:tile tx="0" ty="0" sx="100000" sy="100000" algn="ctr"/>
              </a:blip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E33B0-CDEF-48B8-B51C-E8D913B0EF1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1B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09480" y="609480"/>
            <a:ext cx="32004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自学提示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读课文、认读生字、画出生词、联系上下文或借助工具书理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、标出自然段序号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1" descr="图片88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9"/>
          <p:cNvSpPr/>
          <p:nvPr/>
        </p:nvSpPr>
        <p:spPr>
          <a:xfrm>
            <a:off x="4284720" y="692280"/>
            <a:ext cx="4032360" cy="792000"/>
          </a:xfrm>
          <a:prstGeom prst="cloudCallout">
            <a:avLst>
              <a:gd name="adj1" fmla="val -42245"/>
              <a:gd name="adj2" fmla="val 185671"/>
            </a:avLst>
          </a:prstGeom>
          <a:solidFill>
            <a:srgbClr val="ffccff"/>
          </a:solidFill>
          <a:ln w="38160">
            <a:solidFill>
              <a:srgbClr val="9900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生字学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1492200" y="3133800"/>
            <a:ext cx="62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捷     聊      腼      腆      鞠      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566000" y="2341440"/>
            <a:ext cx="58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i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2429280" y="2341440"/>
            <a:ext cx="81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liá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3354480" y="2341440"/>
            <a:ext cx="106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m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4578840" y="2341440"/>
            <a:ext cx="83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tiǎ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1"/>
          <p:cNvSpPr/>
          <p:nvPr/>
        </p:nvSpPr>
        <p:spPr>
          <a:xfrm>
            <a:off x="5811840" y="234144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j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6676920" y="2341440"/>
            <a:ext cx="11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gō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3"/>
          <p:cNvSpPr/>
          <p:nvPr/>
        </p:nvSpPr>
        <p:spPr>
          <a:xfrm>
            <a:off x="1440360" y="4141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敏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捷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4"/>
          <p:cNvSpPr/>
          <p:nvPr/>
        </p:nvSpPr>
        <p:spPr>
          <a:xfrm>
            <a:off x="2520000" y="414180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聊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闲聊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5"/>
          <p:cNvSpPr/>
          <p:nvPr/>
        </p:nvSpPr>
        <p:spPr>
          <a:xfrm>
            <a:off x="3528000" y="414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腼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6"/>
          <p:cNvSpPr/>
          <p:nvPr/>
        </p:nvSpPr>
        <p:spPr>
          <a:xfrm>
            <a:off x="4568760" y="4218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7"/>
          <p:cNvSpPr/>
          <p:nvPr/>
        </p:nvSpPr>
        <p:spPr>
          <a:xfrm>
            <a:off x="4443480" y="4141800"/>
            <a:ext cx="108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腆着肚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8"/>
          <p:cNvSpPr/>
          <p:nvPr/>
        </p:nvSpPr>
        <p:spPr>
          <a:xfrm>
            <a:off x="5760000" y="4141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鞠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9"/>
          <p:cNvSpPr/>
          <p:nvPr/>
        </p:nvSpPr>
        <p:spPr>
          <a:xfrm>
            <a:off x="6891840" y="410832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躬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</a:rPr>
              <a:t>躬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9"/>
          <p:cNvSpPr/>
          <p:nvPr/>
        </p:nvSpPr>
        <p:spPr>
          <a:xfrm>
            <a:off x="1371600" y="3048120"/>
            <a:ext cx="735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42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7" descr="复件 读一读"/>
          <p:cNvPicPr/>
          <p:nvPr/>
        </p:nvPicPr>
        <p:blipFill>
          <a:blip r:embed="rId2"/>
          <a:stretch/>
        </p:blipFill>
        <p:spPr>
          <a:xfrm>
            <a:off x="1006560" y="1436760"/>
            <a:ext cx="2270160" cy="20066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6"/>
          <p:cNvSpPr/>
          <p:nvPr/>
        </p:nvSpPr>
        <p:spPr>
          <a:xfrm>
            <a:off x="2835360" y="3443400"/>
            <a:ext cx="5184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暑假   轻捷   虚掩   礼貌   闲聊   台阶   湿透   清亮   腼腆   莫名   蜷缩   啜饮   志气   晨光   不屑   硕士   博士   滂沱   血痕   嗫嚅   行囊   包涵   鞠躬   骄阳似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笑吟吟     大汗淋漓      穿街过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0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200991420204782558"/>
          <p:cNvPicPr/>
          <p:nvPr/>
        </p:nvPicPr>
        <p:blipFill>
          <a:blip r:embed="rId1">
            <a:lum bright="3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Rectangle 3"/>
          <p:cNvSpPr/>
          <p:nvPr/>
        </p:nvSpPr>
        <p:spPr>
          <a:xfrm>
            <a:off x="468360" y="609840"/>
            <a:ext cx="79214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轻捷：轻快敏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淋漓：形容湿淋淋地往下滴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腼腆：因怕生或害羞而神情不自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滂沱：形容雨很大的样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嗫嚅：形容想说话而又吞吞吐吐不敢            说出来的样子。</a:t>
            </a:r>
            <a:r>
              <a:rPr b="1" lang="zh-CN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2"/>
          <p:cNvSpPr/>
          <p:nvPr/>
        </p:nvSpPr>
        <p:spPr>
          <a:xfrm>
            <a:off x="343080" y="2461320"/>
            <a:ext cx="8458200" cy="100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放暑假的时候，给我家送报的换成了一个少年。我家住六楼，每天清早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多钟的时候，便有一阵轻捷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jié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的脚步声急急地上楼来了。不论晴天雨天，他都来得很准时。门没开的时候，他总是轻轻地把报纸塞进报筒。门虚掩着的时候，他便会礼貌地喊一声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老师，报纸来了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曾与他闲</a:t>
            </a:r>
            <a:r>
              <a:rPr b="0" lang="zh-CN" sz="28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聊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liáo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过，得知他每天凌晨５点就起床，要为两百多户人家送报，而且都是楼房住户，因此，他每天得上下近万级台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3795840" y="15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报的少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Bandari-Spring-Water.wma" descr=""/>
          <p:cNvPicPr/>
          <p:nvPr/>
        </p:nvPicPr>
        <p:blipFill>
          <a:blip r:embed="rId3"/>
          <a:stretch/>
        </p:blipFill>
        <p:spPr>
          <a:xfrm>
            <a:off x="8077320" y="6095880"/>
            <a:ext cx="45720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89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" dur="133306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343080" y="2633400"/>
            <a:ext cx="8458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放暑假的时候，给我家送报的换成了一个少年。我家住六楼，每天清早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点多钟的时候，便有一阵轻捷的脚步声急急地上楼来了。不论晴天雨天，他都来得很准时。门没开的时候，他总是轻轻地把报纸塞进报筒。门虚掩着的时候，他便会礼貌地喊一声：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老师，报纸来了！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我曾与他闲聊过，得知他每天凌晨５点就起床，要为两百多户人家送报，而且都是楼房住户，因此，他每天得上下近万级台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3795840" y="15228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送报的少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4"/>
          <p:cNvSpPr/>
          <p:nvPr/>
        </p:nvSpPr>
        <p:spPr>
          <a:xfrm>
            <a:off x="5029200" y="2666880"/>
            <a:ext cx="36576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5"/>
          <p:cNvSpPr/>
          <p:nvPr/>
        </p:nvSpPr>
        <p:spPr>
          <a:xfrm>
            <a:off x="380880" y="3124080"/>
            <a:ext cx="16765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6"/>
          <p:cNvSpPr/>
          <p:nvPr/>
        </p:nvSpPr>
        <p:spPr>
          <a:xfrm>
            <a:off x="5791320" y="4800600"/>
            <a:ext cx="14475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7"/>
          <p:cNvSpPr/>
          <p:nvPr/>
        </p:nvSpPr>
        <p:spPr>
          <a:xfrm>
            <a:off x="1143000" y="5257800"/>
            <a:ext cx="13716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8"/>
          <p:cNvSpPr/>
          <p:nvPr/>
        </p:nvSpPr>
        <p:spPr>
          <a:xfrm>
            <a:off x="2590920" y="5715000"/>
            <a:ext cx="19047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9"/>
          <p:cNvSpPr/>
          <p:nvPr/>
        </p:nvSpPr>
        <p:spPr>
          <a:xfrm>
            <a:off x="5791320" y="533520"/>
            <a:ext cx="3352680" cy="990360"/>
          </a:xfrm>
          <a:prstGeom prst="wedgeRectCallout">
            <a:avLst>
              <a:gd name="adj1" fmla="val -57907"/>
              <a:gd name="adj2" fmla="val 148555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少年是个恪守信誉的人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0"/>
          <p:cNvSpPr/>
          <p:nvPr/>
        </p:nvSpPr>
        <p:spPr>
          <a:xfrm>
            <a:off x="5410080" y="2743200"/>
            <a:ext cx="3353040" cy="990720"/>
          </a:xfrm>
          <a:prstGeom prst="wedgeRectCallout">
            <a:avLst>
              <a:gd name="adj1" fmla="val -57907"/>
              <a:gd name="adj2" fmla="val 14855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少年吃苦耐劳的优秀品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8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3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343080" y="2058120"/>
            <a:ext cx="8572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骄阳似火，送报的少年每天大汗淋漓地骑着车子穿街过巷。一大早，他的短袖衬衣就湿透了一大截，但他的车铃却拨弄得很快活，小圆脸上闪着一双清亮的眼睛，见人就腼腆地笑着。他的日子似乎无忧无虑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７月下旬的一天，少年来送报时对我说：“今天报上刊登了高考录取分数线！”我说了声谢谢，少年便下楼去了。这时，我那儿子闻声从床上跃起，接过报纸急匆匆地翻阅，高兴地说：“妈，我可以上大学了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1143000" y="1447920"/>
            <a:ext cx="73915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57200" y="1905120"/>
            <a:ext cx="16765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5"/>
          <p:cNvSpPr/>
          <p:nvPr/>
        </p:nvSpPr>
        <p:spPr>
          <a:xfrm>
            <a:off x="5486400" y="4419720"/>
            <a:ext cx="3352680" cy="685800"/>
          </a:xfrm>
          <a:prstGeom prst="wedgeRectCallout">
            <a:avLst>
              <a:gd name="adj1" fmla="val -57148"/>
              <a:gd name="adj2" fmla="val -285416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少年是个快活的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>
            <a:off x="1523880" y="2362320"/>
            <a:ext cx="30481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>
            <a:off x="5029200" y="2743200"/>
            <a:ext cx="33526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"/>
          <p:cNvSpPr/>
          <p:nvPr/>
        </p:nvSpPr>
        <p:spPr>
          <a:xfrm>
            <a:off x="798480" y="5932440"/>
            <a:ext cx="5535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9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6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380880" y="2028600"/>
            <a:ext cx="8458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望着儿子，我高兴的同时，心中也掠过一种莫名的感觉。８点多钟了，他还穿着睡衣，蜷缩在空调呼呼作响的卧室里。每天几乎都是这样，千呼万唤才起床洗漱，然后打开电视，靠在沙发上一边啜饮牛奶，一边不停地换电视频道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……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我说：“高考完了可以休整休整，但不能天天这样睡懒觉，一个青年有没有志气，就看他能不能珍惜晨光，早早起床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儿子不屑地说：“你那观念早过时了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我说：“你看看那送报的少年，每天５点就起床了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　　儿子大笑起来：“他是干什么的？我是干什么的？我进了大学，还要攻读硕士、博士，还要出国留学！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1981080" y="1447920"/>
            <a:ext cx="662940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4"/>
          <p:cNvSpPr/>
          <p:nvPr/>
        </p:nvSpPr>
        <p:spPr>
          <a:xfrm>
            <a:off x="457200" y="1828800"/>
            <a:ext cx="81532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457200" y="2286000"/>
            <a:ext cx="80773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457200" y="2666880"/>
            <a:ext cx="358128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7"/>
          <p:cNvSpPr/>
          <p:nvPr/>
        </p:nvSpPr>
        <p:spPr>
          <a:xfrm>
            <a:off x="4572000" y="4278240"/>
            <a:ext cx="2057400" cy="609840"/>
          </a:xfrm>
          <a:prstGeom prst="wedgeRectCallout">
            <a:avLst>
              <a:gd name="adj1" fmla="val -61652"/>
              <a:gd name="adj2" fmla="val -31484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儿子的懒散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8"/>
          <p:cNvSpPr/>
          <p:nvPr/>
        </p:nvSpPr>
        <p:spPr>
          <a:xfrm>
            <a:off x="3809880" y="5257800"/>
            <a:ext cx="44197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9"/>
          <p:cNvSpPr/>
          <p:nvPr/>
        </p:nvSpPr>
        <p:spPr>
          <a:xfrm>
            <a:off x="533520" y="5715000"/>
            <a:ext cx="807696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0"/>
          <p:cNvSpPr/>
          <p:nvPr/>
        </p:nvSpPr>
        <p:spPr>
          <a:xfrm>
            <a:off x="457200" y="6172200"/>
            <a:ext cx="990720" cy="0"/>
          </a:xfrm>
          <a:prstGeom prst="line">
            <a:avLst/>
          </a:prstGeom>
          <a:ln w="1908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1"/>
          <p:cNvSpPr/>
          <p:nvPr/>
        </p:nvSpPr>
        <p:spPr>
          <a:xfrm>
            <a:off x="3657600" y="6019920"/>
            <a:ext cx="2209680" cy="609480"/>
          </a:xfrm>
          <a:prstGeom prst="wedgeRectCallout">
            <a:avLst>
              <a:gd name="adj1" fmla="val -71625"/>
              <a:gd name="adj2" fmla="val -96875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儿子自视清高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1000"/>
                            </p:stCondLst>
                            <p:childTnLst>
                              <p:par>
                                <p:cTn id="17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3000"/>
                            </p:stCondLst>
                            <p:childTnLst>
                              <p:par>
                                <p:cTn id="1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9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9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000"/>
                            </p:stCondLst>
                            <p:childTnLst>
                              <p:par>
                                <p:cTn id="20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16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5:33:2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43:45Z</dcterms:modified>
  <cp:revision>8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