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147E-203D-4DE3-B616-2A4C68C65E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CDE-765C-4524-B538-DB5E05E2FD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469-0B46-4B50-880B-E7F1FDFB1C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196-EAD9-4DF9-8130-D7F931CB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C3B-4858-48D1-8C5E-B6A29AD4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711-503A-4325-A9C5-7F32CB8E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526-30EF-4236-8EEE-2367E17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68F-054E-4678-9CE9-034AAAF3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936-1D80-4168-93C7-619A2796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700-0441-4C43-B317-17916846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922-4B6B-4FE7-97DD-DD17D189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BE7-72A7-46EA-896B-4DBD7BDA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A9F-1A41-47B7-8B91-3305B80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FB2-FFCF-4DFD-8E63-8659C23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F1D-A08B-4EB7-A782-FD877B49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71D9-FEE2-4806-B510-83B592714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1343160" y="1523880"/>
            <a:ext cx="6759360" cy="132408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7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350532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4"/>
          <a:stretch/>
        </p:blipFill>
        <p:spPr>
          <a:xfrm>
            <a:off x="1763640" y="6019920"/>
            <a:ext cx="567216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1881360" y="838080"/>
            <a:ext cx="536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普通的树。它没有樟树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样高大，没有桃树那样娇艳，也没有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杏树那样古老，普通得只有一个普通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名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梧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普通"/>
          <p:cNvPicPr/>
          <p:nvPr/>
        </p:nvPicPr>
        <p:blipFill>
          <a:blip r:embed="rId1"/>
          <a:stretch/>
        </p:blipFill>
        <p:spPr>
          <a:xfrm>
            <a:off x="1371600" y="3200400"/>
            <a:ext cx="6324480" cy="3352680"/>
          </a:xfrm>
          <a:prstGeom prst="rect">
            <a:avLst/>
          </a:prstGeom>
          <a:ln w="0">
            <a:noFill/>
          </a:ln>
        </p:spPr>
      </p:pic>
      <p:sp>
        <p:nvSpPr>
          <p:cNvPr id="111" name="Line 10"/>
          <p:cNvSpPr/>
          <p:nvPr/>
        </p:nvSpPr>
        <p:spPr>
          <a:xfrm>
            <a:off x="1219320" y="1523880"/>
            <a:ext cx="434340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0" y="60958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的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57200" y="1066680"/>
            <a:ext cx="784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梧桐树啊，虽然我不能把你带走，但我会常常想你的，因为你活在我的心里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梧桐树伴奏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5957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四口人"/>
          <p:cNvPicPr/>
          <p:nvPr/>
        </p:nvPicPr>
        <p:blipFill>
          <a:blip r:embed="rId1"/>
          <a:stretch/>
        </p:blipFill>
        <p:spPr>
          <a:xfrm>
            <a:off x="1600200" y="3971880"/>
            <a:ext cx="5867280" cy="2886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28600" y="3808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                      的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年来，虽然我没给梧桐浇过水，施过肥，但它给我们的，却是那么好，那么多。我们家和它分不开了。我常常觉得，家里有四口：爸爸、妈妈和我，还有这棵梧桐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438280" y="15228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514600" y="152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05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不求回报，无私奉献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1219320" y="609480"/>
            <a:ext cx="7162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371600" y="762120"/>
            <a:ext cx="6172200" cy="1523880"/>
          </a:xfrm>
          <a:prstGeom prst="cloudCallout">
            <a:avLst>
              <a:gd name="adj1" fmla="val 1388"/>
              <a:gd name="adj2" fmla="val 24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也要长成一棵树，一棵会走路的树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685800" y="3200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我也要长成一棵像梧桐树这样不求回报，默默奉献的树，并且走到哪里就把自己奉献到哪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清洁工"/>
          <p:cNvPicPr/>
          <p:nvPr/>
        </p:nvPicPr>
        <p:blipFill>
          <a:blip r:embed="rId2"/>
          <a:stretch/>
        </p:blipFill>
        <p:spPr>
          <a:xfrm>
            <a:off x="611280" y="4581360"/>
            <a:ext cx="187308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兵"/>
          <p:cNvPicPr/>
          <p:nvPr/>
        </p:nvPicPr>
        <p:blipFill>
          <a:blip r:embed="rId3"/>
          <a:stretch/>
        </p:blipFill>
        <p:spPr>
          <a:xfrm>
            <a:off x="6804000" y="3500280"/>
            <a:ext cx="176364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父母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3276720" y="-27000"/>
            <a:ext cx="2232000" cy="1622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护士"/>
          <p:cNvPicPr/>
          <p:nvPr/>
        </p:nvPicPr>
        <p:blipFill>
          <a:blip r:embed="rId5"/>
          <a:stretch/>
        </p:blipFill>
        <p:spPr>
          <a:xfrm>
            <a:off x="6804000" y="549360"/>
            <a:ext cx="1990800" cy="191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警察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0" y="54936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8">
            <a:hlinkClick r:id="" action="ppaction://hlinkshowjump?jump=firstslide"/>
          </p:cNvPr>
          <p:cNvSpPr/>
          <p:nvPr/>
        </p:nvSpPr>
        <p:spPr>
          <a:xfrm>
            <a:off x="8459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老师"/>
          <p:cNvPicPr/>
          <p:nvPr/>
        </p:nvPicPr>
        <p:blipFill>
          <a:blip r:embed="rId7"/>
          <a:stretch/>
        </p:blipFill>
        <p:spPr>
          <a:xfrm>
            <a:off x="2556000" y="2349360"/>
            <a:ext cx="2952720" cy="2033640"/>
          </a:xfrm>
          <a:prstGeom prst="rect">
            <a:avLst/>
          </a:prstGeom>
          <a:ln w="0">
            <a:noFill/>
          </a:ln>
        </p:spPr>
      </p:pic>
      <p:pic>
        <p:nvPicPr>
          <p:cNvPr id="131" name="田震 - 好大一棵树 - 成名曲.mp3" descr=""/>
          <p:cNvPicPr/>
          <p:nvPr/>
        </p:nvPicPr>
        <p:blipFill>
          <a:blip r:embed="rId8"/>
          <a:stretch/>
        </p:blipFill>
        <p:spPr>
          <a:xfrm>
            <a:off x="55627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2901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真美！草儿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花儿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树儿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038480" y="16765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60020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2189160" y="4600440"/>
            <a:ext cx="51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3924720" y="1143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谢谢指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B30D-7420-4580-B6AE-52BC162EA5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总起句（中心句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47560"/>
            <a:ext cx="5562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普通的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鸟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花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果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有灵性的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普通"/>
          <p:cNvPicPr/>
          <p:nvPr/>
        </p:nvPicPr>
        <p:blipFill>
          <a:blip r:embed="rId1"/>
          <a:stretch/>
        </p:blipFill>
        <p:spPr>
          <a:xfrm>
            <a:off x="6019920" y="304920"/>
            <a:ext cx="3124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合作学习提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小组合作学习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---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这是一棵什么样的树？它带给了我们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汇报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0"/>
          <p:cNvSpPr/>
          <p:nvPr/>
        </p:nvSpPr>
        <p:spPr>
          <a:xfrm>
            <a:off x="685800" y="1905120"/>
            <a:ext cx="784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      树，因为有它                                ， 所以我舍不得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    树，因为有它                                               ，   所以我舍不得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    树，因为有它                           ，所以我舍不得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               树，因为有它                                              所以我舍不得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09680" y="13716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337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908960" y="1752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就有听不完的音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05740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343400" y="2819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就有黄绿色的花和淡淡的花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120040" y="388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267080" y="388620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就有香甜的果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057400" y="502920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有灵性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105520" y="49528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就可以在树下玩游戏，做功课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914400" y="4572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汇报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657600" y="1828800"/>
            <a:ext cx="2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04080" y="6112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4">
            <a:hlinkClick r:id="rId1" action="ppaction://hlinksldjump"/>
          </p:cNvPr>
          <p:cNvSpPr/>
          <p:nvPr/>
        </p:nvSpPr>
        <p:spPr>
          <a:xfrm>
            <a:off x="7162920" y="2209680"/>
            <a:ext cx="504720" cy="3603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5">
            <a:hlinkClick r:id="rId2" action="ppaction://hlinksldjump"/>
          </p:cNvPr>
          <p:cNvSpPr/>
          <p:nvPr/>
        </p:nvSpPr>
        <p:spPr>
          <a:xfrm>
            <a:off x="7238880" y="5715000"/>
            <a:ext cx="505080" cy="3603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6">
            <a:hlinkClick r:id="rId3" action="ppaction://hlinksldjump"/>
          </p:cNvPr>
          <p:cNvSpPr/>
          <p:nvPr/>
        </p:nvSpPr>
        <p:spPr>
          <a:xfrm>
            <a:off x="7162920" y="4343400"/>
            <a:ext cx="504720" cy="3603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7">
            <a:hlinkClick r:id="rId4" action="ppaction://hlinksldjump"/>
          </p:cNvPr>
          <p:cNvSpPr/>
          <p:nvPr/>
        </p:nvSpPr>
        <p:spPr>
          <a:xfrm>
            <a:off x="7162920" y="3429000"/>
            <a:ext cx="504720" cy="3603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9">
            <a:hlinkClick r:id="rId5" action="ppaction://hlinksldjump"/>
          </p:cNvPr>
          <p:cNvSpPr/>
          <p:nvPr/>
        </p:nvSpPr>
        <p:spPr>
          <a:xfrm>
            <a:off x="7924680" y="5715000"/>
            <a:ext cx="503280" cy="412920"/>
          </a:xfrm>
          <a:custGeom>
            <a:avLst/>
            <a:gdLst/>
            <a:ahLst/>
            <a:rect l="l" t="t" r="r" b="b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264960" y="304920"/>
            <a:ext cx="869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鸟树。每天，那些叫得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名字和叫不出名字的鸟儿，总爱站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它身上，唱个没完，有了它，就有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完的音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鸟树"/>
          <p:cNvPicPr/>
          <p:nvPr/>
        </p:nvPicPr>
        <p:blipFill>
          <a:blip r:embed="rId1"/>
          <a:stretch/>
        </p:blipFill>
        <p:spPr>
          <a:xfrm>
            <a:off x="1752480" y="3429000"/>
            <a:ext cx="640080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1"/>
          <p:cNvSpPr/>
          <p:nvPr/>
        </p:nvSpPr>
        <p:spPr>
          <a:xfrm>
            <a:off x="0" y="60958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的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8">
            <a:hlinkClick r:id="rId2" action="ppaction://hlinksldjump"/>
          </p:cNvPr>
          <p:cNvSpPr/>
          <p:nvPr/>
        </p:nvSpPr>
        <p:spPr>
          <a:xfrm>
            <a:off x="8229600" y="6095880"/>
            <a:ext cx="504720" cy="3603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152280" y="2209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梧桐树啊，虽然我不能把你带走，但我会常常想你的，因为你活在我的心里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ichard Clayderman - 秋日私语.mp3" descr=""/>
          <p:cNvPicPr/>
          <p:nvPr/>
        </p:nvPicPr>
        <p:blipFill>
          <a:blip r:embed="rId3"/>
          <a:stretch/>
        </p:blipFill>
        <p:spPr>
          <a:xfrm>
            <a:off x="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矩形 11"/>
          <p:cNvSpPr/>
          <p:nvPr/>
        </p:nvSpPr>
        <p:spPr>
          <a:xfrm>
            <a:off x="2133720" y="35053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1503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1643760" y="30492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花树。到了花开季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那黄绿色的花儿挂满枝头，淡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清香，灌满了我家小屋，染香了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里的每个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花树"/>
          <p:cNvPicPr/>
          <p:nvPr/>
        </p:nvPicPr>
        <p:blipFill>
          <a:blip r:embed="rId1"/>
          <a:stretch/>
        </p:blipFill>
        <p:spPr>
          <a:xfrm>
            <a:off x="1371600" y="3352680"/>
            <a:ext cx="670572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3657600" y="6862680"/>
            <a:ext cx="320040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0" y="60958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的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>
            <a:hlinkClick r:id="rId2" action="ppaction://hlinksldjump"/>
          </p:cNvPr>
          <p:cNvSpPr/>
          <p:nvPr/>
        </p:nvSpPr>
        <p:spPr>
          <a:xfrm>
            <a:off x="8077320" y="6248520"/>
            <a:ext cx="504720" cy="3603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094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梧桐树啊，虽然我不能把你带走，但我会常常想你的，因为你活在我的心里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652400" y="228600"/>
            <a:ext cx="359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果树。秋天，它捧出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串小汤匙儿，里面盛着圆圆的小粒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妈妈把它们摘下来，炒熟了，全家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得香甜香甜，乐乐呵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果树"/>
          <p:cNvPicPr/>
          <p:nvPr/>
        </p:nvPicPr>
        <p:blipFill>
          <a:blip r:embed="rId1"/>
          <a:stretch/>
        </p:blipFill>
        <p:spPr>
          <a:xfrm>
            <a:off x="1676520" y="3276720"/>
            <a:ext cx="6019560" cy="3581280"/>
          </a:xfrm>
          <a:prstGeom prst="rect">
            <a:avLst/>
          </a:prstGeom>
          <a:ln w="0">
            <a:noFill/>
          </a:ln>
        </p:spPr>
      </p:pic>
      <p:sp>
        <p:nvSpPr>
          <p:cNvPr id="91" name="Line 8"/>
          <p:cNvSpPr/>
          <p:nvPr/>
        </p:nvSpPr>
        <p:spPr>
          <a:xfrm>
            <a:off x="5029200" y="6859440"/>
            <a:ext cx="28195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60958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的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>
            <a:hlinkClick r:id="rId2" action="ppaction://hlinksldjump"/>
          </p:cNvPr>
          <p:cNvSpPr/>
          <p:nvPr/>
        </p:nvSpPr>
        <p:spPr>
          <a:xfrm>
            <a:off x="8001000" y="6248520"/>
            <a:ext cx="504720" cy="3603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47840" y="2232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梧桐树啊，虽然我不能把你带走，但我会常常想你的，因为你活在我的心里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545840" y="228600"/>
            <a:ext cx="380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棵有灵性的树。夏天，它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开绿色的大伞，让我们在树下玩游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做功课；冬天，它抖落树叶，把阳光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给了大伙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灵性"/>
          <p:cNvPicPr/>
          <p:nvPr/>
        </p:nvPicPr>
        <p:blipFill>
          <a:blip r:embed="rId1"/>
          <a:stretch/>
        </p:blipFill>
        <p:spPr>
          <a:xfrm>
            <a:off x="4572000" y="3079800"/>
            <a:ext cx="4572000" cy="3778200"/>
          </a:xfrm>
          <a:prstGeom prst="rect">
            <a:avLst/>
          </a:prstGeom>
          <a:ln w="0">
            <a:noFill/>
          </a:ln>
        </p:spPr>
      </p:pic>
      <p:sp>
        <p:nvSpPr>
          <p:cNvPr id="97" name="Line 7"/>
          <p:cNvSpPr/>
          <p:nvPr/>
        </p:nvSpPr>
        <p:spPr>
          <a:xfrm>
            <a:off x="152280" y="6848640"/>
            <a:ext cx="46483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0" y="60958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的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普通"/>
          <p:cNvPicPr/>
          <p:nvPr/>
        </p:nvPicPr>
        <p:blipFill>
          <a:blip r:embed="rId2"/>
          <a:stretch/>
        </p:blipFill>
        <p:spPr>
          <a:xfrm>
            <a:off x="0" y="320040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0">
            <a:hlinkClick r:id="rId3" action="ppaction://hlinksldjump"/>
          </p:cNvPr>
          <p:cNvSpPr/>
          <p:nvPr/>
        </p:nvSpPr>
        <p:spPr>
          <a:xfrm>
            <a:off x="8229600" y="6019920"/>
            <a:ext cx="504720" cy="3603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0" y="2133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梧桐树啊，虽然我不能把你带走，但我会常常想你的，因为你活在我的心里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9df2e4e7933b0e27abd6c14b7a0a971b"/>
          <p:cNvPicPr/>
          <p:nvPr/>
        </p:nvPicPr>
        <p:blipFill>
          <a:blip r:embed="rId1"/>
          <a:stretch/>
        </p:blipFill>
        <p:spPr>
          <a:xfrm>
            <a:off x="0" y="0"/>
            <a:ext cx="464832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59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2009514165624578new"/>
          <p:cNvPicPr/>
          <p:nvPr/>
        </p:nvPicPr>
        <p:blipFill>
          <a:blip r:embed="rId3"/>
          <a:stretch/>
        </p:blipFill>
        <p:spPr>
          <a:xfrm>
            <a:off x="0" y="3357720"/>
            <a:ext cx="4716360" cy="3500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5680_6"/>
          <p:cNvPicPr/>
          <p:nvPr/>
        </p:nvPicPr>
        <p:blipFill>
          <a:blip r:embed="rId4"/>
          <a:stretch/>
        </p:blipFill>
        <p:spPr>
          <a:xfrm>
            <a:off x="4716360" y="3213000"/>
            <a:ext cx="4427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4920" y="335772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桃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172360" y="4046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樟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588000" y="530208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银杏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47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7:25Z</dcterms:modified>
  <cp:revision>10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