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DE0-E090-4569-B5A0-F29474E8EC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41F-41C8-4AB1-8F42-7BA54763B5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BD5-0D82-4D7C-AAB0-4FAC8BFA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B29-D317-4F70-8FF0-D72F693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C0A-5DDF-4E89-9B98-E88A92E6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DC9-A39A-455A-B5C8-D227E5F0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D01-C940-4522-B897-3A43830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7A3-2F71-491A-AD34-41F7AF09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051-BEF7-41EE-B91C-8669B76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414-9F65-4E8E-B1B1-6C30D9BC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BA8-9410-4D79-AD38-BA9C79F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D0D-D2AC-48FB-8F43-9FC24786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84E-673B-4FAE-954B-002BC59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0D3-8DF1-42EB-91F3-4834F49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980-546E-4CF0-A8D3-6FD6F83997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900000" y="2565360"/>
            <a:ext cx="7848720" cy="1312920"/>
          </a:xfrm>
          <a:prstGeom prst="rect">
            <a:avLst/>
          </a:prstGeom>
          <a:solidFill>
            <a:srgbClr val="b7dee8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53735"/>
                </a:solidFill>
                <a:latin typeface="华文行楷"/>
                <a:ea typeface="华文行楷"/>
              </a:rPr>
              <a:t>三个问题的答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矩形 5" descr=""/>
          <p:cNvPicPr/>
          <p:nvPr/>
        </p:nvPicPr>
        <p:blipFill>
          <a:blip r:embed="rId2"/>
          <a:stretch/>
        </p:blipFill>
        <p:spPr>
          <a:xfrm>
            <a:off x="2031840" y="6093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49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54752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三、什么是世界上最大的力量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96000" y="501336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Arial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3200" y="1827360"/>
            <a:ext cx="7466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同学们，学习了这篇课文，你们有什么收获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00000" y="3716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懂得珍惜生活中看似平常的浓浓亲情、真诚的友谊，能学着用一颗充满爱的心去面对生活。遇到问题用心体验、认真思考，做生活的有心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1859c"/>
                </a:solidFill>
                <a:latin typeface="Calibri"/>
              </a:rPr>
              <a:t>写作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971640" y="2133720"/>
            <a:ext cx="7416720" cy="2013120"/>
          </a:xfrm>
          <a:prstGeom prst="rect">
            <a:avLst/>
          </a:prstGeom>
          <a:solidFill>
            <a:srgbClr val="b9c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通过有趣的对话形式向我们传达了这样的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是世界上最温暖的地方；友谊是世界上最珍贵的东西；爱是世界上最大的力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懂得这些道理之后，以后的你会怎么做？请以“带着爱上路”为题写一篇小短文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3A7-C9B8-4453-8D17-0B5357EAB8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1859c"/>
                </a:solidFill>
                <a:latin typeface="Calibri"/>
              </a:rPr>
              <a:t>词语课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云形 3"/>
          <p:cNvSpPr/>
          <p:nvPr/>
        </p:nvSpPr>
        <p:spPr>
          <a:xfrm>
            <a:off x="611280" y="2565360"/>
            <a:ext cx="1511280" cy="1079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揉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云形 4"/>
          <p:cNvSpPr/>
          <p:nvPr/>
        </p:nvSpPr>
        <p:spPr>
          <a:xfrm>
            <a:off x="7093080" y="2133720"/>
            <a:ext cx="1511280" cy="107928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逐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云形 5"/>
          <p:cNvSpPr/>
          <p:nvPr/>
        </p:nvSpPr>
        <p:spPr>
          <a:xfrm>
            <a:off x="826920" y="4365720"/>
            <a:ext cx="1511640" cy="107928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山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云形 6"/>
          <p:cNvSpPr/>
          <p:nvPr/>
        </p:nvSpPr>
        <p:spPr>
          <a:xfrm>
            <a:off x="2771640" y="3716280"/>
            <a:ext cx="1511280" cy="108108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友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云形 7"/>
          <p:cNvSpPr/>
          <p:nvPr/>
        </p:nvSpPr>
        <p:spPr>
          <a:xfrm>
            <a:off x="4559400" y="4797360"/>
            <a:ext cx="1512720" cy="1079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宫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云形 8"/>
          <p:cNvSpPr/>
          <p:nvPr/>
        </p:nvSpPr>
        <p:spPr>
          <a:xfrm>
            <a:off x="2484360" y="5445000"/>
            <a:ext cx="1513080" cy="1079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接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云形 9"/>
          <p:cNvSpPr/>
          <p:nvPr/>
        </p:nvSpPr>
        <p:spPr>
          <a:xfrm>
            <a:off x="5076720" y="1700280"/>
            <a:ext cx="1511280" cy="107928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茅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云形 10"/>
          <p:cNvSpPr/>
          <p:nvPr/>
        </p:nvSpPr>
        <p:spPr>
          <a:xfrm>
            <a:off x="2340000" y="1557360"/>
            <a:ext cx="1511280" cy="1079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抵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云形 10"/>
          <p:cNvSpPr/>
          <p:nvPr/>
        </p:nvSpPr>
        <p:spPr>
          <a:xfrm>
            <a:off x="5580000" y="3500280"/>
            <a:ext cx="1511280" cy="1079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远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云形 10"/>
          <p:cNvSpPr/>
          <p:nvPr/>
        </p:nvSpPr>
        <p:spPr>
          <a:xfrm>
            <a:off x="3708360" y="2637000"/>
            <a:ext cx="1511280" cy="107928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富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3735"/>
                </a:solidFill>
                <a:latin typeface="Calibri"/>
              </a:rPr>
              <a:t>词语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五边形 3"/>
          <p:cNvSpPr/>
          <p:nvPr/>
        </p:nvSpPr>
        <p:spPr>
          <a:xfrm>
            <a:off x="1254240" y="234936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5" y="0"/>
                </a:lnTo>
                <a:lnTo>
                  <a:pt x="21600" y="10800"/>
                </a:lnTo>
                <a:lnTo>
                  <a:pt x="16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木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五边形 4"/>
          <p:cNvSpPr/>
          <p:nvPr/>
        </p:nvSpPr>
        <p:spPr>
          <a:xfrm>
            <a:off x="1239840" y="4518000"/>
            <a:ext cx="1728720" cy="865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6" y="0"/>
                </a:lnTo>
                <a:lnTo>
                  <a:pt x="21600" y="10800"/>
                </a:lnTo>
                <a:lnTo>
                  <a:pt x="161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3149640" cy="191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24360" y="4076640"/>
            <a:ext cx="3943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3735"/>
                </a:solidFill>
                <a:latin typeface="Calibri"/>
              </a:rPr>
              <a:t>词语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五边形 4"/>
          <p:cNvSpPr/>
          <p:nvPr/>
        </p:nvSpPr>
        <p:spPr>
          <a:xfrm>
            <a:off x="1254240" y="234936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5" y="0"/>
                </a:lnTo>
                <a:lnTo>
                  <a:pt x="21600" y="10800"/>
                </a:lnTo>
                <a:lnTo>
                  <a:pt x="16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宫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五边形 5"/>
          <p:cNvSpPr/>
          <p:nvPr/>
        </p:nvSpPr>
        <p:spPr>
          <a:xfrm>
            <a:off x="1239840" y="465300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5" y="0"/>
                </a:lnTo>
                <a:lnTo>
                  <a:pt x="21600" y="10800"/>
                </a:lnTo>
                <a:lnTo>
                  <a:pt x="16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茅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51280" y="166860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387680" y="4221000"/>
            <a:ext cx="3087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7"/>
          <p:cNvSpPr/>
          <p:nvPr/>
        </p:nvSpPr>
        <p:spPr>
          <a:xfrm>
            <a:off x="503244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3735"/>
                </a:solidFill>
                <a:latin typeface="Calibri"/>
              </a:rPr>
              <a:t>词语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五边形 4"/>
          <p:cNvSpPr/>
          <p:nvPr/>
        </p:nvSpPr>
        <p:spPr>
          <a:xfrm>
            <a:off x="1254240" y="234936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5" y="0"/>
                </a:lnTo>
                <a:lnTo>
                  <a:pt x="21600" y="10800"/>
                </a:lnTo>
                <a:lnTo>
                  <a:pt x="16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台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五边形 5"/>
          <p:cNvSpPr/>
          <p:nvPr/>
        </p:nvSpPr>
        <p:spPr>
          <a:xfrm>
            <a:off x="1239840" y="4076640"/>
            <a:ext cx="1728720" cy="865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6" y="0"/>
                </a:lnTo>
                <a:lnTo>
                  <a:pt x="21600" y="10800"/>
                </a:lnTo>
                <a:lnTo>
                  <a:pt x="161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海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3000240" cy="200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21080" y="4089240"/>
            <a:ext cx="2890800" cy="202104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"/>
          <p:cNvSpPr/>
          <p:nvPr/>
        </p:nvSpPr>
        <p:spPr>
          <a:xfrm>
            <a:off x="923760" y="594684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810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2900" spc="-1" strike="noStrike">
                <a:solidFill>
                  <a:srgbClr val="f31b2a"/>
                </a:solidFill>
                <a:latin typeface="Calibri"/>
              </a:rPr>
              <a:t>什么是世界上最温暖的地方？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971640" y="3933720"/>
            <a:ext cx="6264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31b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31b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1b2a"/>
                </a:solidFill>
                <a:latin typeface="Calibri"/>
              </a:rPr>
              <a:t>什么是世界上最大的力量？</a:t>
            </a:r>
            <a:r>
              <a:rPr b="0" lang="zh-CN" sz="3200" spc="-1" strike="noStrike">
                <a:solidFill>
                  <a:srgbClr val="f31b2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标题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三个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-757080" y="2852640"/>
            <a:ext cx="813744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1b2a"/>
                </a:solidFill>
                <a:latin typeface="Calibri"/>
                <a:ea typeface="宋体"/>
              </a:rPr>
              <a:t>什么是世界上最珍贵的东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31b2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f31b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54200" y="4046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、什么是世界上最温暖、最温暖的地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温馨的家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403280" y="234936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家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84680" y="404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二、什么是世界上最珍贵、最珍贵的东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44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258920" y="2708280"/>
            <a:ext cx="208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友谊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五边形 4"/>
          <p:cNvSpPr/>
          <p:nvPr/>
        </p:nvSpPr>
        <p:spPr>
          <a:xfrm>
            <a:off x="857160" y="981000"/>
            <a:ext cx="2664000" cy="11527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8" y="0"/>
                </a:lnTo>
                <a:lnTo>
                  <a:pt x="21600" y="10800"/>
                </a:lnTo>
                <a:lnTo>
                  <a:pt x="169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阅读思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258920" y="2276640"/>
            <a:ext cx="561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小天使说友谊是世界上最珍贵的东西，你能用你生活中的一个例子来证明一下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44640" y="4508640"/>
            <a:ext cx="54277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4:49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14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