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D404-4BC8-4157-9004-8F959F4649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B95E-2D8A-48F1-A10E-71B2A1142A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9E2-BC71-4440-87C6-6E9EBDDB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856-F934-4911-89AC-67C94954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91A-FAE2-455A-B42D-7791D791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4F9-82A9-401C-82A3-1E4A9376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DDD-250D-453B-86C9-476D5465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E8F-DF77-4973-A576-24FDCF5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30B-1A5D-4509-A009-074B696E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C0A-F967-4814-9D59-1564420C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E38-0BB7-4DCC-BB34-574DC3FF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945-99B2-4657-B5F6-D72BA09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5C2-E3BF-4253-92C6-2C2EDF3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9C2-5883-4B73-ABE2-45FD26A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A6E-6414-40EC-A7FE-FFC0212EB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audio" Target="../media/drumroll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47640" y="2708280"/>
            <a:ext cx="60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华文行楷"/>
                <a:ea typeface="华文行楷"/>
              </a:rPr>
              <a:t>7</a:t>
            </a:r>
            <a:r>
              <a:rPr b="1" lang="zh-CN" sz="100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山海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887120" y="60069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258920" y="350028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山海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0" y="18900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99"/>
                </a:solidFill>
                <a:latin typeface="Arial"/>
                <a:ea typeface="黑体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本课生字，理解由生字组成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0" y="2352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能够正确、流利、有感情地朗读课文，背诵自己喜欢的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能学习由远及近、由整体到部分，从不同的观察点观察事物的方法，学会在观察中展开想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峻青1"/>
          <p:cNvPicPr/>
          <p:nvPr/>
        </p:nvPicPr>
        <p:blipFill>
          <a:blip r:embed="rId2"/>
          <a:stretch/>
        </p:blipFill>
        <p:spPr>
          <a:xfrm>
            <a:off x="0" y="836640"/>
            <a:ext cx="3851280" cy="6021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019400" y="638280"/>
            <a:ext cx="511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峻青：原名孙俊青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22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出生于山东省海阳县。当代作家，在小说、散文、评论、戏剧、电影等方面都有成就。主要作品集有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黎明的河边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海啸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欧阳书简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《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秋色赋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等。本文选自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雄关赋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835280" y="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067280" y="0"/>
            <a:ext cx="936360" cy="620640"/>
          </a:xfrm>
          <a:prstGeom prst="rightArrow">
            <a:avLst>
              <a:gd name="adj1" fmla="val 50000"/>
              <a:gd name="adj2" fmla="val 377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5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258920" y="26028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4356000" y="476280"/>
            <a:ext cx="976320" cy="4856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580000" y="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84360" y="1916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初读课文，想一想课文的主要内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26920" y="3645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边读边画出生字、新词，自学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0" y="1341360"/>
            <a:ext cx="9144000" cy="10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Arial"/>
                <a:ea typeface="楷体_GB2312"/>
              </a:rPr>
              <a:t>      </a:t>
            </a:r>
            <a:r>
              <a:rPr b="1" lang="zh-CN" sz="8000" spc="-1" strike="noStrike">
                <a:solidFill>
                  <a:srgbClr val="990099"/>
                </a:solidFill>
                <a:latin typeface="Arial"/>
                <a:ea typeface="楷体_GB2312"/>
              </a:rPr>
              <a:t>巍       蜿 蜒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99"/>
                </a:solidFill>
                <a:latin typeface="Arial"/>
                <a:ea typeface="楷体_GB2312"/>
              </a:rPr>
              <a:t>      </a:t>
            </a:r>
            <a:r>
              <a:rPr b="1" lang="zh-CN" sz="8000" spc="-1" strike="noStrike">
                <a:solidFill>
                  <a:srgbClr val="990099"/>
                </a:solidFill>
                <a:latin typeface="Arial"/>
                <a:ea typeface="楷体_GB2312"/>
              </a:rPr>
              <a:t>垠      颈      烽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99"/>
                </a:solidFill>
                <a:latin typeface="Arial"/>
                <a:ea typeface="楷体_GB2312"/>
              </a:rPr>
              <a:t>      </a:t>
            </a:r>
            <a:r>
              <a:rPr b="1" lang="zh-CN" sz="8000" spc="-1" strike="noStrike">
                <a:solidFill>
                  <a:srgbClr val="990099"/>
                </a:solidFill>
                <a:latin typeface="Arial"/>
                <a:ea typeface="楷体_GB2312"/>
              </a:rPr>
              <a:t>顷     盔       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258920" y="26028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356000" y="476280"/>
            <a:ext cx="976320" cy="4856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508720" y="0"/>
            <a:ext cx="187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692360" y="2492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巍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187280" y="4292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苍茫无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356000" y="4292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脖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877080" y="4292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烽火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116000" y="6156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碧波万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140360" y="6156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盔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164360" y="6156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捍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720" y="286920"/>
            <a:ext cx="5832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认 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4920" y="1125360"/>
            <a:ext cx="604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lnSpc>
                <a:spcPct val="130000"/>
              </a:lnSpc>
              <a:spcBef>
                <a:spcPts val="187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盔甲         巨大匾额         名不虚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30000"/>
              </a:lnSpc>
              <a:spcBef>
                <a:spcPts val="187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捍卫         逶迤翻腾         慷慨悲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30000"/>
              </a:lnSpc>
              <a:spcBef>
                <a:spcPts val="187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抵御         名不虚传         气势磅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30000"/>
              </a:lnSpc>
              <a:spcBef>
                <a:spcPts val="187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殷红         浑然一体         可歌可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30000"/>
              </a:lnSpc>
              <a:spcBef>
                <a:spcPts val="187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脖颈儿     雄浑苍劲          广袤无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30000"/>
              </a:lnSpc>
              <a:spcBef>
                <a:spcPts val="1874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铮铮响     干戈扰攘          巍然耸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竹子"/>
          <p:cNvPicPr/>
          <p:nvPr/>
        </p:nvPicPr>
        <p:blipFill>
          <a:blip r:embed="rId1"/>
          <a:stretch/>
        </p:blipFill>
        <p:spPr>
          <a:xfrm>
            <a:off x="6588000" y="476280"/>
            <a:ext cx="23018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197964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内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思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284720" y="476280"/>
            <a:ext cx="976320" cy="4856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0" y="1484280"/>
            <a:ext cx="313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从哪几方面介绍了山海关？课文是按什么顺序写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924360" y="1557360"/>
            <a:ext cx="4895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492360" y="1125360"/>
            <a:ext cx="56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是从“我的赞叹”、 “我的所见”、“我的所想”、“我的歌颂”这四个方面介绍山海关的。是按总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结的顺序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995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851280" y="3773520"/>
            <a:ext cx="4430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章可分四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——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——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——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588000" y="5300640"/>
            <a:ext cx="289080" cy="649440"/>
          </a:xfrm>
          <a:custGeom>
            <a:avLst/>
            <a:gdLst>
              <a:gd name="textAreaLeft" fmla="*/ 0 w 289080"/>
              <a:gd name="textAreaRight" fmla="*/ 104400 w 2890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877080" y="5300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948360" y="5300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948360" y="4437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020000" y="63388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395280" y="1125360"/>
            <a:ext cx="11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Arial"/>
              </a:rPr>
              <a:t>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31800" y="278136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哦，好一座威武的雄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山海关，这号称“天下第一关”的山海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31800" y="522936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ff99"/>
                </a:solidFill>
                <a:latin typeface="Arial"/>
                <a:ea typeface="隶书"/>
              </a:rPr>
              <a:t>作为</a:t>
            </a:r>
            <a:r>
              <a:rPr b="1" lang="zh-CN" sz="3600" spc="-1" strike="noStrike">
                <a:solidFill>
                  <a:srgbClr val="00ff99"/>
                </a:solidFill>
                <a:latin typeface="Arial"/>
                <a:ea typeface="隶书"/>
              </a:rPr>
              <a:t>全文总起，开篇就直接抒发了对山海关的赞美之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908000" y="333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沿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思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284720" y="476280"/>
            <a:ext cx="976320" cy="4856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1555920" y="6419880"/>
            <a:ext cx="64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026-3A62-442E-92C6-F46B779B68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8"/>
    <p:sndAc>
      <p:stSnd>
        <p:snd r:embed="rId18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3地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渤海岸边老龙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关头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长城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788000" y="54936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万里长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嘉峪关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39640" y="40464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  <a:ea typeface="楷体_GB2312"/>
              </a:rPr>
              <a:t>嘉峪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雁门关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611280" y="260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华文行楷"/>
              </a:rPr>
              <a:t>雁门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居庸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796000" y="765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居庸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6877080" y="5661000"/>
            <a:ext cx="2266920" cy="863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0:18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8:27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