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907D-B786-4BF1-B696-4FFC82453A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8BB3-5DC3-429A-8F1D-8146CDE270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3AC-191A-4A59-B593-38638F70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659-5825-4F51-8362-D61E8CA7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255-9BD7-4A74-971C-11A29A1B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47B-6029-4000-A587-0D301E5D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467-6EB4-424A-A5A5-D0696959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F36-30EC-4670-AD90-8E33F4DA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4C9-4A7D-41B8-A563-38E10F6F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3D0-F7D5-40A5-A363-073BB3E8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EB9-CA7F-4876-A520-FF3F4A6C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30F-9C60-45AF-BB08-9DA91147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4C8-D696-4BF1-952E-994EEA59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932-27CA-4747-A82F-FAA02959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A7F1-0936-486A-A347-3F789CA95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1835280" y="1989000"/>
            <a:ext cx="54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华文中宋"/>
                <a:ea typeface="华文中宋"/>
              </a:rPr>
              <a:t>树和喜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4264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1001271836226f0bec6542b08f"/>
          <p:cNvPicPr/>
          <p:nvPr/>
        </p:nvPicPr>
        <p:blipFill>
          <a:blip r:embed="rId1"/>
          <a:stretch/>
        </p:blipFill>
        <p:spPr>
          <a:xfrm>
            <a:off x="2708280" y="3508200"/>
            <a:ext cx="6435720" cy="334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1172253757"/>
          <p:cNvPicPr/>
          <p:nvPr/>
        </p:nvPicPr>
        <p:blipFill>
          <a:blip r:embed="rId2"/>
          <a:stretch/>
        </p:blipFill>
        <p:spPr>
          <a:xfrm>
            <a:off x="0" y="0"/>
            <a:ext cx="5796000" cy="349092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1"/>
          <p:cNvSpPr/>
          <p:nvPr/>
        </p:nvSpPr>
        <p:spPr>
          <a:xfrm>
            <a:off x="3301920" y="3108240"/>
            <a:ext cx="57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GJ}EVJ5MM3NGIDI(I3[BPG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2"/>
          <p:cNvGrpSpPr/>
          <p:nvPr/>
        </p:nvGrpSpPr>
        <p:grpSpPr>
          <a:xfrm>
            <a:off x="2509920" y="1916280"/>
            <a:ext cx="3887640" cy="3169800"/>
            <a:chOff x="2509920" y="1916280"/>
            <a:chExt cx="3887640" cy="3169800"/>
          </a:xfrm>
        </p:grpSpPr>
        <p:grpSp>
          <p:nvGrpSpPr>
            <p:cNvPr id="132" name="Group 5"/>
            <p:cNvGrpSpPr/>
            <p:nvPr/>
          </p:nvGrpSpPr>
          <p:grpSpPr>
            <a:xfrm>
              <a:off x="2509920" y="1916280"/>
              <a:ext cx="1295280" cy="1296720"/>
              <a:chOff x="2509920" y="1916280"/>
              <a:chExt cx="1295280" cy="1296720"/>
            </a:xfrm>
          </p:grpSpPr>
          <p:sp>
            <p:nvSpPr>
              <p:cNvPr id="133" name="Rectangle 6"/>
              <p:cNvSpPr/>
              <p:nvPr/>
            </p:nvSpPr>
            <p:spPr>
              <a:xfrm>
                <a:off x="2509920" y="1916280"/>
                <a:ext cx="1295280" cy="129528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7"/>
              <p:cNvSpPr/>
              <p:nvPr/>
            </p:nvSpPr>
            <p:spPr>
              <a:xfrm>
                <a:off x="2509920" y="2565360"/>
                <a:ext cx="12952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8"/>
              <p:cNvSpPr/>
              <p:nvPr/>
            </p:nvSpPr>
            <p:spPr>
              <a:xfrm>
                <a:off x="3157560" y="1916280"/>
                <a:ext cx="0" cy="129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9"/>
            <p:cNvGrpSpPr/>
            <p:nvPr/>
          </p:nvGrpSpPr>
          <p:grpSpPr>
            <a:xfrm>
              <a:off x="2509920" y="3789360"/>
              <a:ext cx="1295280" cy="1296720"/>
              <a:chOff x="2509920" y="3789360"/>
              <a:chExt cx="1295280" cy="1296720"/>
            </a:xfrm>
          </p:grpSpPr>
          <p:sp>
            <p:nvSpPr>
              <p:cNvPr id="137" name="Rectangle 10"/>
              <p:cNvSpPr/>
              <p:nvPr/>
            </p:nvSpPr>
            <p:spPr>
              <a:xfrm>
                <a:off x="2509920" y="3789360"/>
                <a:ext cx="1295280" cy="129528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>
                <a:off x="2509920" y="4438440"/>
                <a:ext cx="12952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2"/>
              <p:cNvSpPr/>
              <p:nvPr/>
            </p:nvSpPr>
            <p:spPr>
              <a:xfrm>
                <a:off x="3157560" y="3789360"/>
                <a:ext cx="0" cy="129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13"/>
            <p:cNvGrpSpPr/>
            <p:nvPr/>
          </p:nvGrpSpPr>
          <p:grpSpPr>
            <a:xfrm>
              <a:off x="5102280" y="1916280"/>
              <a:ext cx="1295280" cy="1296720"/>
              <a:chOff x="5102280" y="1916280"/>
              <a:chExt cx="1295280" cy="1296720"/>
            </a:xfrm>
          </p:grpSpPr>
          <p:sp>
            <p:nvSpPr>
              <p:cNvPr id="141" name="Rectangle 14"/>
              <p:cNvSpPr/>
              <p:nvPr/>
            </p:nvSpPr>
            <p:spPr>
              <a:xfrm>
                <a:off x="5102280" y="1916280"/>
                <a:ext cx="1295280" cy="129528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5102280" y="2565360"/>
                <a:ext cx="12952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6"/>
              <p:cNvSpPr/>
              <p:nvPr/>
            </p:nvSpPr>
            <p:spPr>
              <a:xfrm>
                <a:off x="5749920" y="1916280"/>
                <a:ext cx="0" cy="129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17"/>
            <p:cNvGrpSpPr/>
            <p:nvPr/>
          </p:nvGrpSpPr>
          <p:grpSpPr>
            <a:xfrm>
              <a:off x="5102280" y="3716280"/>
              <a:ext cx="1295280" cy="1296720"/>
              <a:chOff x="5102280" y="3716280"/>
              <a:chExt cx="1295280" cy="1296720"/>
            </a:xfrm>
          </p:grpSpPr>
          <p:sp>
            <p:nvSpPr>
              <p:cNvPr id="145" name="Rectangle 18"/>
              <p:cNvSpPr/>
              <p:nvPr/>
            </p:nvSpPr>
            <p:spPr>
              <a:xfrm>
                <a:off x="5102280" y="3716280"/>
                <a:ext cx="1295280" cy="129528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5102280" y="4365360"/>
                <a:ext cx="12952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20"/>
              <p:cNvSpPr/>
              <p:nvPr/>
            </p:nvSpPr>
            <p:spPr>
              <a:xfrm>
                <a:off x="5749920" y="3716280"/>
                <a:ext cx="0" cy="129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Text Box 21"/>
          <p:cNvSpPr/>
          <p:nvPr/>
        </p:nvSpPr>
        <p:spPr>
          <a:xfrm>
            <a:off x="1606680" y="1860480"/>
            <a:ext cx="5905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   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   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D456-71A9-41C6-8415-9A89DC8877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1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24课"/>
          <p:cNvPicPr/>
          <p:nvPr/>
        </p:nvPicPr>
        <p:blipFill>
          <a:blip r:embed="rId3"/>
          <a:stretch/>
        </p:blipFill>
        <p:spPr>
          <a:xfrm>
            <a:off x="4643280" y="1384200"/>
            <a:ext cx="40816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备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课文，做到正确、流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反复读课文，识记不认识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前，树和喜鹊为什么会感到孤独？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后来，是什么原因使树和喜鹊变得快乐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084680" y="1082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从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761200" y="1082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喜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742280" y="1082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鸟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693120" y="1158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一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008360" y="2530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楷体_GB2312"/>
              </a:rPr>
              <a:t>只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37160" y="2454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楷体_GB2312"/>
              </a:rPr>
              <a:t>孤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910400" y="250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楷体_GB2312"/>
              </a:rPr>
              <a:t>后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663240" y="2432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楷体_GB2312"/>
              </a:rPr>
              <a:t>这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008360" y="3902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761200" y="3902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邻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834440" y="3879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每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647400" y="3902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招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054080" y="5045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837160" y="5045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4818600" y="5045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睡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6799680" y="5045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安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907200" y="73656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nɡ qiá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2702520" y="812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4558320" y="736560"/>
            <a:ext cx="11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ǎ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622200" y="81288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942120" y="210816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hǐyǒ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2798280" y="21081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ɡ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ā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4724280" y="21337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ò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á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5"/>
          <p:cNvSpPr/>
          <p:nvPr/>
        </p:nvSpPr>
        <p:spPr>
          <a:xfrm>
            <a:off x="6665400" y="210816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h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"/>
          <p:cNvSpPr/>
          <p:nvPr/>
        </p:nvSpPr>
        <p:spPr>
          <a:xfrm>
            <a:off x="823680" y="355608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hǒn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2743200" y="358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8"/>
          <p:cNvSpPr/>
          <p:nvPr/>
        </p:nvSpPr>
        <p:spPr>
          <a:xfrm>
            <a:off x="4558320" y="3556080"/>
            <a:ext cx="11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ě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ā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9"/>
          <p:cNvSpPr/>
          <p:nvPr/>
        </p:nvSpPr>
        <p:spPr>
          <a:xfrm>
            <a:off x="6469560" y="347976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hā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1026000" y="469908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1"/>
          <p:cNvSpPr/>
          <p:nvPr/>
        </p:nvSpPr>
        <p:spPr>
          <a:xfrm>
            <a:off x="2666880" y="472428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à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2"/>
          <p:cNvSpPr/>
          <p:nvPr/>
        </p:nvSpPr>
        <p:spPr>
          <a:xfrm>
            <a:off x="4496040" y="46483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uì jià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3"/>
          <p:cNvSpPr/>
          <p:nvPr/>
        </p:nvSpPr>
        <p:spPr>
          <a:xfrm>
            <a:off x="6699600" y="46990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ì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3059280" y="21621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199_1242629547a66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468360" y="981000"/>
            <a:ext cx="92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"/>
              </a:rPr>
              <a:t>从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，树很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"/>
              </a:rPr>
              <a:t>孤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，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"/>
              </a:rPr>
              <a:t>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也很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"/>
              </a:rPr>
              <a:t>孤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95280" y="2565360"/>
            <a:ext cx="64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"/>
              </a:rPr>
              <a:t>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来，这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"/>
              </a:rPr>
              <a:t>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种了好多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95280" y="3860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天黑了，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"/>
              </a:rPr>
              <a:t>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们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"/>
              </a:rPr>
              <a:t>安安静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地睡觉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9" descr="199_1242629530vUQ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1106280" y="3068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"/>
              </a:rPr>
              <a:t>喜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474640" y="1916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"/>
              </a:rPr>
              <a:t>从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106280" y="472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"/>
              </a:rPr>
              <a:t>孤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7730640" y="2703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"/>
              </a:rPr>
              <a:t>几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7588080" y="5373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"/>
              </a:rPr>
              <a:t>后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3266640" y="5373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"/>
              </a:rPr>
              <a:t>安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4635000" y="2997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"/>
              </a:rPr>
              <a:t>睡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580000" y="436572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"/>
              </a:rPr>
              <a:t>邻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365040" y="93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8280" y="54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983240" y="54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583440" y="54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259600" y="54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59000" y="1996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983240" y="2073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583440" y="2073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335920" y="2073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59000" y="3597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983240" y="35211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675240" y="3581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428080" y="3505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535320" y="4968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1983240" y="4968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3583440" y="4892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5412240" y="4892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382320" y="304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}ZJMVDZ1FDG]{FWXZVJ$U{J"/>
          <p:cNvPicPr/>
          <p:nvPr/>
        </p:nvPicPr>
        <p:blipFill>
          <a:blip r:embed="rId1"/>
          <a:stretch/>
        </p:blipFill>
        <p:spPr>
          <a:xfrm>
            <a:off x="0" y="3284640"/>
            <a:ext cx="3780000" cy="3573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[L%QNY7JNV_GUX$XUJA64QN"/>
          <p:cNvPicPr/>
          <p:nvPr/>
        </p:nvPicPr>
        <p:blipFill>
          <a:blip r:embed="rId2"/>
          <a:stretch/>
        </p:blipFill>
        <p:spPr>
          <a:xfrm>
            <a:off x="0" y="0"/>
            <a:ext cx="3780000" cy="321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{M~TGELN5{RK2C$)(QS_$)6"/>
          <p:cNvPicPr/>
          <p:nvPr/>
        </p:nvPicPr>
        <p:blipFill>
          <a:blip r:embed="rId3"/>
          <a:srcRect l="0" t="0" r="0" b="-61"/>
          <a:stretch/>
        </p:blipFill>
        <p:spPr>
          <a:xfrm>
            <a:off x="4535640" y="0"/>
            <a:ext cx="4608360" cy="3152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~)1O{RNKM]0`IFQ@)JFMQ9Q"/>
          <p:cNvPicPr/>
          <p:nvPr/>
        </p:nvPicPr>
        <p:blipFill>
          <a:blip r:embed="rId4"/>
          <a:stretch/>
        </p:blipFill>
        <p:spPr>
          <a:xfrm>
            <a:off x="4572000" y="3187800"/>
            <a:ext cx="45720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3FVAVTJF)(GDONO~62YHF(1"/>
          <p:cNvPicPr/>
          <p:nvPr/>
        </p:nvPicPr>
        <p:blipFill>
          <a:blip r:embed="rId1"/>
          <a:stretch/>
        </p:blipFill>
        <p:spPr>
          <a:xfrm>
            <a:off x="0" y="0"/>
            <a:ext cx="4562640" cy="371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LYJXLH5%XL7K}Z4EA%)JQM"/>
          <p:cNvPicPr/>
          <p:nvPr/>
        </p:nvPicPr>
        <p:blipFill>
          <a:blip r:embed="rId2"/>
          <a:stretch/>
        </p:blipFill>
        <p:spPr>
          <a:xfrm>
            <a:off x="4751280" y="3147840"/>
            <a:ext cx="439272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6:24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0:41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