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type.wav" ContentType="audio/x-wav"/>
  <Override PartName="/ppt/media/image7.jpeg" ContentType="image/jpeg"/>
  <Override PartName="/ppt/media/image18.png" ContentType="image/png"/>
  <Override PartName="/ppt/media/camera.wav" ContentType="audio/x-wav"/>
  <Override PartName="/ppt/media/image21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3.gif" ContentType="image/gif"/>
  <Override PartName="/ppt/media/image20.jpeg" ContentType="image/jpeg"/>
  <Override PartName="/ppt/media/image15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C8D7-B6CA-4F75-815D-51F065C34AC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7284-9FD0-4345-AF87-9B90F469E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3F7F-9A65-49E7-8378-A706DD690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E897-7723-4B98-BCAC-489CC0E33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5E16-E3A9-42B9-90B7-8D756CA0A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2C75-D349-4A4B-991D-B64B550E9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4BA7-4B62-4F3A-BB72-513020545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1589-C07C-41D0-8E37-BB5262F21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4752-897C-4D21-A4D4-89E1D82E2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754D-D14C-4143-AF07-075B64A7B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60FE-0F0E-4497-9223-7EF91E3D4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130F-1820-471D-81F4-500D5814D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7EF0-BCCD-46E3-A20F-29ED983EF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4A95-633C-4B47-A4BD-D81F010CD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F45D-DB91-4E38-A54A-F81BAA495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7367-388D-45E6-9F79-71B6B6D5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EE31-6C55-4762-92CB-612B552D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F243-866A-4027-813B-20B1AECF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54C-B521-4AA2-9166-6B3A4DF1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EFBB-E935-4E39-9949-AFCB524F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EB24-484F-4946-952D-2B3436D2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CB6B-EB54-461E-A6B8-6FFD6943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0E50-BF97-4D61-B543-7973B19D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375-0474-48EE-BD61-20288059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76C9-5F4E-494B-83FF-3CA96AE1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BD00-967B-4B98-A745-35B7969F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A881-347C-4ADD-B7E5-7B35B864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034E-1101-4F5B-88D1-F2FCC6DA17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9" descr="{4A0CB27D-44AC-480B-9951-56442F32768C}"/>
          <p:cNvPicPr/>
          <p:nvPr/>
        </p:nvPicPr>
        <p:blipFill>
          <a:blip r:embed="rId1"/>
          <a:srcRect l="1008" t="117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633240" y="2413080"/>
            <a:ext cx="7850520" cy="1008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  <a:ea typeface="黑体"/>
              </a:rPr>
              <a:t>16.</a:t>
            </a:r>
            <a:r>
              <a:rPr b="1" lang="zh-CN" sz="6000" spc="-1" strike="noStrike">
                <a:solidFill>
                  <a:srgbClr val="ff6600"/>
                </a:solidFill>
                <a:latin typeface="Times New Roman"/>
                <a:ea typeface="黑体"/>
              </a:rPr>
              <a:t>世界儿童和平条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792080" y="5300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Img209284069"/>
          <p:cNvPicPr/>
          <p:nvPr/>
        </p:nvPicPr>
        <p:blipFill>
          <a:blip r:embed="rId1"/>
          <a:stretch/>
        </p:blipFill>
        <p:spPr>
          <a:xfrm>
            <a:off x="755640" y="1268280"/>
            <a:ext cx="7488360" cy="502308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611280" y="993600"/>
            <a:ext cx="7632720" cy="581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他们那一双双渴望和平的眼睛</a:t>
            </a:r>
            <a:r>
              <a:rPr b="1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写满虔诚和期盼</a:t>
            </a:r>
            <a:r>
              <a:rPr b="1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1040780417iraqi"/>
          <p:cNvPicPr/>
          <p:nvPr/>
        </p:nvPicPr>
        <p:blipFill>
          <a:blip r:embed="rId1"/>
          <a:stretch/>
        </p:blipFill>
        <p:spPr>
          <a:xfrm>
            <a:off x="324000" y="2349360"/>
            <a:ext cx="2857320" cy="388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200301030009_42754"/>
          <p:cNvPicPr/>
          <p:nvPr/>
        </p:nvPicPr>
        <p:blipFill>
          <a:blip r:embed="rId2"/>
          <a:stretch/>
        </p:blipFill>
        <p:spPr>
          <a:xfrm>
            <a:off x="3276720" y="2349360"/>
            <a:ext cx="2798640" cy="388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mg209660325"/>
          <p:cNvPicPr/>
          <p:nvPr/>
        </p:nvPicPr>
        <p:blipFill>
          <a:blip r:embed="rId3"/>
          <a:stretch/>
        </p:blipFill>
        <p:spPr>
          <a:xfrm>
            <a:off x="6156360" y="2300400"/>
            <a:ext cx="2628720" cy="3865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08efdd79801a6b2031d73f395a2e7a55"/>
          <p:cNvPicPr/>
          <p:nvPr/>
        </p:nvPicPr>
        <p:blipFill>
          <a:blip r:embed="rId1"/>
          <a:stretch/>
        </p:blipFill>
        <p:spPr>
          <a:xfrm>
            <a:off x="179280" y="620640"/>
            <a:ext cx="4824360" cy="2954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b_14316_0605192338"/>
          <p:cNvPicPr/>
          <p:nvPr/>
        </p:nvPicPr>
        <p:blipFill>
          <a:blip r:embed="rId2"/>
          <a:stretch/>
        </p:blipFill>
        <p:spPr>
          <a:xfrm>
            <a:off x="4992840" y="620640"/>
            <a:ext cx="3971880" cy="590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U364P6T12D2133062F44DT20060330205356"/>
          <p:cNvPicPr/>
          <p:nvPr/>
        </p:nvPicPr>
        <p:blipFill>
          <a:blip r:embed="rId3"/>
          <a:stretch/>
        </p:blipFill>
        <p:spPr>
          <a:xfrm>
            <a:off x="179280" y="3573360"/>
            <a:ext cx="4824360" cy="2941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BAF9826-D13E"/>
          <p:cNvPicPr/>
          <p:nvPr/>
        </p:nvPicPr>
        <p:blipFill>
          <a:blip r:embed="rId1"/>
          <a:stretch/>
        </p:blipFill>
        <p:spPr>
          <a:xfrm>
            <a:off x="358920" y="692280"/>
            <a:ext cx="8785080" cy="5903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60744"/>
          <p:cNvPicPr/>
          <p:nvPr/>
        </p:nvPicPr>
        <p:blipFill>
          <a:blip r:embed="rId2"/>
          <a:stretch/>
        </p:blipFill>
        <p:spPr>
          <a:xfrm>
            <a:off x="7667640" y="5013360"/>
            <a:ext cx="1143000" cy="13334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468360" y="2276640"/>
            <a:ext cx="8928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们全世界的儿童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宣告未来的和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们想要一个没有战争和武器的星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556000" y="141300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习第一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get (18)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0" y="1341360"/>
            <a:ext cx="772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们要除掉疾病和破坏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们再也不要憎恨和饥饿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们不想无家可归，我们要废除这一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get (1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4643280" y="54936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武器  饥病   战争 破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476360" y="54936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·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一切”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706400" y="1197000"/>
            <a:ext cx="743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一节表现了孩子们对和平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们要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语气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908000" y="2924280"/>
            <a:ext cx="58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联系实际说说战争和武器会给人们带来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340000" y="4437000"/>
            <a:ext cx="4753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1979640" y="407664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文中的破折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4284720" y="-2430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想一想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1908000" y="1773360"/>
            <a:ext cx="19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强烈渴望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084720" y="17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强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5651640" y="414972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解释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1128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4" descr="g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84360" y="1773360"/>
            <a:ext cx="79912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们的大地给予我们足够的食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们将共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们的天空给予我们遍地的彩虹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们将保卫它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332000" y="549360"/>
            <a:ext cx="5976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411280" y="105264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学习第二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get (15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250920" y="765000"/>
            <a:ext cx="889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的河水给予我们不朽的生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将保持它们的洁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要共同游戏，共同欢笑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互相学习，一起探索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要提高大家的生活水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get (15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324000" y="836640"/>
            <a:ext cx="8135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让学生齐读第二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找出不理解的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611280" y="3284640"/>
            <a:ext cx="756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足够的食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的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·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遍地的彩虹”指的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节表达了儿童什么样的愿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755640" y="227664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思考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611280" y="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要求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1128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4" descr="g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684360" y="1700280"/>
            <a:ext cx="755964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们的理想是和平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现在的和平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永久的和平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们大家的和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187280" y="836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学习最后一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9" descr="{4A0CB27D-44AC-480B-9951-56442F32768C}"/>
          <p:cNvPicPr/>
          <p:nvPr/>
        </p:nvPicPr>
        <p:blipFill>
          <a:blip r:embed="rId1"/>
          <a:srcRect l="1008" t="117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115640" y="2205000"/>
            <a:ext cx="7201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能正确、流利、有感情地朗读课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认识</a:t>
            </a:r>
            <a:r>
              <a:rPr b="1" lang="en-US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个生字</a:t>
            </a:r>
            <a:r>
              <a:rPr b="1" lang="en-US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并会写</a:t>
            </a:r>
            <a:r>
              <a:rPr b="1" lang="en-US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个生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理解课文内容，理解</a:t>
            </a:r>
            <a:r>
              <a:rPr b="1" lang="en-US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儿童和平条约</a:t>
            </a:r>
            <a:r>
              <a:rPr b="1" lang="en-US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，并了解世界儿童渴望和平的美好心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2340000" y="1341360"/>
            <a:ext cx="21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目标</a:t>
            </a:r>
            <a:endParaRPr b="0" lang="en-US" sz="40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54" name="Picture 20" descr="60744"/>
          <p:cNvPicPr/>
          <p:nvPr/>
        </p:nvPicPr>
        <p:blipFill>
          <a:blip r:embed="rId2"/>
          <a:stretch/>
        </p:blipFill>
        <p:spPr>
          <a:xfrm>
            <a:off x="7236000" y="1052640"/>
            <a:ext cx="1143000" cy="1333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BAF9826-D13E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60744"/>
          <p:cNvPicPr/>
          <p:nvPr/>
        </p:nvPicPr>
        <p:blipFill>
          <a:blip r:embed="rId2"/>
          <a:stretch/>
        </p:blipFill>
        <p:spPr>
          <a:xfrm>
            <a:off x="7812000" y="4941720"/>
            <a:ext cx="1143000" cy="13338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1619280" y="1557360"/>
            <a:ext cx="7020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世界上的成年人和我们在一起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们丢掉的只是恐惧和悲伤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抓住我们的欢笑和想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在一起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和平就是可能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4" descr="g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719280" y="639720"/>
            <a:ext cx="770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·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学生齐读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·“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我们大家的和平”是什么意思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·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怎样做才能使真正的和平到来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5" descr="vp2005-shijianhua-050930-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395280" y="26208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思考</a:t>
            </a:r>
            <a:r>
              <a:rPr b="1" lang="en-US" sz="4000" spc="-1" strike="noStrike">
                <a:solidFill>
                  <a:srgbClr val="1f497d"/>
                </a:solidFill>
                <a:latin typeface="Times New Roman"/>
                <a:ea typeface="楷体_GB2312"/>
              </a:rPr>
              <a:t>·</a:t>
            </a:r>
            <a:r>
              <a:rPr b="1" lang="zh-CN" sz="40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讨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593640" y="2844720"/>
            <a:ext cx="7956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读了课文，你觉得宣告是什么意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全世界儿童向世界宣告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你从这个条约，想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vp2005-shijianhua-050930-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1116000" y="342900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未来的世界应该和平，没有战争、破坏、仇恨，人类应共享大自然的恩惠，共创美好的生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332000" y="90792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世界儿童向世界宣告了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vp2005-shijianhua-050930-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"/>
          <p:cNvSpPr/>
          <p:nvPr/>
        </p:nvSpPr>
        <p:spPr>
          <a:xfrm>
            <a:off x="971640" y="3429000"/>
            <a:ext cx="77770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写一篇学习之后的感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搜集资料，继续往下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全世界（亚洲、非洲</a:t>
            </a:r>
            <a:r>
              <a:rPr b="1" lang="en-US" sz="3200" spc="-1" strike="noStrike">
                <a:solidFill>
                  <a:srgbClr val="9966ff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）的儿童手拉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（               ）的儿童手拉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547640" y="260280"/>
            <a:ext cx="351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作业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get (14)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395280" y="404640"/>
            <a:ext cx="799164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 多音字组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1258920" y="1773360"/>
            <a:ext cx="7200720" cy="20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                )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539640" y="2421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427640" y="2349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5076720" y="1844640"/>
            <a:ext cx="316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ǐ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4" descr="get (14)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536400" y="692280"/>
            <a:ext cx="8064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出下面词语的反义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平（          ）洁净（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足够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拼音写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 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    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 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   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  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 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    )   (               )   (              ) (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1"/>
          <p:cNvSpPr/>
          <p:nvPr/>
        </p:nvSpPr>
        <p:spPr>
          <a:xfrm>
            <a:off x="1278000" y="5102280"/>
            <a:ext cx="65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4" descr="get (18)"/>
          <p:cNvPicPr/>
          <p:nvPr/>
        </p:nvPicPr>
        <p:blipFill>
          <a:blip r:embed="rId1"/>
          <a:stretch/>
        </p:blipFill>
        <p:spPr>
          <a:xfrm>
            <a:off x="0" y="-162000"/>
            <a:ext cx="9539280" cy="7020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533520" y="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0" y="0"/>
            <a:ext cx="8763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写出四个表示“恐惧”的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      ）（       ）（      ）（      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0" y="1700280"/>
            <a:ext cx="8458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篇课文通过写少年儿童（              ）战争，维护（               ）的做法和希望，表达了世界儿童（                         ）的美好心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2801-9060-46DB-9BB5-70E4753876F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4" descr="{4A0CB27D-44AC-480B-9951-56442F32768C}"/>
          <p:cNvPicPr/>
          <p:nvPr/>
        </p:nvPicPr>
        <p:blipFill>
          <a:blip r:embed="rId1"/>
          <a:srcRect l="1008" t="117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5" descr="60744"/>
          <p:cNvPicPr/>
          <p:nvPr/>
        </p:nvPicPr>
        <p:blipFill>
          <a:blip r:embed="rId2"/>
          <a:stretch/>
        </p:blipFill>
        <p:spPr>
          <a:xfrm>
            <a:off x="7236000" y="1052640"/>
            <a:ext cx="1143000" cy="1333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332000" y="2206800"/>
            <a:ext cx="4248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疾               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探               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221440" y="220356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Calibri"/>
              </a:rPr>
              <a:t>yǔ</a:t>
            </a:r>
            <a:r>
              <a:rPr b="1" lang="zh-CN" sz="3200" spc="-1" strike="noStrike">
                <a:solidFill>
                  <a:srgbClr val="ff33cc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766880" y="220356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Calibri"/>
              </a:rPr>
              <a:t>jí</a:t>
            </a:r>
            <a:r>
              <a:rPr b="1" lang="zh-CN" sz="3200" spc="-1" strike="noStrike">
                <a:solidFill>
                  <a:srgbClr val="ff33cc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846520" y="220356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疾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446880" y="22035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给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8"/>
          <p:cNvSpPr txBox="1"/>
          <p:nvPr/>
        </p:nvSpPr>
        <p:spPr>
          <a:xfrm>
            <a:off x="2484360" y="1125360"/>
            <a:ext cx="2808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生字学习</a:t>
            </a:r>
            <a:endParaRPr b="0" lang="en-US" sz="40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619280" y="37116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Calibri"/>
              </a:rPr>
              <a:t>t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33cc"/>
                </a:solidFill>
                <a:latin typeface="Calibri"/>
              </a:rPr>
              <a:t>n</a:t>
            </a:r>
            <a:r>
              <a:rPr b="1" lang="zh-CN" sz="3200" spc="-1" strike="noStrike">
                <a:solidFill>
                  <a:srgbClr val="ff33cc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2844720" y="37116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探望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5005440" y="37116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Calibri"/>
              </a:rPr>
              <a:t>kǒng</a:t>
            </a:r>
            <a:r>
              <a:rPr b="1" lang="zh-CN" sz="3200" spc="-1" strike="noStrike">
                <a:solidFill>
                  <a:srgbClr val="ff33cc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6445080" y="371160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恐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1622520" y="51544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Calibri"/>
              </a:rPr>
              <a:t>jù</a:t>
            </a:r>
            <a:r>
              <a:rPr b="1" lang="zh-CN" sz="3200" spc="-1" strike="noStrike">
                <a:solidFill>
                  <a:srgbClr val="ff33cc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2844720" y="51544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惧怕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5" descr="{4A0CB27D-44AC-480B-9951-56442F32768C}"/>
          <p:cNvPicPr/>
          <p:nvPr/>
        </p:nvPicPr>
        <p:blipFill>
          <a:blip r:embed="rId1"/>
          <a:srcRect l="1008" t="1176" r="0" b="0"/>
          <a:stretch/>
        </p:blipFill>
        <p:spPr>
          <a:xfrm>
            <a:off x="468360" y="836640"/>
            <a:ext cx="8245440" cy="5564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6" descr="60744"/>
          <p:cNvPicPr/>
          <p:nvPr/>
        </p:nvPicPr>
        <p:blipFill>
          <a:blip r:embed="rId2"/>
          <a:stretch/>
        </p:blipFill>
        <p:spPr>
          <a:xfrm>
            <a:off x="7236000" y="1197000"/>
            <a:ext cx="1143000" cy="133344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3"/>
          <p:cNvGrpSpPr/>
          <p:nvPr/>
        </p:nvGrpSpPr>
        <p:grpSpPr>
          <a:xfrm>
            <a:off x="3205080" y="2060640"/>
            <a:ext cx="1224000" cy="1224000"/>
            <a:chOff x="3205080" y="2060640"/>
            <a:chExt cx="1224000" cy="1224000"/>
          </a:xfrm>
        </p:grpSpPr>
        <p:sp>
          <p:nvSpPr>
            <p:cNvPr id="72" name="Rectangle 4"/>
            <p:cNvSpPr/>
            <p:nvPr/>
          </p:nvSpPr>
          <p:spPr>
            <a:xfrm>
              <a:off x="3205080" y="20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"/>
            <p:cNvSpPr/>
            <p:nvPr/>
          </p:nvSpPr>
          <p:spPr>
            <a:xfrm flipH="1">
              <a:off x="3205080" y="26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3817440" y="2090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7"/>
          <p:cNvGrpSpPr/>
          <p:nvPr/>
        </p:nvGrpSpPr>
        <p:grpSpPr>
          <a:xfrm>
            <a:off x="4429080" y="2060640"/>
            <a:ext cx="1224000" cy="1224000"/>
            <a:chOff x="4429080" y="2060640"/>
            <a:chExt cx="1224000" cy="1224000"/>
          </a:xfrm>
        </p:grpSpPr>
        <p:sp>
          <p:nvSpPr>
            <p:cNvPr id="76" name="Rectangle 8"/>
            <p:cNvSpPr/>
            <p:nvPr/>
          </p:nvSpPr>
          <p:spPr>
            <a:xfrm>
              <a:off x="4429080" y="20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9"/>
            <p:cNvSpPr/>
            <p:nvPr/>
          </p:nvSpPr>
          <p:spPr>
            <a:xfrm flipH="1">
              <a:off x="4429080" y="26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0"/>
            <p:cNvSpPr/>
            <p:nvPr/>
          </p:nvSpPr>
          <p:spPr>
            <a:xfrm>
              <a:off x="5041440" y="2090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5653080" y="2060640"/>
            <a:ext cx="1224000" cy="1224000"/>
            <a:chOff x="5653080" y="2060640"/>
            <a:chExt cx="1224000" cy="1224000"/>
          </a:xfrm>
        </p:grpSpPr>
        <p:sp>
          <p:nvSpPr>
            <p:cNvPr id="80" name="Rectangle 12"/>
            <p:cNvSpPr/>
            <p:nvPr/>
          </p:nvSpPr>
          <p:spPr>
            <a:xfrm>
              <a:off x="5653080" y="20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3"/>
            <p:cNvSpPr/>
            <p:nvPr/>
          </p:nvSpPr>
          <p:spPr>
            <a:xfrm flipH="1">
              <a:off x="5653080" y="26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4"/>
            <p:cNvSpPr/>
            <p:nvPr/>
          </p:nvSpPr>
          <p:spPr>
            <a:xfrm>
              <a:off x="6265440" y="2090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5"/>
          <p:cNvGrpSpPr/>
          <p:nvPr/>
        </p:nvGrpSpPr>
        <p:grpSpPr>
          <a:xfrm>
            <a:off x="1979640" y="2060640"/>
            <a:ext cx="1224000" cy="1224000"/>
            <a:chOff x="1979640" y="2060640"/>
            <a:chExt cx="1224000" cy="1224000"/>
          </a:xfrm>
        </p:grpSpPr>
        <p:sp>
          <p:nvSpPr>
            <p:cNvPr id="84" name="Rectangle 16"/>
            <p:cNvSpPr/>
            <p:nvPr/>
          </p:nvSpPr>
          <p:spPr>
            <a:xfrm>
              <a:off x="1979640" y="20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7"/>
            <p:cNvSpPr/>
            <p:nvPr/>
          </p:nvSpPr>
          <p:spPr>
            <a:xfrm flipH="1">
              <a:off x="1979640" y="26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8"/>
            <p:cNvSpPr/>
            <p:nvPr/>
          </p:nvSpPr>
          <p:spPr>
            <a:xfrm>
              <a:off x="2592000" y="2090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41"/>
          <p:cNvGrpSpPr/>
          <p:nvPr/>
        </p:nvGrpSpPr>
        <p:grpSpPr>
          <a:xfrm>
            <a:off x="3205080" y="3716280"/>
            <a:ext cx="1224000" cy="1224000"/>
            <a:chOff x="3205080" y="3716280"/>
            <a:chExt cx="1224000" cy="1224000"/>
          </a:xfrm>
        </p:grpSpPr>
        <p:sp>
          <p:nvSpPr>
            <p:cNvPr id="88" name="Rectangle 42"/>
            <p:cNvSpPr/>
            <p:nvPr/>
          </p:nvSpPr>
          <p:spPr>
            <a:xfrm>
              <a:off x="3205080" y="3716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3"/>
            <p:cNvSpPr/>
            <p:nvPr/>
          </p:nvSpPr>
          <p:spPr>
            <a:xfrm flipH="1">
              <a:off x="3205080" y="4328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4"/>
            <p:cNvSpPr/>
            <p:nvPr/>
          </p:nvSpPr>
          <p:spPr>
            <a:xfrm>
              <a:off x="3817440" y="374652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45"/>
          <p:cNvGrpSpPr/>
          <p:nvPr/>
        </p:nvGrpSpPr>
        <p:grpSpPr>
          <a:xfrm>
            <a:off x="1979640" y="3716280"/>
            <a:ext cx="1224000" cy="1224000"/>
            <a:chOff x="1979640" y="3716280"/>
            <a:chExt cx="1224000" cy="1224000"/>
          </a:xfrm>
        </p:grpSpPr>
        <p:sp>
          <p:nvSpPr>
            <p:cNvPr id="92" name="Rectangle 46"/>
            <p:cNvSpPr/>
            <p:nvPr/>
          </p:nvSpPr>
          <p:spPr>
            <a:xfrm>
              <a:off x="1979640" y="3716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47"/>
            <p:cNvSpPr/>
            <p:nvPr/>
          </p:nvSpPr>
          <p:spPr>
            <a:xfrm flipH="1">
              <a:off x="1979640" y="4328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48"/>
            <p:cNvSpPr/>
            <p:nvPr/>
          </p:nvSpPr>
          <p:spPr>
            <a:xfrm>
              <a:off x="2592000" y="374652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49"/>
          <p:cNvGrpSpPr/>
          <p:nvPr/>
        </p:nvGrpSpPr>
        <p:grpSpPr>
          <a:xfrm>
            <a:off x="5653080" y="3716280"/>
            <a:ext cx="1224000" cy="1224000"/>
            <a:chOff x="5653080" y="3716280"/>
            <a:chExt cx="1224000" cy="1224000"/>
          </a:xfrm>
        </p:grpSpPr>
        <p:sp>
          <p:nvSpPr>
            <p:cNvPr id="96" name="Rectangle 50"/>
            <p:cNvSpPr/>
            <p:nvPr/>
          </p:nvSpPr>
          <p:spPr>
            <a:xfrm>
              <a:off x="5653080" y="3716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51"/>
            <p:cNvSpPr/>
            <p:nvPr/>
          </p:nvSpPr>
          <p:spPr>
            <a:xfrm flipH="1">
              <a:off x="5653080" y="4328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2"/>
            <p:cNvSpPr/>
            <p:nvPr/>
          </p:nvSpPr>
          <p:spPr>
            <a:xfrm>
              <a:off x="6265440" y="374652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53"/>
          <p:cNvGrpSpPr/>
          <p:nvPr/>
        </p:nvGrpSpPr>
        <p:grpSpPr>
          <a:xfrm>
            <a:off x="4429080" y="3716280"/>
            <a:ext cx="1224000" cy="1224000"/>
            <a:chOff x="4429080" y="3716280"/>
            <a:chExt cx="1224000" cy="1224000"/>
          </a:xfrm>
        </p:grpSpPr>
        <p:sp>
          <p:nvSpPr>
            <p:cNvPr id="100" name="Rectangle 54"/>
            <p:cNvSpPr/>
            <p:nvPr/>
          </p:nvSpPr>
          <p:spPr>
            <a:xfrm>
              <a:off x="4429080" y="3716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5"/>
            <p:cNvSpPr/>
            <p:nvPr/>
          </p:nvSpPr>
          <p:spPr>
            <a:xfrm flipH="1">
              <a:off x="4429080" y="4328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56"/>
            <p:cNvSpPr/>
            <p:nvPr/>
          </p:nvSpPr>
          <p:spPr>
            <a:xfrm>
              <a:off x="5041440" y="374652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61"/>
          <p:cNvSpPr/>
          <p:nvPr/>
        </p:nvSpPr>
        <p:spPr>
          <a:xfrm>
            <a:off x="1979640" y="371628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Calibri"/>
                <a:ea typeface="楷体_GB2312"/>
              </a:rPr>
              <a:t>予探恐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1979640" y="213372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Calibri"/>
                <a:ea typeface="楷体_GB2312"/>
              </a:rPr>
              <a:t>宣疾仇归</a:t>
            </a:r>
            <a:r>
              <a:rPr b="0" lang="zh-CN" sz="7200" spc="-1" strike="noStrike">
                <a:solidFill>
                  <a:srgbClr val="ff3300"/>
                </a:solidFill>
                <a:latin typeface="Calibri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9"/>
          <p:cNvSpPr/>
          <p:nvPr/>
        </p:nvSpPr>
        <p:spPr>
          <a:xfrm>
            <a:off x="2843280" y="907920"/>
            <a:ext cx="33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Arial"/>
              </a:rPr>
              <a:t>掌握生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blinds dir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3"/>
          <p:cNvSpPr/>
          <p:nvPr/>
        </p:nvSpPr>
        <p:spPr>
          <a:xfrm>
            <a:off x="985680" y="2924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106"/>
          <p:cNvPicPr/>
          <p:nvPr/>
        </p:nvPicPr>
        <p:blipFill>
          <a:blip r:embed="rId1"/>
          <a:stretch/>
        </p:blipFill>
        <p:spPr>
          <a:xfrm>
            <a:off x="539640" y="1027080"/>
            <a:ext cx="3818160" cy="48974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4427640" y="836640"/>
            <a:ext cx="4535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25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日，世界各国的儿童代表共聚美国纽约，分别代表本国儿童共同签定</a:t>
            </a: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儿童和平条约</a:t>
            </a: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，表达世界儿童渴望和平的美好心愿。石家庄市刘玲同学代表中国儿童在纽约法拉兴草坪公园举行的</a:t>
            </a: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儿童和平条约</a:t>
            </a: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签字仪式上签了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dur="indefinite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75112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035440" y="177336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看看战争给人们带来的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爆炸之后 "/>
          <p:cNvPicPr/>
          <p:nvPr/>
        </p:nvPicPr>
        <p:blipFill>
          <a:blip r:embed="rId1"/>
          <a:stretch/>
        </p:blipFill>
        <p:spPr>
          <a:xfrm>
            <a:off x="0" y="-125280"/>
            <a:ext cx="9144000" cy="7110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1835280" y="476280"/>
            <a:ext cx="34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ff"/>
                </a:solidFill>
                <a:latin typeface="Arial"/>
                <a:ea typeface="楷体_GB2312"/>
              </a:rPr>
              <a:t>爆炸之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名利比里亚政府军士兵奋力保卫一座桥梁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684360" y="47628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利比里亚政府军士兵奋力保卫一座桥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0304070340140407zx"/>
          <p:cNvPicPr/>
          <p:nvPr/>
        </p:nvPicPr>
        <p:blipFill>
          <a:blip r:embed="rId1"/>
          <a:stretch/>
        </p:blipFill>
        <p:spPr>
          <a:xfrm>
            <a:off x="6156360" y="3500280"/>
            <a:ext cx="2879640" cy="302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iraq20030514l"/>
          <p:cNvPicPr/>
          <p:nvPr/>
        </p:nvPicPr>
        <p:blipFill>
          <a:blip r:embed="rId2"/>
          <a:stretch/>
        </p:blipFill>
        <p:spPr>
          <a:xfrm>
            <a:off x="539640" y="920880"/>
            <a:ext cx="3095640" cy="2579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20051027145702191409491"/>
          <p:cNvPicPr/>
          <p:nvPr/>
        </p:nvPicPr>
        <p:blipFill>
          <a:blip r:embed="rId3"/>
          <a:stretch/>
        </p:blipFill>
        <p:spPr>
          <a:xfrm>
            <a:off x="3635280" y="620640"/>
            <a:ext cx="5329440" cy="2881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Img209284065"/>
          <p:cNvPicPr/>
          <p:nvPr/>
        </p:nvPicPr>
        <p:blipFill>
          <a:blip r:embed="rId4"/>
          <a:stretch/>
        </p:blipFill>
        <p:spPr>
          <a:xfrm>
            <a:off x="179280" y="3489480"/>
            <a:ext cx="6121440" cy="3035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539640" y="2421000"/>
            <a:ext cx="2664000" cy="1556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当他们的鲜血染红大地</a:t>
            </a:r>
            <a:r>
              <a:rPr b="1" lang="en-US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谁的心可以坦然面对</a:t>
            </a:r>
            <a:r>
              <a:rPr b="1" lang="en-US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5940360" y="2492280"/>
            <a:ext cx="2664000" cy="10688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面队如此的一双双眼睛</a:t>
            </a:r>
            <a:r>
              <a:rPr b="1" lang="en-US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谁的心可以无动于衷</a:t>
            </a:r>
            <a:r>
              <a:rPr b="1" lang="en-US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"/>
                            </p:stCondLst>
                            <p:childTnLst>
                              <p:par>
                                <p:cTn id="186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07:17:0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4:03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