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8380-6528-4E2C-B9C5-0FE62B59CD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4FE5-0C70-4205-B099-8B3EB6673F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230C-1E79-49B5-90DA-47DE9F1B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1E8-F6E1-4AB1-B3AC-FA75625E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239-61D6-4A17-AA76-FADAFEB7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10C4-4472-4B0D-88AD-00DC19F0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B0B-A68A-4DC8-A19D-FFB3F315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D63-B8FE-4448-B454-6FFFF4B5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D00-0B47-439D-92F4-33100B63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3F0B-B710-4338-B6CD-BFE9EC70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322-E180-4973-9305-D5253220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89F7-F890-44EA-BC63-4983D1A2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E05-793B-4A19-A662-AC73D683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87C1-3A49-417C-A27C-A2DFAB1E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B8ED-17E0-411F-972C-7FDD4E57D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4356000" y="765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湘教版一年级语文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971640" y="270828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善 良 的 孩 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442520" y="568476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61272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3068640"/>
            <a:ext cx="69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认为“善良”指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活中你做过哪些善良的事情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2268360" y="1413000"/>
            <a:ext cx="46800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FC40-1C12-465E-90EB-D62645D3DBD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识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角色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体会男孩的善良，懂得应做一个心地善良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8"/>
          <p:cNvSpPr/>
          <p:nvPr/>
        </p:nvSpPr>
        <p:spPr>
          <a:xfrm>
            <a:off x="1908000" y="2997360"/>
            <a:ext cx="60501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传      掉     星    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灭     赶      别     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1979640" y="2492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1619280" y="2276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u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3276720" y="2276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di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4572000" y="2276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xī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0360" y="234936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zh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169236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mi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205080" y="422748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g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4048200" y="544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4716360" y="422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bi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012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su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21"/>
          <p:cNvSpPr txBox="1"/>
          <p:nvPr/>
        </p:nvSpPr>
        <p:spPr>
          <a:xfrm>
            <a:off x="3429000" y="1125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生字大盘点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文本框 1"/>
          <p:cNvSpPr/>
          <p:nvPr/>
        </p:nvSpPr>
        <p:spPr>
          <a:xfrm>
            <a:off x="1127160" y="5902200"/>
            <a:ext cx="62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8"/>
          <p:cNvSpPr/>
          <p:nvPr/>
        </p:nvSpPr>
        <p:spPr>
          <a:xfrm>
            <a:off x="2195640" y="2781360"/>
            <a:ext cx="57261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善良   实现   愿望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掉下   传说   帮助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熄灭   赶紧   所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419640" y="134136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692280"/>
            <a:ext cx="4643280" cy="6165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4572000" cy="360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4643280" y="4292640"/>
            <a:ext cx="4500720" cy="2565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3564000" y="189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课文欣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3856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5508720" y="2240640"/>
            <a:ext cx="34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善良”是什么意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这个善良的孩子是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为什么说他是个善良的孩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580000" y="1197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1116000" y="285048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有个男孩，他有许多愿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愿望是什么？小男孩有些什么愿望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132000" y="162864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点句子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402920" y="184464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男孩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赶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他说：“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Arial"/>
              </a:rPr>
              <a:t>快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熄灭，你回天上找你的兄弟姐妹去吧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把句子中加横线的词去掉后，意思会有什么不同。从这里体会到了什么？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0"/>
          <p:cNvSpPr/>
          <p:nvPr/>
        </p:nvSpPr>
        <p:spPr>
          <a:xfrm>
            <a:off x="2484360" y="2349360"/>
            <a:ext cx="33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1476360" y="1341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想一想，说一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1979640" y="2924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星星飞回天空以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会对伙伴们说些什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6:11:33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23:39:29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