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6.jpeg" ContentType="image/jpeg"/>
  <Override PartName="/ppt/media/chimes.wav" ContentType="audio/x-wav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5916-DDA5-4442-818A-4BE28C5048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EA11-F5C7-4617-9090-2E33DDE416D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C8A-1336-42BC-9C75-8896ACFD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3861-66DF-41DF-B8B1-77B71FD4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A992-C501-43B9-AFB5-FA6A49AD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B7C-A659-49EF-BEC5-1675090C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255-A679-445B-9FD2-51EAC7C7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F11-6E2F-4197-BBAC-7ECEF4F4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8D1-D719-4F84-812D-D9498474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B8F1-47D2-4891-ADD0-005402B4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94B-E2E4-44E5-BE75-EB2B7791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6CF0-E4A6-4DF5-8C0A-03F2E7B5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87B5-3020-49B0-B506-57B8757E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1865-7360-4F7F-9946-A6F3B34E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D4B7-7AB6-45A1-A586-ED9E09158E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0914-85B8-478B-9C67-799CD11AA6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jpeg"/><Relationship Id="rId3" Type="http://schemas.openxmlformats.org/officeDocument/2006/relationships/image" Target="../media/image18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jpeg"/><Relationship Id="rId3" Type="http://schemas.openxmlformats.org/officeDocument/2006/relationships/image" Target="../media/image20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image" Target="../media/image25.wmf"/><Relationship Id="rId4" Type="http://schemas.openxmlformats.org/officeDocument/2006/relationships/image" Target="../media/image25.wmf"/><Relationship Id="rId5" Type="http://schemas.openxmlformats.org/officeDocument/2006/relationships/image" Target="../media/image25.wmf"/><Relationship Id="rId6" Type="http://schemas.openxmlformats.org/officeDocument/2006/relationships/image" Target="../media/image25.wmf"/><Relationship Id="rId7" Type="http://schemas.openxmlformats.org/officeDocument/2006/relationships/image" Target="../media/image25.wmf"/><Relationship Id="rId8" Type="http://schemas.openxmlformats.org/officeDocument/2006/relationships/image" Target="../media/image25.wmf"/><Relationship Id="rId9" Type="http://schemas.openxmlformats.org/officeDocument/2006/relationships/image" Target="../media/image25.wmf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612800" y="1008000"/>
            <a:ext cx="60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迷你简习字"/>
                <a:ea typeface="迷你简习字"/>
              </a:rPr>
              <a:t>21 </a:t>
            </a:r>
            <a:r>
              <a:rPr b="1" lang="zh-CN" sz="7200" spc="-1" strike="noStrike">
                <a:solidFill>
                  <a:srgbClr val="000000"/>
                </a:solidFill>
                <a:latin typeface="迷你简习字"/>
                <a:ea typeface="迷你简习字"/>
              </a:rPr>
              <a:t>森林旅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832400" y="604188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63454[1]"/>
          <p:cNvPicPr/>
          <p:nvPr/>
        </p:nvPicPr>
        <p:blipFill>
          <a:blip r:embed="rId1"/>
          <a:stretch/>
        </p:blipFill>
        <p:spPr>
          <a:xfrm>
            <a:off x="-334800" y="0"/>
            <a:ext cx="9478800" cy="7110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596960" y="3568680"/>
            <a:ext cx="62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迷你简中楷"/>
              </a:rPr>
              <a:t>团团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迷你简中楷"/>
              </a:rPr>
              <a:t>帮帮忙 动动手 点点头 散散步 见见面 拍拍手 打打球 叮叮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84360" y="1584360"/>
            <a:ext cx="653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迷你简中楷"/>
              </a:rPr>
              <a:t>来来往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迷你简中楷"/>
              </a:rPr>
              <a:t>安安静静 干干净净 风风雨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迷你简中楷"/>
              </a:rPr>
              <a:t>红红火火 明明白白 整整齐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迷你简中楷"/>
              </a:rPr>
              <a:t>方方面面 欢欢喜喜 快快乐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兔子2"/>
          <p:cNvPicPr/>
          <p:nvPr/>
        </p:nvPicPr>
        <p:blipFill>
          <a:blip r:embed="rId1"/>
          <a:stretch/>
        </p:blipFill>
        <p:spPr>
          <a:xfrm>
            <a:off x="5369040" y="4680"/>
            <a:ext cx="4529160" cy="33973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3"/>
          <p:cNvSpPr/>
          <p:nvPr/>
        </p:nvSpPr>
        <p:spPr>
          <a:xfrm>
            <a:off x="3630600" y="-54000"/>
            <a:ext cx="3325680" cy="1841400"/>
          </a:xfrm>
          <a:prstGeom prst="cloudCallout">
            <a:avLst>
              <a:gd name="adj1" fmla="val 42018"/>
              <a:gd name="adj2" fmla="val 71226"/>
            </a:avLst>
          </a:prstGeom>
          <a:solidFill>
            <a:srgbClr val="ffcc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你觉得这个旅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怎么样？小兔子怎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觉得的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-15840" y="-54000"/>
            <a:ext cx="388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兔想为大家服务，就仿照人类的宾馆，办起了森林旅店。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每个房间里放着床，摆着白被子、花枕头，漂亮极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森林旅店开业那天，许多旅客来住宿，把小兔忙得团团转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71680" y="5187960"/>
            <a:ext cx="79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第二天，小兔打开“旅客意见簿”，满以为上面一定写着一大堆表扬的话。出乎意料，旅客们的批评意见多着呢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2147760" y="4149720"/>
            <a:ext cx="48085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可是结果怎么样呢？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封面 动物"/>
          <p:cNvPicPr/>
          <p:nvPr/>
        </p:nvPicPr>
        <p:blipFill>
          <a:blip r:embed="rId1"/>
          <a:stretch/>
        </p:blipFill>
        <p:spPr>
          <a:xfrm>
            <a:off x="3441600" y="1268280"/>
            <a:ext cx="5257800" cy="4907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u=1317434218,640374131&amp;fm=21&amp;gp=0[1]"/>
          <p:cNvPicPr/>
          <p:nvPr/>
        </p:nvPicPr>
        <p:blipFill>
          <a:blip r:embed="rId2"/>
          <a:stretch/>
        </p:blipFill>
        <p:spPr>
          <a:xfrm>
            <a:off x="708120" y="3670200"/>
            <a:ext cx="22287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846440" y="5359320"/>
            <a:ext cx="67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迷你简小标宋"/>
                <a:ea typeface="迷你简小标宋"/>
              </a:rPr>
              <a:t>　　“我们长颈鹿是高个子，房间太矮，连脖子都无法伸直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076560" y="1271520"/>
            <a:ext cx="44751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长颈鹿，有森林旅店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你应该住得很开心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u=1317434218,640374131&amp;fm=21&amp;gp=0[1]"/>
          <p:cNvPicPr/>
          <p:nvPr/>
        </p:nvPicPr>
        <p:blipFill>
          <a:blip r:embed="rId2"/>
          <a:stretch/>
        </p:blipFill>
        <p:spPr>
          <a:xfrm>
            <a:off x="847800" y="577800"/>
            <a:ext cx="2228760" cy="2095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长颈鹿2"/>
          <p:cNvPicPr/>
          <p:nvPr/>
        </p:nvPicPr>
        <p:blipFill>
          <a:blip r:embed="rId3"/>
          <a:stretch/>
        </p:blipFill>
        <p:spPr>
          <a:xfrm>
            <a:off x="4308480" y="2363760"/>
            <a:ext cx="467676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71680" y="2590920"/>
            <a:ext cx="796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685960" y="936720"/>
            <a:ext cx="54579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狒狒，你的脖子不长，应该睡得很好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u=1317434218,640374131&amp;fm=21&amp;gp=0[1]"/>
          <p:cNvPicPr/>
          <p:nvPr/>
        </p:nvPicPr>
        <p:blipFill>
          <a:blip r:embed="rId2"/>
          <a:stretch/>
        </p:blipFill>
        <p:spPr>
          <a:xfrm>
            <a:off x="819000" y="297000"/>
            <a:ext cx="2229120" cy="20952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 flipV="1">
            <a:off x="2381400" y="4114440"/>
            <a:ext cx="6480000" cy="2449440"/>
          </a:xfrm>
          <a:prstGeom prst="cloudCallout">
            <a:avLst>
              <a:gd name="adj1" fmla="val -50652"/>
              <a:gd name="adj2" fmla="val -5971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小标宋"/>
                <a:ea typeface="迷你简小标宋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小标宋"/>
                <a:ea typeface="迷你简小标宋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迷你简小标宋"/>
                <a:ea typeface="迷你简小标宋"/>
              </a:rPr>
              <a:t>我们狒狒喜欢背靠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小标宋"/>
                <a:ea typeface="迷你简小标宋"/>
              </a:rPr>
              <a:t>坐在那里睡觉。我们不需要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小标宋"/>
                <a:ea typeface="迷你简小标宋"/>
              </a:rPr>
              <a:t>也不要被子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狒狒2"/>
          <p:cNvPicPr/>
          <p:nvPr/>
        </p:nvPicPr>
        <p:blipFill>
          <a:blip r:embed="rId3"/>
          <a:stretch/>
        </p:blipFill>
        <p:spPr>
          <a:xfrm>
            <a:off x="4897440" y="1790640"/>
            <a:ext cx="398628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85840" y="419040"/>
            <a:ext cx="7962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迷你简中黑"/>
              </a:rPr>
              <a:t>　　“我是蝙蝠，一向倒挂着睡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迷你简中黑"/>
              </a:rPr>
              <a:t>可是，在房间的天花板上，找不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迷你简中黑"/>
              </a:rPr>
              <a:t>地方倒挂，弄得我无法睡觉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362320" y="5595840"/>
            <a:ext cx="5457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蝙蝠个子小小的，应该没感到什么不舒服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u=1317434218,640374131&amp;fm=21&amp;gp=0[1]"/>
          <p:cNvPicPr/>
          <p:nvPr/>
        </p:nvPicPr>
        <p:blipFill>
          <a:blip r:embed="rId2"/>
          <a:stretch/>
        </p:blipFill>
        <p:spPr>
          <a:xfrm>
            <a:off x="496800" y="4635360"/>
            <a:ext cx="2228760" cy="2095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蝙蝠"/>
          <p:cNvPicPr/>
          <p:nvPr/>
        </p:nvPicPr>
        <p:blipFill>
          <a:blip r:embed="rId3"/>
          <a:stretch/>
        </p:blipFill>
        <p:spPr>
          <a:xfrm>
            <a:off x="3159000" y="1882800"/>
            <a:ext cx="281304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19200" y="3443400"/>
            <a:ext cx="796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685960" y="1300320"/>
            <a:ext cx="589608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大象，你总不要倒挂着睡觉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u=1317434218,640374131&amp;fm=21&amp;gp=0[1]"/>
          <p:cNvPicPr/>
          <p:nvPr/>
        </p:nvPicPr>
        <p:blipFill>
          <a:blip r:embed="rId2"/>
          <a:stretch/>
        </p:blipFill>
        <p:spPr>
          <a:xfrm>
            <a:off x="819000" y="297000"/>
            <a:ext cx="2229120" cy="20952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5"/>
          <p:cNvSpPr/>
          <p:nvPr/>
        </p:nvSpPr>
        <p:spPr>
          <a:xfrm>
            <a:off x="5718240" y="3821040"/>
            <a:ext cx="3395520" cy="3011400"/>
          </a:xfrm>
          <a:prstGeom prst="borderCallout1">
            <a:avLst>
              <a:gd name="adj1" fmla="val 18750"/>
              <a:gd name="adj2" fmla="val -8333"/>
              <a:gd name="adj3" fmla="val 112500"/>
              <a:gd name="adj4" fmla="val -833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迷你简中楷"/>
              </a:rPr>
              <a:t>  “</a:t>
            </a:r>
            <a:r>
              <a:rPr b="0" lang="zh-CN" sz="3600" spc="-1" strike="noStrike">
                <a:solidFill>
                  <a:srgbClr val="000000"/>
                </a:solidFill>
                <a:latin typeface="迷你简中楷"/>
              </a:rPr>
              <a:t>拖鞋太小，连我的一个脚趾都放不进去。请为我们大象着想吧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大象2"/>
          <p:cNvPicPr/>
          <p:nvPr/>
        </p:nvPicPr>
        <p:blipFill>
          <a:blip r:embed="rId3"/>
          <a:stretch/>
        </p:blipFill>
        <p:spPr>
          <a:xfrm>
            <a:off x="382680" y="2832120"/>
            <a:ext cx="53323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63d9f2d3572c11df1b30ffce622762d0f603c27e[1]"/>
          <p:cNvPicPr/>
          <p:nvPr/>
        </p:nvPicPr>
        <p:blipFill>
          <a:blip r:embed="rId1"/>
          <a:stretch/>
        </p:blipFill>
        <p:spPr>
          <a:xfrm>
            <a:off x="6480" y="14400"/>
            <a:ext cx="92041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3305160" y="971640"/>
            <a:ext cx="253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拖鞋太小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连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我的一个脚趾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都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放不进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487520" y="1817640"/>
            <a:ext cx="639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天气太热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20320" y="2631960"/>
            <a:ext cx="726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876400" y="3611520"/>
            <a:ext cx="2881080" cy="32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天气太热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连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马路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都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晒热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冬天太冷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连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我的耳朵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都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冻红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花儿太香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连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蝴蝶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都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过来跳舞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风太大了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连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树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都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被吹完了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雪太大了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连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屋顶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都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变成白色的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90400" y="2577960"/>
            <a:ext cx="7963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兔摇摇头，自言自语地说：“我好心为大家服务，没想到朋友们还有这么多不满意的地方呢！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2590920" y="4327560"/>
            <a:ext cx="3047760" cy="1143000"/>
          </a:xfrm>
          <a:prstGeom prst="cloudCallout">
            <a:avLst>
              <a:gd name="adj1" fmla="val -58541"/>
              <a:gd name="adj2" fmla="val 106944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兔怎样做才能让朋友满意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98560" y="563400"/>
            <a:ext cx="783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迷你简中楷"/>
              </a:rPr>
              <a:t>自言自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迷你简中楷"/>
              </a:rPr>
              <a:t>动手动脚 呆头呆脑 十全十美 一模一样 一生一世 各种各样 一五一十 无边无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4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912960" y="719280"/>
            <a:ext cx="747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迷你简中楷"/>
              </a:rPr>
              <a:t>来来往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迷你简中楷"/>
              </a:rPr>
              <a:t>安安静静 干干净净 风风雨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迷你简中楷"/>
              </a:rPr>
              <a:t>红红火火 明明白白 整整齐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迷你简中楷"/>
              </a:rPr>
              <a:t>方方面面 欢欢喜喜 快快乐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093680" y="2868480"/>
            <a:ext cx="783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迷你简中楷"/>
              </a:rPr>
              <a:t>自言自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迷你简中楷"/>
              </a:rPr>
              <a:t>动手动脚 呆头呆脑 十全十美 一模一样 一生一世 各种各样 一五一十 无边无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505240" y="4505400"/>
            <a:ext cx="620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迷你简中楷"/>
              </a:rPr>
              <a:t>团团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迷你简中楷"/>
              </a:rPr>
              <a:t>帮帮忙 动动手 点点头 散散步 见见面 拍拍手 打打球 叮叮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读一读，写一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wù   lèi  bīn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务   类   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máng biǎo  wú  xǐ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忙   表   无  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379520" y="1136520"/>
            <a:ext cx="6467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旅 馆  枕  宿 簿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151160" y="7430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zh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ě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279480" y="76212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770120" y="4011480"/>
            <a:ext cx="5895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颈  矮  拖  趾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371600" y="35812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ǐ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2286000" y="7621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ɡuǎ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534480" y="3581280"/>
            <a:ext cx="4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ǎ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5246640" y="35812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tu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838080" y="762120"/>
            <a:ext cx="7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l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585920" y="76212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7263360" y="358128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zh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ShockwaveFlash1" descr=""/>
          <p:cNvPicPr/>
          <p:nvPr/>
        </p:nvPicPr>
        <p:blipFill>
          <a:blip r:embed="rId2"/>
          <a:stretch/>
        </p:blipFill>
        <p:spPr>
          <a:xfrm>
            <a:off x="1066680" y="25146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ShockwaveFlash2" descr=""/>
          <p:cNvPicPr/>
          <p:nvPr/>
        </p:nvPicPr>
        <p:blipFill>
          <a:blip r:embed="rId3"/>
          <a:stretch/>
        </p:blipFill>
        <p:spPr>
          <a:xfrm>
            <a:off x="2438280" y="25146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ShockwaveFlash3" descr=""/>
          <p:cNvPicPr/>
          <p:nvPr/>
        </p:nvPicPr>
        <p:blipFill>
          <a:blip r:embed="rId4"/>
          <a:stretch/>
        </p:blipFill>
        <p:spPr>
          <a:xfrm>
            <a:off x="4343400" y="25146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ShockwaveFlash4" descr=""/>
          <p:cNvPicPr/>
          <p:nvPr/>
        </p:nvPicPr>
        <p:blipFill>
          <a:blip r:embed="rId5"/>
          <a:stretch/>
        </p:blipFill>
        <p:spPr>
          <a:xfrm>
            <a:off x="6324480" y="25146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33" name="ShockwaveFlash5" descr=""/>
          <p:cNvPicPr/>
          <p:nvPr/>
        </p:nvPicPr>
        <p:blipFill>
          <a:blip r:embed="rId6"/>
          <a:stretch/>
        </p:blipFill>
        <p:spPr>
          <a:xfrm>
            <a:off x="7543800" y="25146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34" name="ShockwaveFlash6" descr=""/>
          <p:cNvPicPr/>
          <p:nvPr/>
        </p:nvPicPr>
        <p:blipFill>
          <a:blip r:embed="rId7"/>
          <a:stretch/>
        </p:blipFill>
        <p:spPr>
          <a:xfrm>
            <a:off x="1523880" y="52578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35" name="ShockwaveFlash7" descr=""/>
          <p:cNvPicPr/>
          <p:nvPr/>
        </p:nvPicPr>
        <p:blipFill>
          <a:blip r:embed="rId8"/>
          <a:stretch/>
        </p:blipFill>
        <p:spPr>
          <a:xfrm>
            <a:off x="3505320" y="525780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36" name="ShockwaveFlash8" descr=""/>
          <p:cNvPicPr/>
          <p:nvPr/>
        </p:nvPicPr>
        <p:blipFill>
          <a:blip r:embed="rId9"/>
          <a:stretch/>
        </p:blipFill>
        <p:spPr>
          <a:xfrm>
            <a:off x="5410080" y="52578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37" name="ShockwaveFlash9" descr=""/>
          <p:cNvPicPr/>
          <p:nvPr/>
        </p:nvPicPr>
        <p:blipFill>
          <a:blip r:embed="rId10"/>
          <a:stretch/>
        </p:blipFill>
        <p:spPr>
          <a:xfrm>
            <a:off x="7315200" y="525780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FC0E-C24E-44CF-A2BB-30F9AC3433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059200" y="1584360"/>
            <a:ext cx="498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馆    枕头    住宿    意见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120760" y="3124080"/>
            <a:ext cx="475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拖鞋    服务   依照    长颈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103480" y="4495680"/>
            <a:ext cx="520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批评    伸直    表扬    出乎意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146160" y="582948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长颈鹿1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狒狒1 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蝙蝠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大象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10-14051515124T48[1]"/>
          <p:cNvPicPr/>
          <p:nvPr/>
        </p:nvPicPr>
        <p:blipFill>
          <a:blip r:embed="rId1"/>
          <a:stretch/>
        </p:blipFill>
        <p:spPr>
          <a:xfrm>
            <a:off x="1260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7200" y="2133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看到图片，你想到了什么？森林旅馆是谁开的？是什么样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71680" y="1066680"/>
            <a:ext cx="7962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森林里来来往往的旅客很多，可是没有一家旅店。大家都觉得很不方便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兔想为大家服务，就仿照人类的宾馆，办起了森林旅店。每个房间里放着床，摆着白被子、花枕头，漂亮极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森林旅店开业那天，许多旅客来住宿，把小兔忙得团团转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993840" y="304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森林旅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152280" y="304920"/>
            <a:ext cx="2971800" cy="761760"/>
          </a:xfrm>
          <a:prstGeom prst="wedgeRoundRectCallout">
            <a:avLst>
              <a:gd name="adj1" fmla="val -44069"/>
              <a:gd name="adj2" fmla="val 72083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从哪些地方可看出小兔是热心为大家服务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685800" y="3403440"/>
            <a:ext cx="7543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677880" y="3886200"/>
            <a:ext cx="4046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1352520" y="1608120"/>
            <a:ext cx="6877080" cy="158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>
            <a:off x="1562040" y="2981160"/>
            <a:ext cx="6324840" cy="0"/>
          </a:xfrm>
          <a:prstGeom prst="line">
            <a:avLst/>
          </a:prstGeom>
          <a:ln w="190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685800" y="2127240"/>
            <a:ext cx="5135400" cy="0"/>
          </a:xfrm>
          <a:prstGeom prst="line">
            <a:avLst/>
          </a:prstGeom>
          <a:ln w="190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1:22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