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080E-AF49-4C28-BC8C-9AFD3D985E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E46A-FF55-4D49-8FB2-4197AD44C1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D0B-992F-4F12-A652-D9BD120E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1E3-8AD4-42AE-A314-4D7CF49F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BFA-E608-47D2-825C-2AA5D083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834E-FAD3-4D28-9126-A8C9588C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BC0-9AEF-4968-9476-79BB1364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496-F5E8-4812-911F-CB8EA13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67B-1ED9-4D1B-9C40-4E2B968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85CA-C18C-4FF7-B2EE-85FB2378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E2A-7D96-48A5-86BE-07ED04DD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C1E-7699-4FC8-8577-ABC7D412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6D1-0012-42D4-8BDD-590DC67F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114-350D-42CF-B53E-86C69BD0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B62E-0471-4353-9077-173729BDF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64741.htm" TargetMode="External"/><Relationship Id="rId3" Type="http://schemas.openxmlformats.org/officeDocument/2006/relationships/hyperlink" Target="http://baike.baidu.com/view/6323.htm" TargetMode="External"/><Relationship Id="rId4" Type="http://schemas.openxmlformats.org/officeDocument/2006/relationships/hyperlink" Target="http://baike.baidu.com/view/1119631.ht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15  </a:t>
            </a: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黑体"/>
              </a:rPr>
              <a:t>森林气象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5068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28600" y="45720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什么麻雀在草地上跳来跳去，还在唱歌，就是晴天，而麻雀缩头缩脑，发出吱吱声，多半要下雨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因为天气晴朗，麻雀感觉舒服，就愿意多活动，而天要下雨前，麻雀感觉到气温下降，气压加大，它不舒服，所以就不愿意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麻雀1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麻雀2"/>
          <p:cNvPicPr/>
          <p:nvPr/>
        </p:nvPicPr>
        <p:blipFill>
          <a:blip r:embed="rId1"/>
          <a:stretch/>
        </p:blipFill>
        <p:spPr>
          <a:xfrm>
            <a:off x="0" y="0"/>
            <a:ext cx="10363320" cy="68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360" y="1066320"/>
            <a:ext cx="89917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为什么能根据乌鸦站的方向判断风向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乌鸦总是朝着风吹来的方向站着，这样可以让风顺着羽毛吹，保护羽毛不受损坏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渡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-360" y="3045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思维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当你来到森林里，你怎么才能知道天气情况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你还知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森林气象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的哪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象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它们是怎样预报天气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365760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708640" y="3124080"/>
            <a:ext cx="30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仔细观察“气象员”的预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00400" y="0"/>
            <a:ext cx="2286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动物与天气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1066680"/>
            <a:ext cx="8763120" cy="545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蜜蜂：“蜜蜂窝里叫，大雨就来到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蜜蜂不出窝，风雨快 如梭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蜜蜂采花忙，短期有雨降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蚊子：“蚊子集堂中，明朝带斗篷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蚊子乱咬人，不久雨来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蚊虫咬得凶，雨在三日中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蚊子咬的怪，天气要变坏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蚂蚁：“蚂蚁排成行，大雨茫茫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蚂蚁搬家，大雨哗哗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蚂蚁衔蛋跑，大雨就来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蚂蚁垒窝天将雨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28600" y="1143000"/>
            <a:ext cx="8915400" cy="53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蟋蟀：夜间蟋蟀高唱，第二天必是好天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蟋蟀上房叫，庄稼挨水泡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蜻蜓：如在空中上下飞窜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时左右将有大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蜻蜓千百绕，不日雨来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蜻蜓飞得低，出门带雨衣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蝉：  “知了鸣，天放晴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蝉儿叫叫停停，连阴雨将要来临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蜘蛛：“蜘蛛结网准送晴，蜘蛛收网准阴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鱼：   鱼儿出水跳，风雨就来到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2514600" y="0"/>
            <a:ext cx="2666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动物与天气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连一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麻雀缩头缩脑　　　　是晴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麻雀跳来跳去　　　　要下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乌鸦头朝东　　　　　刮南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乌鸦头朝南　　　　　刮东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3200400" y="2438280"/>
            <a:ext cx="1981080" cy="7621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200400" y="2514600"/>
            <a:ext cx="2057400" cy="8380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2666880" y="4114800"/>
            <a:ext cx="2514600" cy="9144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2666880" y="4191120"/>
            <a:ext cx="2590920" cy="8380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3048120" y="152280"/>
            <a:ext cx="2361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练一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读读下面的句子，再仿照着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是晴天，我就放风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下雨，我就采蘑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048120" y="152280"/>
            <a:ext cx="2361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练一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1114560" y="5821200"/>
            <a:ext cx="56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683145851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810960" y="5757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天气预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181480" y="0"/>
            <a:ext cx="2667240" cy="1008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气象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1297080" cy="136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152360" cy="98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1296720" cy="951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4716360" y="1700280"/>
            <a:ext cx="1297080" cy="1224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5"/>
          <a:stretch/>
        </p:blipFill>
        <p:spPr>
          <a:xfrm>
            <a:off x="250920" y="357336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6"/>
          <a:stretch/>
        </p:blipFill>
        <p:spPr>
          <a:xfrm>
            <a:off x="250920" y="537372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7"/>
          <a:stretch/>
        </p:blipFill>
        <p:spPr>
          <a:xfrm>
            <a:off x="4643280" y="115920"/>
            <a:ext cx="1441440" cy="1225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8"/>
          <a:stretch/>
        </p:blipFill>
        <p:spPr>
          <a:xfrm>
            <a:off x="4716360" y="5300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f3af6761651f95f48cb10de6"/>
          <p:cNvPicPr/>
          <p:nvPr/>
        </p:nvPicPr>
        <p:blipFill>
          <a:blip r:embed="rId9"/>
          <a:stretch/>
        </p:blipFill>
        <p:spPr>
          <a:xfrm>
            <a:off x="1619280" y="1628640"/>
            <a:ext cx="2663640" cy="23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霜2"/>
          <p:cNvPicPr/>
          <p:nvPr/>
        </p:nvPicPr>
        <p:blipFill>
          <a:blip r:embed="rId10"/>
          <a:stretch/>
        </p:blipFill>
        <p:spPr>
          <a:xfrm>
            <a:off x="1619280" y="0"/>
            <a:ext cx="280836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11"/>
          <a:stretch/>
        </p:blipFill>
        <p:spPr>
          <a:xfrm>
            <a:off x="7451640" y="3451320"/>
            <a:ext cx="1152720" cy="1201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12"/>
          <a:stretch/>
        </p:blipFill>
        <p:spPr>
          <a:xfrm>
            <a:off x="6012000" y="3429000"/>
            <a:ext cx="1152360" cy="1251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"/>
          <p:cNvPicPr/>
          <p:nvPr/>
        </p:nvPicPr>
        <p:blipFill>
          <a:blip r:embed="rId13"/>
          <a:stretch/>
        </p:blipFill>
        <p:spPr>
          <a:xfrm>
            <a:off x="1763640" y="3573360"/>
            <a:ext cx="1152720" cy="1123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"/>
          <p:cNvPicPr/>
          <p:nvPr/>
        </p:nvPicPr>
        <p:blipFill>
          <a:blip r:embed="rId14"/>
          <a:stretch/>
        </p:blipFill>
        <p:spPr>
          <a:xfrm>
            <a:off x="3348000" y="3573360"/>
            <a:ext cx="1224000" cy="111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15"/>
          <a:stretch/>
        </p:blipFill>
        <p:spPr>
          <a:xfrm>
            <a:off x="6948360" y="5229360"/>
            <a:ext cx="1295640" cy="10792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908000" y="486900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3419640" y="486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468360" y="486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4788000" y="4869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6084720" y="4797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7596360" y="4797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7020000" y="6400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雨夹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258920" y="98100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79280" y="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看图标识天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435640" y="2997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9~21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835280" y="297828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2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62200" y="299088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8~22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294680" y="29653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~19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3564000" y="0"/>
            <a:ext cx="2160000" cy="792000"/>
            <a:chOff x="3564000" y="0"/>
            <a:chExt cx="2160000" cy="792000"/>
          </a:xfrm>
        </p:grpSpPr>
        <p:pic>
          <p:nvPicPr>
            <p:cNvPr id="128" name="Picture 9" descr=""/>
            <p:cNvPicPr/>
            <p:nvPr/>
          </p:nvPicPr>
          <p:blipFill>
            <a:blip r:embed="rId1"/>
            <a:stretch/>
          </p:blipFill>
          <p:spPr>
            <a:xfrm>
              <a:off x="4716000" y="0"/>
              <a:ext cx="10080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10" descr=""/>
            <p:cNvPicPr/>
            <p:nvPr/>
          </p:nvPicPr>
          <p:blipFill>
            <a:blip r:embed="rId2"/>
            <a:stretch/>
          </p:blipFill>
          <p:spPr>
            <a:xfrm>
              <a:off x="3564000" y="0"/>
              <a:ext cx="8647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1"/>
          <p:cNvSpPr/>
          <p:nvPr/>
        </p:nvSpPr>
        <p:spPr>
          <a:xfrm>
            <a:off x="3635280" y="836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阴转多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"/>
          <p:cNvPicPr/>
          <p:nvPr/>
        </p:nvPicPr>
        <p:blipFill>
          <a:blip r:embed="rId4"/>
          <a:stretch/>
        </p:blipFill>
        <p:spPr>
          <a:xfrm>
            <a:off x="1332000" y="1989000"/>
            <a:ext cx="72072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"/>
          <p:cNvPicPr/>
          <p:nvPr/>
        </p:nvPicPr>
        <p:blipFill>
          <a:blip r:embed="rId5"/>
          <a:stretch/>
        </p:blipFill>
        <p:spPr>
          <a:xfrm>
            <a:off x="6156360" y="1832040"/>
            <a:ext cx="720720" cy="647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"/>
          <p:cNvPicPr/>
          <p:nvPr/>
        </p:nvPicPr>
        <p:blipFill>
          <a:blip r:embed="rId6"/>
          <a:stretch/>
        </p:blipFill>
        <p:spPr>
          <a:xfrm>
            <a:off x="7956720" y="1773360"/>
            <a:ext cx="839520" cy="6490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6"/>
          <p:cNvSpPr/>
          <p:nvPr/>
        </p:nvSpPr>
        <p:spPr>
          <a:xfrm>
            <a:off x="1476360" y="1459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和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3635280" y="14000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口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5506920" y="13701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溪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308720" y="1268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塘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1187280" y="2538360"/>
            <a:ext cx="15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1"/>
          <p:cNvSpPr/>
          <p:nvPr/>
        </p:nvSpPr>
        <p:spPr>
          <a:xfrm>
            <a:off x="5240160" y="2496960"/>
            <a:ext cx="17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"/>
          <p:cNvSpPr/>
          <p:nvPr/>
        </p:nvSpPr>
        <p:spPr>
          <a:xfrm>
            <a:off x="3419640" y="25272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23"/>
          <p:cNvGrpSpPr/>
          <p:nvPr/>
        </p:nvGrpSpPr>
        <p:grpSpPr>
          <a:xfrm>
            <a:off x="1258920" y="2565360"/>
            <a:ext cx="2212920" cy="398880"/>
            <a:chOff x="1258920" y="2565360"/>
            <a:chExt cx="2212920" cy="398880"/>
          </a:xfrm>
        </p:grpSpPr>
        <p:sp>
          <p:nvSpPr>
            <p:cNvPr id="143" name="Text Box 24"/>
            <p:cNvSpPr/>
            <p:nvPr/>
          </p:nvSpPr>
          <p:spPr>
            <a:xfrm>
              <a:off x="1258920" y="256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多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25"/>
            <p:cNvSpPr/>
            <p:nvPr/>
          </p:nvSpPr>
          <p:spPr>
            <a:xfrm>
              <a:off x="2030400" y="2565360"/>
              <a:ext cx="144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6"/>
          <p:cNvGrpSpPr/>
          <p:nvPr/>
        </p:nvGrpSpPr>
        <p:grpSpPr>
          <a:xfrm>
            <a:off x="5219640" y="2492280"/>
            <a:ext cx="1582560" cy="398880"/>
            <a:chOff x="5219640" y="2492280"/>
            <a:chExt cx="1582560" cy="398880"/>
          </a:xfrm>
        </p:grpSpPr>
        <p:sp>
          <p:nvSpPr>
            <p:cNvPr id="146" name="Text Box 27"/>
            <p:cNvSpPr/>
            <p:nvPr/>
          </p:nvSpPr>
          <p:spPr>
            <a:xfrm>
              <a:off x="5219640" y="249228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多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8"/>
            <p:cNvSpPr/>
            <p:nvPr/>
          </p:nvSpPr>
          <p:spPr>
            <a:xfrm>
              <a:off x="5722920" y="2492280"/>
              <a:ext cx="107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 Box 29"/>
          <p:cNvSpPr/>
          <p:nvPr/>
        </p:nvSpPr>
        <p:spPr>
          <a:xfrm>
            <a:off x="6948360" y="3789360"/>
            <a:ext cx="86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997440" y="836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1" descr=""/>
          <p:cNvPicPr/>
          <p:nvPr/>
        </p:nvPicPr>
        <p:blipFill>
          <a:blip r:embed="rId7"/>
          <a:stretch/>
        </p:blipFill>
        <p:spPr>
          <a:xfrm>
            <a:off x="2124000" y="1916280"/>
            <a:ext cx="719280" cy="63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2" descr=""/>
          <p:cNvPicPr/>
          <p:nvPr/>
        </p:nvPicPr>
        <p:blipFill>
          <a:blip r:embed="rId8"/>
          <a:stretch/>
        </p:blipFill>
        <p:spPr>
          <a:xfrm>
            <a:off x="4140360" y="1844640"/>
            <a:ext cx="718920" cy="638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3" descr=""/>
          <p:cNvPicPr/>
          <p:nvPr/>
        </p:nvPicPr>
        <p:blipFill>
          <a:blip r:embed="rId9"/>
          <a:stretch/>
        </p:blipFill>
        <p:spPr>
          <a:xfrm>
            <a:off x="5364000" y="1916280"/>
            <a:ext cx="720720" cy="502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4" descr=""/>
          <p:cNvPicPr/>
          <p:nvPr/>
        </p:nvPicPr>
        <p:blipFill>
          <a:blip r:embed="rId10"/>
          <a:stretch/>
        </p:blipFill>
        <p:spPr>
          <a:xfrm>
            <a:off x="7093080" y="1773360"/>
            <a:ext cx="718920" cy="63792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35"/>
          <p:cNvGrpSpPr/>
          <p:nvPr/>
        </p:nvGrpSpPr>
        <p:grpSpPr>
          <a:xfrm>
            <a:off x="3492360" y="2565360"/>
            <a:ext cx="1871640" cy="398880"/>
            <a:chOff x="3492360" y="2565360"/>
            <a:chExt cx="1871640" cy="398880"/>
          </a:xfrm>
        </p:grpSpPr>
        <p:sp>
          <p:nvSpPr>
            <p:cNvPr id="155" name="Text Box 36"/>
            <p:cNvSpPr/>
            <p:nvPr/>
          </p:nvSpPr>
          <p:spPr>
            <a:xfrm>
              <a:off x="3492360" y="256536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7"/>
            <p:cNvSpPr/>
            <p:nvPr/>
          </p:nvSpPr>
          <p:spPr>
            <a:xfrm>
              <a:off x="4284360" y="2565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38"/>
          <p:cNvSpPr/>
          <p:nvPr/>
        </p:nvSpPr>
        <p:spPr>
          <a:xfrm>
            <a:off x="7093080" y="249228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9"/>
          <p:cNvGrpSpPr/>
          <p:nvPr/>
        </p:nvGrpSpPr>
        <p:grpSpPr>
          <a:xfrm>
            <a:off x="7164360" y="2527200"/>
            <a:ext cx="1871640" cy="398880"/>
            <a:chOff x="7164360" y="2527200"/>
            <a:chExt cx="1871640" cy="398880"/>
          </a:xfrm>
        </p:grpSpPr>
        <p:sp>
          <p:nvSpPr>
            <p:cNvPr id="159" name="Text Box 40"/>
            <p:cNvSpPr/>
            <p:nvPr/>
          </p:nvSpPr>
          <p:spPr>
            <a:xfrm>
              <a:off x="7164360" y="252720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41"/>
            <p:cNvSpPr/>
            <p:nvPr/>
          </p:nvSpPr>
          <p:spPr>
            <a:xfrm>
              <a:off x="7956360" y="252720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小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2"/>
          <p:cNvSpPr/>
          <p:nvPr/>
        </p:nvSpPr>
        <p:spPr>
          <a:xfrm>
            <a:off x="1146600" y="3016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3"/>
          <p:cNvSpPr/>
          <p:nvPr/>
        </p:nvSpPr>
        <p:spPr>
          <a:xfrm>
            <a:off x="1620360" y="2997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990720" y="617220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先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再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最后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5"/>
          <p:cNvSpPr/>
          <p:nvPr/>
        </p:nvSpPr>
        <p:spPr>
          <a:xfrm>
            <a:off x="1981080" y="60958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6"/>
          <p:cNvSpPr/>
          <p:nvPr/>
        </p:nvSpPr>
        <p:spPr>
          <a:xfrm>
            <a:off x="3962520" y="60958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7"/>
          <p:cNvSpPr/>
          <p:nvPr/>
        </p:nvSpPr>
        <p:spPr>
          <a:xfrm>
            <a:off x="6248520" y="6095880"/>
            <a:ext cx="10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1332000" y="29973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222.wmv" descr=""/>
          <p:cNvPicPr/>
          <p:nvPr/>
        </p:nvPicPr>
        <p:blipFill>
          <a:blip r:embed="rId11"/>
          <a:stretch/>
        </p:blipFill>
        <p:spPr>
          <a:xfrm>
            <a:off x="2514600" y="3276720"/>
            <a:ext cx="4572000" cy="2746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7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D37-1FAC-4A24-BC3B-70A00FF6557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57200"/>
            <a:ext cx="9144000" cy="3382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9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初冬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法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军队入侵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荷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荷兰人无力应战，迫不得已，只好打开运河闸门，想用水淹没道路阻止法军进攻。法军面对茫茫大水准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打道回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就在这时，略懂生物常识的法军司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拿破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了蜘蛛异乎寻常地在加倍织网，乃急令部队停止行动，原地待命。最后，法军成功地攻占了荷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因为蜘蛛只有在严寒即将来临时，才会加倍织网。果然，不久气温骤然下降，水面很快结了冰，法军踏冰长驱直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蜘蛛这只活晴雨表帮了法军的大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本课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，会写其中的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生字；能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知道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气象站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是什么；知道乌鸦、麻雀是怎样预报天气和风向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读课文，感知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 </a:t>
            </a:r>
            <a:r>
              <a:rPr b="0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借助拼音朗读课文，注意读准字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看看课文中主要讲了什么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外婆   麻雀   肯定  损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羽毛   蘑菇   刮风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缩头缩脑        兴冲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跳来跳去         吱吱叫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   外面  外婆   外公   外国   外地   外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麻   麻木  麻花   麻油   芝麻   大麻   麻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雀  孔雀  燕雀   雀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喜鹊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冲  冲走  冲洗   冲动   冲锋   冲浪   冲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定  一定   决定  平定   安定   约定   坚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肯  肯定  不肯   中肯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羽   羽毛  羽扇  党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037680" y="228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会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1219320"/>
            <a:ext cx="7162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两滴水中洗手。     （     ）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多一半萝卜。         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微风习习吹鸟毛。  （     ）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淀粉不要加水。     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正月没有初一。     （     ）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趴着耳朵听命令。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大声喧哗的把嘴闭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禾苗多种些。            （     ）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3"/>
          <p:cNvSpPr txBox="1"/>
          <p:nvPr/>
        </p:nvSpPr>
        <p:spPr>
          <a:xfrm>
            <a:off x="1752480" y="0"/>
            <a:ext cx="3353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会猜字谜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5791320" y="1143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791320" y="19051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638680" y="38098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791320" y="2590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715000" y="31240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55627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6019920" y="51814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6019920" y="5867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-360" y="914400"/>
            <a:ext cx="8991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读课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森林气象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里有哪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气象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森林气象站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里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气象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有麻雀、乌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3505320"/>
            <a:ext cx="8991720" cy="23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“森林气象站”里的“气象员”是怎样预报天气的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把写“气象员”怎样预报天气的句子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画上记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02:18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1:33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