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5.wmf" ContentType="image/x-wmf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8FC2-D328-4BF4-8572-835E414CB09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FACE-0AE1-4F78-BFB6-2E737FDF62E4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4633-3B39-41F6-9658-C04342883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47F0-F736-40BD-827F-A83DDD92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54A2-13BB-4579-83A4-B55B94F41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2C02-0181-43DF-899E-463705906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7E2F-7B73-472F-AB08-D6B5C965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B467-55A5-4CE8-95BA-DAA34585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DB60-93D7-4C01-A0DD-12762323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44C4-BB48-4D64-9046-16EA001D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0FD2-41C6-46D5-A5B7-32119A92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1E5E-446B-4A87-AA44-D1B14B49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5882-C5D0-40A5-9AC8-EBCC1990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2B86-F340-4E57-B1D7-6307EC09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DEC9-287C-43A2-8BDC-CD571F96B8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rcRect l="919" t="0" r="1222" b="0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9" name="WordArt 4"/>
          <p:cNvSpPr txBox="1"/>
          <p:nvPr/>
        </p:nvSpPr>
        <p:spPr>
          <a:xfrm>
            <a:off x="1871640" y="1773360"/>
            <a:ext cx="540072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中宋"/>
              </a:rPr>
              <a:t>生命的感动</a:t>
            </a:r>
            <a:endParaRPr b="1" lang="en-US" sz="4400" spc="1" strike="noStrike">
              <a:ln w="1260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pic>
        <p:nvPicPr>
          <p:cNvPr id="50" name="矩形 6" descr=""/>
          <p:cNvPicPr/>
          <p:nvPr/>
        </p:nvPicPr>
        <p:blipFill>
          <a:blip r:embed="rId2"/>
          <a:stretch/>
        </p:blipFill>
        <p:spPr>
          <a:xfrm>
            <a:off x="1395360" y="5661000"/>
            <a:ext cx="657396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细读感悟"/>
          <p:cNvPicPr/>
          <p:nvPr/>
        </p:nvPicPr>
        <p:blipFill>
          <a:blip r:embed="rId1"/>
          <a:stretch/>
        </p:blipFill>
        <p:spPr>
          <a:xfrm>
            <a:off x="0" y="836640"/>
            <a:ext cx="2104920" cy="5634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324000" y="2133720"/>
            <a:ext cx="80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有一次保姆不慎将热水瓶放在我玩耍的一张小桌旁，被我一脚碰翻，滚烫的开水把我的双脚烫得像两只红萝卜。幸亏妈妈及时赶到把我送进医院，要不我早成了残疾人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……</a:t>
            </a:r>
            <a:r>
              <a:rPr b="0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250920" y="486900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还有一次，我从木马上摔下来造成脑震荡，妈妈每天</a:t>
            </a:r>
            <a:r>
              <a:rPr b="1" lang="zh-CN" sz="28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以泪洗面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，在医院陪伴我度过漫长的治疗时间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2217600" y="2205000"/>
            <a:ext cx="4813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在我成长的岁月里，妈妈将世界上一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美好的东西都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楷体_GB2312"/>
              </a:rPr>
              <a:t>凝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在我的身上，她为我唱歌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为我朗读诗歌和童话，音乐和诗歌融入了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幼小的心灵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0180610025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357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232_10343"/>
          <p:cNvPicPr/>
          <p:nvPr/>
        </p:nvPicPr>
        <p:blipFill>
          <a:blip r:embed="rId2"/>
          <a:stretch/>
        </p:blipFill>
        <p:spPr>
          <a:xfrm>
            <a:off x="0" y="335772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09051912000f7aaaa891075980"/>
          <p:cNvPicPr/>
          <p:nvPr/>
        </p:nvPicPr>
        <p:blipFill>
          <a:blip r:embed="rId3"/>
          <a:stretch/>
        </p:blipFill>
        <p:spPr>
          <a:xfrm>
            <a:off x="4572000" y="335772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"/>
          <p:cNvPicPr/>
          <p:nvPr/>
        </p:nvPicPr>
        <p:blipFill>
          <a:blip r:embed="rId4"/>
          <a:stretch/>
        </p:blipFill>
        <p:spPr>
          <a:xfrm>
            <a:off x="0" y="0"/>
            <a:ext cx="45720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细读感悟"/>
          <p:cNvPicPr/>
          <p:nvPr/>
        </p:nvPicPr>
        <p:blipFill>
          <a:blip r:embed="rId1"/>
          <a:stretch/>
        </p:blipFill>
        <p:spPr>
          <a:xfrm>
            <a:off x="1042920" y="1484280"/>
            <a:ext cx="2104920" cy="5637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684360" y="2492280"/>
            <a:ext cx="7416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我将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尊重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因</a:t>
            </a:r>
            <a:r>
              <a:rPr b="1" lang="zh-CN" sz="40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爱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而孕育的所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生命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8" descr="图片1"/>
          <p:cNvPicPr/>
          <p:nvPr/>
        </p:nvPicPr>
        <p:blipFill>
          <a:blip r:embed="rId2"/>
          <a:stretch/>
        </p:blipFill>
        <p:spPr>
          <a:xfrm>
            <a:off x="3059280" y="3789360"/>
            <a:ext cx="1680840" cy="181764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1"/>
          <p:cNvSpPr/>
          <p:nvPr/>
        </p:nvSpPr>
        <p:spPr>
          <a:xfrm>
            <a:off x="684360" y="131760"/>
            <a:ext cx="58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5"/>
          <p:cNvSpPr/>
          <p:nvPr/>
        </p:nvSpPr>
        <p:spPr>
          <a:xfrm>
            <a:off x="468360" y="1989000"/>
            <a:ext cx="835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268360" y="321300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826920" y="1557360"/>
            <a:ext cx="7848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华文新魏"/>
                <a:ea typeface="华文新魏"/>
              </a:rPr>
              <a:t>      </a:t>
            </a:r>
            <a:r>
              <a:rPr b="1" lang="en-US" sz="3200" spc="-1" strike="noStrike">
                <a:solidFill>
                  <a:srgbClr val="008000"/>
                </a:solidFill>
                <a:latin typeface="华文新魏"/>
                <a:ea typeface="华文新魏"/>
              </a:rPr>
              <a:t>1999</a:t>
            </a:r>
            <a:r>
              <a:rPr b="1" lang="zh-CN" sz="3200" spc="-1" strike="noStrike">
                <a:solidFill>
                  <a:srgbClr val="008000"/>
                </a:solidFill>
                <a:latin typeface="华文新魏"/>
                <a:ea typeface="华文新魏"/>
              </a:rPr>
              <a:t>年秋天，在贵州一个风景如画的旅游区，一架缆车从相当于</a:t>
            </a:r>
            <a:r>
              <a:rPr b="1" lang="en-US" sz="3200" spc="-1" strike="noStrike">
                <a:solidFill>
                  <a:srgbClr val="008000"/>
                </a:solidFill>
                <a:latin typeface="华文新魏"/>
                <a:ea typeface="华文新魏"/>
              </a:rPr>
              <a:t>20</a:t>
            </a:r>
            <a:r>
              <a:rPr b="1" lang="zh-CN" sz="3200" spc="-1" strike="noStrike">
                <a:solidFill>
                  <a:srgbClr val="008000"/>
                </a:solidFill>
                <a:latin typeface="华文新魏"/>
                <a:ea typeface="华文新魏"/>
              </a:rPr>
              <a:t>层楼的高空坠落，在转瞬即至的生死关头，一对年轻的夫妇用他们的双手，将自己两岁半的儿子高高举起，结果，大部分游客遇难，两位年轻的父母也都失去了生命，也许是父母的壮举感动了天地，这个小孩，竟奇迹般地活了下来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华文新魏"/>
              </a:rPr>
              <a:t>……</a:t>
            </a:r>
            <a:r>
              <a:rPr b="1" lang="zh-CN" sz="3200" spc="-1" strike="noStrike">
                <a:solidFill>
                  <a:srgbClr val="008000"/>
                </a:solidFill>
                <a:latin typeface="华文新魏"/>
                <a:ea typeface="华文新魏"/>
              </a:rPr>
              <a:t>著名歌手韩红根据这个故事创作了一首歌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华文新魏"/>
              </a:rPr>
              <a:t>——</a:t>
            </a:r>
            <a:r>
              <a:rPr b="1" lang="en-US" sz="3200" spc="-1" strike="noStrike">
                <a:solidFill>
                  <a:srgbClr val="008000"/>
                </a:solidFill>
                <a:latin typeface="华文新魏"/>
                <a:ea typeface="华文新魏"/>
              </a:rPr>
              <a:t>《</a:t>
            </a:r>
            <a:r>
              <a:rPr b="1" lang="zh-CN" sz="3200" spc="-1" strike="noStrike">
                <a:solidFill>
                  <a:srgbClr val="008000"/>
                </a:solidFill>
                <a:latin typeface="华文新魏"/>
                <a:ea typeface="华文新魏"/>
              </a:rPr>
              <a:t>天亮了</a:t>
            </a:r>
            <a:r>
              <a:rPr b="1" lang="en-US" sz="3200" spc="-1" strike="noStrike">
                <a:solidFill>
                  <a:srgbClr val="008000"/>
                </a:solidFill>
                <a:latin typeface="华文新魏"/>
                <a:ea typeface="华文新魏"/>
              </a:rPr>
              <a:t>》</a:t>
            </a:r>
            <a:r>
              <a:rPr b="1" lang="zh-CN" sz="3200" spc="-1" strike="noStrike">
                <a:solidFill>
                  <a:srgbClr val="008000"/>
                </a:solidFill>
                <a:latin typeface="华文新魏"/>
                <a:ea typeface="华文新魏"/>
              </a:rPr>
              <a:t>。</a:t>
            </a:r>
            <a:r>
              <a:rPr b="0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10" descr="图片29"/>
          <p:cNvPicPr/>
          <p:nvPr/>
        </p:nvPicPr>
        <p:blipFill>
          <a:blip r:embed="rId1"/>
          <a:stretch/>
        </p:blipFill>
        <p:spPr>
          <a:xfrm>
            <a:off x="395280" y="0"/>
            <a:ext cx="2444760" cy="716040"/>
          </a:xfrm>
          <a:prstGeom prst="rect">
            <a:avLst/>
          </a:prstGeom>
          <a:ln w="0">
            <a:noFill/>
          </a:ln>
        </p:spPr>
      </p:pic>
      <p:pic>
        <p:nvPicPr>
          <p:cNvPr id="105" name="韩红-天亮了.mp3" descr=""/>
          <p:cNvPicPr/>
          <p:nvPr/>
        </p:nvPicPr>
        <p:blipFill>
          <a:blip r:embed="rId2"/>
          <a:stretch/>
        </p:blipFill>
        <p:spPr>
          <a:xfrm>
            <a:off x="759636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222272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1547640" y="981000"/>
            <a:ext cx="621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950760" y="770040"/>
            <a:ext cx="6357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476360" y="263700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亲人对自己的爱是无私的，是不需要回报的。在爱的氛围中长大的孩子不但要学会如何接受爱，更要学会如何施爱于人。因爱孕育出的所有生命，都是值得人尊敬的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拓展学习"/>
          <p:cNvPicPr/>
          <p:nvPr/>
        </p:nvPicPr>
        <p:blipFill>
          <a:blip r:embed="rId1"/>
          <a:stretch/>
        </p:blipFill>
        <p:spPr>
          <a:xfrm>
            <a:off x="250920" y="549360"/>
            <a:ext cx="2232000" cy="5508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826920" y="2276640"/>
            <a:ext cx="60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学完课文，说说你有什么感受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826920" y="314172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在你成长的过程中，你的父母有哪件事最令你感动，说给大家听听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826920" y="4365720"/>
            <a:ext cx="81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每天为父母做一件力所能及的事，写一写自己的感受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444A-3A85-4874-ACD1-C9C88A6398F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692360" y="2492280"/>
            <a:ext cx="6769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钩      浸      玫     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姆      疤      疗     孕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692360" y="198900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ō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276720" y="198900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jì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4643280" y="1989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é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6012000" y="1916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u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763640" y="407664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3203640" y="4076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4716360" y="407664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á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6012000" y="4005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ù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2050920" y="76500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生字学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0" y="8366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初步感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900000" y="2565360"/>
            <a:ext cx="7345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阅读课文，想想课文讲了一些什么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情？说明了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755640" y="25653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一双用绒线一针针勾出来的小鞋子，一条粉红的围兜，一个大眼睛的娃娃，还有一本从我出生到上幼儿园的影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5" descr="生命的感动插图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014560" y="4410000"/>
            <a:ext cx="7129440" cy="244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细读感悟"/>
          <p:cNvPicPr/>
          <p:nvPr/>
        </p:nvPicPr>
        <p:blipFill>
          <a:blip r:embed="rId2"/>
          <a:stretch/>
        </p:blipFill>
        <p:spPr>
          <a:xfrm>
            <a:off x="0" y="333360"/>
            <a:ext cx="2104920" cy="5634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755640" y="155736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生日那天，妈妈</a:t>
            </a:r>
            <a:r>
              <a:rPr b="1" lang="zh-CN" sz="32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郑重其事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地拿出几件什么东西给我看呢？</a:t>
            </a:r>
            <a:r>
              <a:rPr b="1" lang="zh-CN" sz="2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2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2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细读感悟"/>
          <p:cNvPicPr/>
          <p:nvPr/>
        </p:nvPicPr>
        <p:blipFill>
          <a:blip r:embed="rId1"/>
          <a:stretch/>
        </p:blipFill>
        <p:spPr>
          <a:xfrm>
            <a:off x="250920" y="333360"/>
            <a:ext cx="2104920" cy="5634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395280" y="206064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这些东西我</a:t>
            </a:r>
            <a:r>
              <a:rPr b="1" lang="zh-CN" sz="32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一直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保存着，想等你长大了给你看。现在你不小了，这些记录你成长的物品，也许能让你感受成长的快乐和对生命的热爱。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WordArt 6"/>
          <p:cNvSpPr txBox="1"/>
          <p:nvPr/>
        </p:nvSpPr>
        <p:spPr>
          <a:xfrm>
            <a:off x="4572000" y="4221000"/>
            <a:ext cx="2232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用心  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0" name="WordArt 7"/>
          <p:cNvSpPr txBox="1"/>
          <p:nvPr/>
        </p:nvSpPr>
        <p:spPr>
          <a:xfrm>
            <a:off x="7956720" y="4292640"/>
            <a:ext cx="80928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0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爱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71" name="Picture 10" descr="MCj04207660000[1]"/>
          <p:cNvPicPr/>
          <p:nvPr/>
        </p:nvPicPr>
        <p:blipFill>
          <a:blip r:embed="rId2"/>
          <a:stretch/>
        </p:blipFill>
        <p:spPr>
          <a:xfrm>
            <a:off x="6300720" y="4005360"/>
            <a:ext cx="1359000" cy="143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997200" y="226368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自主学习   合作探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2675880" y="2997360"/>
            <a:ext cx="3620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以小组为单位，找出文中令你感动的语句，画上横线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说说为什么这些语句令你感动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细读感悟"/>
          <p:cNvPicPr/>
          <p:nvPr/>
        </p:nvPicPr>
        <p:blipFill>
          <a:blip r:embed="rId1"/>
          <a:stretch/>
        </p:blipFill>
        <p:spPr>
          <a:xfrm>
            <a:off x="0" y="836640"/>
            <a:ext cx="2104920" cy="5634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395280" y="2205000"/>
            <a:ext cx="8209080" cy="2684520"/>
          </a:xfrm>
          <a:prstGeom prst="rect">
            <a:avLst/>
          </a:prstGeom>
          <a:noFill/>
          <a:ln w="3240">
            <a:solidFill>
              <a:srgbClr val="ffa6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那天 ，我把你妈妈送进产房，就在外面</a:t>
            </a:r>
            <a:r>
              <a:rPr b="1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焦急地等待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第一眼见到你，我那个</a:t>
            </a:r>
            <a:r>
              <a:rPr b="1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开心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啊，</a:t>
            </a:r>
            <a:r>
              <a:rPr b="1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没法说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。</a:t>
            </a:r>
            <a:r>
              <a:rPr b="1" i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你静静地躺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小床上，</a:t>
            </a:r>
            <a:r>
              <a:rPr b="1" i="1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像</a:t>
            </a:r>
            <a:r>
              <a:rPr b="1" i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草叶上的露珠一样轻柔，小脸红扑扑的，</a:t>
            </a:r>
            <a:r>
              <a:rPr b="1" i="1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玫瑰花瓣一样美丽。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你是爱与美得珍品，让我们无比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喜，</a:t>
            </a:r>
            <a:r>
              <a:rPr b="1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有女儿真好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！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7" descr="MCj03950940000[1]"/>
          <p:cNvPicPr/>
          <p:nvPr/>
        </p:nvPicPr>
        <p:blipFill>
          <a:blip r:embed="rId2"/>
          <a:stretch/>
        </p:blipFill>
        <p:spPr>
          <a:xfrm>
            <a:off x="42840" y="5332320"/>
            <a:ext cx="1851120" cy="15256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8"/>
          <p:cNvSpPr/>
          <p:nvPr/>
        </p:nvSpPr>
        <p:spPr>
          <a:xfrm>
            <a:off x="6181920" y="52657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无比欣喜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细读感悟"/>
          <p:cNvPicPr/>
          <p:nvPr/>
        </p:nvPicPr>
        <p:blipFill>
          <a:blip r:embed="rId1"/>
          <a:stretch/>
        </p:blipFill>
        <p:spPr>
          <a:xfrm>
            <a:off x="0" y="836640"/>
            <a:ext cx="2104920" cy="5634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611280" y="17002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寒冬腊月，你用的尿布都是先放在我怀里</a:t>
            </a:r>
            <a:r>
              <a:rPr b="1" lang="zh-CN" sz="36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暖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热了才给你用的。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爸爸又说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755640" y="342900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细节描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604800" y="494172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你还知道生活中哪些细节同样能体现爸爸的关爱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WordArt 9"/>
          <p:cNvSpPr txBox="1"/>
          <p:nvPr/>
        </p:nvSpPr>
        <p:spPr>
          <a:xfrm>
            <a:off x="3419640" y="3429000"/>
            <a:ext cx="20574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无私关爱</a:t>
            </a:r>
            <a:endParaRPr b="0" lang="en-US" sz="40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细读感悟"/>
          <p:cNvPicPr/>
          <p:nvPr/>
        </p:nvPicPr>
        <p:blipFill>
          <a:blip r:embed="rId1"/>
          <a:stretch/>
        </p:blipFill>
        <p:spPr>
          <a:xfrm>
            <a:off x="0" y="836640"/>
            <a:ext cx="2104920" cy="5634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826920" y="249228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爸爸、妈妈真有本事，要把这么一点儿大的小东西养育成现在的我，多不容易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900000" y="378936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为什么说不容易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8" descr="baby_20060126001"/>
          <p:cNvPicPr/>
          <p:nvPr/>
        </p:nvPicPr>
        <p:blipFill>
          <a:blip r:embed="rId2"/>
          <a:stretch/>
        </p:blipFill>
        <p:spPr>
          <a:xfrm>
            <a:off x="6084720" y="3760920"/>
            <a:ext cx="2424240" cy="3097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baby_20060126002"/>
          <p:cNvPicPr/>
          <p:nvPr/>
        </p:nvPicPr>
        <p:blipFill>
          <a:blip r:embed="rId3"/>
          <a:stretch/>
        </p:blipFill>
        <p:spPr>
          <a:xfrm>
            <a:off x="4572000" y="3781440"/>
            <a:ext cx="1523880" cy="307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03:31:0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8:59Z</dcterms:modified>
  <cp:revision>3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