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BC26-2009-477D-ACFF-55B1DBC4D7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904D-21AB-48EB-AB30-41CA0F59D6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5C0F-A578-458E-B8DA-640B2FCE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F33E-192E-4362-B433-79F8EA4E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78DB-94DC-4A2C-9CC1-E8210BA5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882-DA51-42DE-9ABF-13501711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839-0C25-4E7E-877C-CFBC25F2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56B-6523-4133-B0EB-F7E4B365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ADE3-192B-46C0-8F59-1D2763C3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B2B0-AECC-420C-8248-A0F78CBB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1A2A-DABC-414B-A3D7-E0FBCDBE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E71-B242-4E93-9F4D-109250B6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931-12DD-4F40-AC25-F4162783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B54-020B-4613-B2A7-00713DC7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085E-EA19-4276-8D8A-C09E856113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4" descr=""/>
          <p:cNvPicPr/>
          <p:nvPr/>
        </p:nvPicPr>
        <p:blipFill>
          <a:blip r:embed="rId2"/>
          <a:stretch/>
        </p:blipFill>
        <p:spPr>
          <a:xfrm>
            <a:off x="835200" y="1384200"/>
            <a:ext cx="8256240" cy="1865520"/>
          </a:xfrm>
          <a:prstGeom prst="rect">
            <a:avLst/>
          </a:prstGeom>
          <a:ln w="0">
            <a:noFill/>
          </a:ln>
        </p:spPr>
      </p:pic>
      <p:pic>
        <p:nvPicPr>
          <p:cNvPr id="49" name="矩形 5" descr=""/>
          <p:cNvPicPr/>
          <p:nvPr/>
        </p:nvPicPr>
        <p:blipFill>
          <a:blip r:embed="rId3"/>
          <a:stretch/>
        </p:blipFill>
        <p:spPr>
          <a:xfrm>
            <a:off x="1390680" y="5661000"/>
            <a:ext cx="65721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539640" y="141300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755640" y="83664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从寒风中走进暖房里，</a:t>
            </a:r>
            <a:r>
              <a:rPr b="1" lang="zh-CN" sz="5400" spc="-1" strike="noStrike">
                <a:solidFill>
                  <a:srgbClr val="008000"/>
                </a:solidFill>
                <a:latin typeface="Arial"/>
              </a:rPr>
              <a:t>满目鲜绿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立刻使孩子们眼睛发亮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476360" y="249228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眼睛发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4932360" y="2565360"/>
            <a:ext cx="1368360" cy="0"/>
          </a:xfrm>
          <a:prstGeom prst="line">
            <a:avLst/>
          </a:prstGeom>
          <a:ln w="381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04C12A6DBEA683BE0E130A135A62AD00"/>
          <p:cNvPicPr/>
          <p:nvPr/>
        </p:nvPicPr>
        <p:blipFill>
          <a:blip r:embed="rId1"/>
          <a:stretch/>
        </p:blipFill>
        <p:spPr>
          <a:xfrm>
            <a:off x="-465120" y="0"/>
            <a:ext cx="9609120" cy="8325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195640" y="5084640"/>
            <a:ext cx="360036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满目鲜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MG_20140403_074850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4537440" y="378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眼睛发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684360" y="1916280"/>
            <a:ext cx="84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看到那</a:t>
            </a:r>
            <a:r>
              <a:rPr b="1" lang="zh-CN" sz="5400" spc="-1" strike="noStrike">
                <a:solidFill>
                  <a:srgbClr val="d60093"/>
                </a:solidFill>
                <a:latin typeface="Arial"/>
              </a:rPr>
              <a:t>三盆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橘树</a:t>
            </a:r>
            <a:r>
              <a:rPr b="1" lang="zh-CN" sz="5400" spc="-1" strike="noStrike">
                <a:solidFill>
                  <a:srgbClr val="d60093"/>
                </a:solidFill>
                <a:latin typeface="Arial"/>
              </a:rPr>
              <a:t>盆景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时，女孩儿们发出了欢呼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30360" y="4371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惊喜、喜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95280" y="260280"/>
            <a:ext cx="8459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三盆橘树上各结了一个又圆又大的金灿灿的橘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那橘子真是美丽极了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148360" y="333360"/>
            <a:ext cx="863640" cy="9169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SC20090428132832265"/>
          <p:cNvPicPr/>
          <p:nvPr/>
        </p:nvPicPr>
        <p:blipFill>
          <a:blip r:embed="rId1"/>
          <a:stretch/>
        </p:blipFill>
        <p:spPr>
          <a:xfrm>
            <a:off x="250920" y="3408480"/>
            <a:ext cx="2786040" cy="3449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SC20090428132832265"/>
          <p:cNvPicPr/>
          <p:nvPr/>
        </p:nvPicPr>
        <p:blipFill>
          <a:blip r:embed="rId2"/>
          <a:stretch/>
        </p:blipFill>
        <p:spPr>
          <a:xfrm>
            <a:off x="5940360" y="3408480"/>
            <a:ext cx="2786040" cy="34495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395280" y="105264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又圆又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924360" y="1268280"/>
            <a:ext cx="2087640" cy="825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金灿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SC20090428132832265"/>
          <p:cNvPicPr/>
          <p:nvPr/>
        </p:nvPicPr>
        <p:blipFill>
          <a:blip r:embed="rId3"/>
          <a:stretch/>
        </p:blipFill>
        <p:spPr>
          <a:xfrm>
            <a:off x="3132000" y="3408480"/>
            <a:ext cx="27860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又圆又大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SC20090428132832265"/>
          <p:cNvPicPr/>
          <p:nvPr/>
        </p:nvPicPr>
        <p:blipFill>
          <a:blip r:embed="rId1"/>
          <a:stretch/>
        </p:blipFill>
        <p:spPr>
          <a:xfrm>
            <a:off x="3059280" y="3357720"/>
            <a:ext cx="3025440" cy="3500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SC20090428132832265"/>
          <p:cNvPicPr/>
          <p:nvPr/>
        </p:nvPicPr>
        <p:blipFill>
          <a:blip r:embed="rId2"/>
          <a:stretch/>
        </p:blipFill>
        <p:spPr>
          <a:xfrm>
            <a:off x="0" y="3357720"/>
            <a:ext cx="3059280" cy="3500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SC20090428132832265"/>
          <p:cNvPicPr/>
          <p:nvPr/>
        </p:nvPicPr>
        <p:blipFill>
          <a:blip r:embed="rId3"/>
          <a:stretch/>
        </p:blipFill>
        <p:spPr>
          <a:xfrm>
            <a:off x="6084720" y="3357720"/>
            <a:ext cx="3059280" cy="3500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989720" y="1484280"/>
            <a:ext cx="516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又高又大    又新又绿   又大又红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又香又甜    又白又胖   又黑又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124000" y="1341360"/>
            <a:ext cx="2303640" cy="93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00000" y="404640"/>
            <a:ext cx="846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金灿灿的橘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900000" y="1341360"/>
            <a:ext cx="846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黄澄澄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梨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4360" y="2421000"/>
            <a:ext cx="84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小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84360" y="3429000"/>
            <a:ext cx="84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苹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84360" y="4294080"/>
            <a:ext cx="84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积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050920" y="227664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绿油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2050920" y="321300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红通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763640" y="4292640"/>
            <a:ext cx="2665440" cy="1008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白茫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430200" y="8366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见孩子们喜欢，舅舅毫不犹豫地拧下一个橘子，女孩儿们一下子愣住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851280" y="162864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95280" y="1628640"/>
            <a:ext cx="31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毫不犹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219640" y="249228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Arial"/>
              </a:rPr>
              <a:t>愣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“毫不犹豫”这个词中你认为舅舅是怎样的性格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046240" y="1628640"/>
            <a:ext cx="4978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“毫不犹豫”这个词中，你认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舅舅是怎样的性格？（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舅舅是个急性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舅舅是个慢性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舅舅遇到事情不会考虑太多，想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舅舅对三个女孩儿浓浓的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292720" y="2176560"/>
            <a:ext cx="146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446040" y="1125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当她们发现舅舅还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打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摘第二个时，一齐喊道：“不，不要摘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-----”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舅舅以为孩子们是在客气，就没有停下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68360" y="476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6f16b1fbbeec2a74242df26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539640" y="1916280"/>
            <a:ext cx="7608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橘子   寒假    舅舅    盆景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毫不犹豫       拧下    愣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打算     墨绿      花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611280" y="1341360"/>
            <a:ext cx="82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转眼工夫，三盆橘树只剩下了</a:t>
            </a: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墨绿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的叶子，三个橘子已经放在三个女孩儿的手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1116000" y="1341360"/>
            <a:ext cx="69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假如我是三个女孩中的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，当舅舅把橘子放到我手里的时候，我会对舅舅说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611280" y="155736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朗读第四段，想一想，你感受到女孩们什么的心情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539640" y="69228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金灿灿的颜色与女孩儿眼里的神采一同消失了，因为她们喜欢的是挂在墨绿树上的橘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361040" y="436572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伤心、失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"/>
          <p:cNvSpPr/>
          <p:nvPr/>
        </p:nvSpPr>
        <p:spPr>
          <a:xfrm>
            <a:off x="1563840" y="550224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395280" y="1273320"/>
            <a:ext cx="847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啊！金灿灿的橘子挂在墨绿的橘树上是如此美丽，它给寒冷的冬天带来了鲜活的生机，三个女孩儿多么希望它们美丽永存，与人共赏。我们每一个人都应该保护花草、珍爱生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2082240" y="565200"/>
            <a:ext cx="4680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寒：寒假  寒冷  寒风   天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假：放假  假期  请假   度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刻：立刻  时刻  刻苦   一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呼：欢呼  呼喊  呼叫   呼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放：放心  放学  放假   开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灿：灿烂  金灿灿   灿若群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消失  消化   消灭   消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失：失火  失望   失色   消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F333-5AC9-4461-B24F-0F76CB82BF9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7f918aae5cc3ce4c4b36d6bf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4680" y="1752480"/>
            <a:ext cx="2191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Garamond"/>
              </a:rPr>
              <a:t>青橘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e6cfa433ac7f1fc11b4cff41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853200" y="1989000"/>
            <a:ext cx="20091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Garamond"/>
              </a:rPr>
              <a:t>黄橘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539640" y="148428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24000" y="184464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寒假里，三个城里的女孩儿到乡下舅舅家去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539640" y="148428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24000" y="184464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舅舅带着她们来到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花圃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一个暖房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6"/>
          <p:cNvSpPr/>
          <p:nvPr/>
        </p:nvSpPr>
        <p:spPr>
          <a:xfrm>
            <a:off x="3564000" y="3068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200864165252196_2"/>
          <p:cNvPicPr/>
          <p:nvPr/>
        </p:nvPicPr>
        <p:blipFill>
          <a:blip r:embed="rId1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180040" y="1922400"/>
            <a:ext cx="14000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花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4:09:3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0:17Z</dcterms:modified>
  <cp:revision>4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