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C8A-B224-4286-9DFA-EB336DF9A38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D61B-8DC0-43DA-B834-8165C7ED3E3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B7D-7F43-437D-96B1-D7FE5AF9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EAD-E55C-4F0F-8E80-A4E9C36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17C-269C-4CEE-8EE5-9A1A21F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EC2-F34E-4CFF-B6D3-6BF862F2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EDE-BFCF-4427-8D92-EBBF376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1D0-A9D5-411A-8216-07D5165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376-546B-4F23-B6C0-D6B2F877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023-35E2-4F45-9CD1-7062697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9F0-8650-46CE-A559-EECE847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4D2-7D93-4FCE-BC39-86C603E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AEE-43FA-40AA-BA03-B71776E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97A-A5CD-45B9-A17B-3EA319E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AFC-0AA6-435F-A4C3-6466CEC0A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Cj02102560000[1]"/>
          <p:cNvPicPr/>
          <p:nvPr/>
        </p:nvPicPr>
        <p:blipFill>
          <a:blip r:embed="rId1"/>
          <a:stretch/>
        </p:blipFill>
        <p:spPr>
          <a:xfrm>
            <a:off x="1316160" y="1557360"/>
            <a:ext cx="6511680" cy="4032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2054160" y="3032280"/>
            <a:ext cx="511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书圣王羲之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522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042920" y="16700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三、四、五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42840" y="9079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87280" y="41180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熏陶 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xūn t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o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：人的思想行为因长期接触某些事物而受到好的影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116000" y="3110040"/>
            <a:ext cx="727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隶、楷、行、草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四种书体大家都知道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116000" y="2389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三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044720" y="17161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三、四、五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17440" y="24354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四、五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17440" y="31561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第四自然段讲了一件什么事情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44720" y="3948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王羲之买鹅的故事说明了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1332000" y="4724280"/>
            <a:ext cx="2305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专心致志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17440" y="8618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784080" y="76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55640" y="14558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六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4360" y="2060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六自然段并说一说：你从王羲之练书法的故事中体会到了什么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羲之爱鹅图"/>
          <p:cNvPicPr/>
          <p:nvPr/>
        </p:nvPicPr>
        <p:blipFill>
          <a:blip r:embed="rId1"/>
          <a:stretch/>
        </p:blipFill>
        <p:spPr>
          <a:xfrm>
            <a:off x="2627280" y="3284640"/>
            <a:ext cx="3745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341360"/>
            <a:ext cx="79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一次王羲之到一个村子去。有个老婆婆拎了一篮子六角形的竹扇在集上叫卖。那种竹扇很简陋，没有什么装饰，引不起过路人的兴趣，看样子卖不出去了，老婆婆十分着急。王羲之看到这情形，很同情那老婆婆，就上前跟她说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这竹扇上没画没字，当然卖不出去。我给你题上字，怎么样？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老婆婆不认识王羲之，见他这样热心，也就把竹扇交给他写了。 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王羲之提起笔来，在每把扇面上龙飞凤舞地写了五个字，就还给老婆婆。老婆婆不识字，觉得他写得很潦草，很不高兴。王羲之安慰她说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别急。你只告诉买扇的人，说上面是王右军写的字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王羲之一离开，老婆婆就照他的话做了。集上的人一看真是王右军的书法，都抢着买。一箩竹扇马上就卖完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19280" y="8222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王羲之题扇的故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3520" y="7351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890640" y="981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90640" y="20858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读句子，体会两个“如”字的不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90640" y="297180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替我写下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黄庭经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倒可以全部相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认为运笔时，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白鹅两掌齐力泼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2314440" y="5114880"/>
            <a:ext cx="52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颜真卿楷书"/>
          <p:cNvPicPr/>
          <p:nvPr/>
        </p:nvPicPr>
        <p:blipFill>
          <a:blip r:embed="rId1"/>
          <a:stretch/>
        </p:blipFill>
        <p:spPr>
          <a:xfrm>
            <a:off x="5148360" y="981000"/>
            <a:ext cx="3205080" cy="4345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476360" y="4941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隶 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300720" y="558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楷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曹全"/>
          <p:cNvPicPr/>
          <p:nvPr/>
        </p:nvPicPr>
        <p:blipFill>
          <a:blip r:embed="rId2"/>
          <a:stretch/>
        </p:blipFill>
        <p:spPr>
          <a:xfrm>
            <a:off x="684360" y="1052640"/>
            <a:ext cx="4319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王羲之丧乱帖"/>
          <p:cNvPicPr/>
          <p:nvPr/>
        </p:nvPicPr>
        <p:blipFill>
          <a:blip r:embed="rId1"/>
          <a:stretch/>
        </p:blipFill>
        <p:spPr>
          <a:xfrm>
            <a:off x="611280" y="836640"/>
            <a:ext cx="4573440" cy="349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怀素草书"/>
          <p:cNvPicPr/>
          <p:nvPr/>
        </p:nvPicPr>
        <p:blipFill>
          <a:blip r:embed="rId2"/>
          <a:stretch/>
        </p:blipFill>
        <p:spPr>
          <a:xfrm>
            <a:off x="5184720" y="836640"/>
            <a:ext cx="345600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210492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行 书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588000" y="575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草 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44000" y="6381720"/>
            <a:ext cx="79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771640" y="2060640"/>
            <a:ext cx="3292560" cy="23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09" name="Picture 5" descr="MCj04288950000[1]"/>
          <p:cNvPicPr/>
          <p:nvPr/>
        </p:nvPicPr>
        <p:blipFill>
          <a:blip r:embed="rId1"/>
          <a:stretch/>
        </p:blipFill>
        <p:spPr>
          <a:xfrm>
            <a:off x="6877080" y="5157720"/>
            <a:ext cx="17841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A98-8D3A-49BB-B55E-3A3299E093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701640" y="112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4360" y="206064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、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肴、斟、羲、熏、逸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五个生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流利地朗读课文，理解文章大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王羲之专心致志、勤学苦练的精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80000" y="836640"/>
            <a:ext cx="49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王羲之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03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6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），汉族，字逸少，号澹斋，身长七尺有余约为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8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），原籍琅琊临沂（今属山东），后迁居山阴（今浙江绍兴），官至右军将军，会稽内史，是东晋伟大的书法家，被后人尊为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书圣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他的儿子王献之书法也很好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们称他们两为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二王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"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另一个儿子王凝之官至左将军，因曾任右军将军，世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王右军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王会稽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王羲之画像"/>
          <p:cNvPicPr/>
          <p:nvPr/>
        </p:nvPicPr>
        <p:blipFill>
          <a:blip r:embed="rId1"/>
          <a:stretch/>
        </p:blipFill>
        <p:spPr>
          <a:xfrm>
            <a:off x="539640" y="1052640"/>
            <a:ext cx="28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兰亭序 冯承素本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00080" y="747720"/>
            <a:ext cx="7143840" cy="5362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564000" y="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兰亭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1835280" y="23493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兰亭序 冯承素本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8640" y="836640"/>
            <a:ext cx="7143480" cy="5362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564000" y="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兰亭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兰亭序 冯承素本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00080" y="747720"/>
            <a:ext cx="7143840" cy="5362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兰亭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23840" y="1125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042920" y="2060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，想想课文主要讲了什么内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4273570000[1]"/>
          <p:cNvPicPr/>
          <p:nvPr/>
        </p:nvPicPr>
        <p:blipFill>
          <a:blip r:embed="rId1"/>
          <a:stretch/>
        </p:blipFill>
        <p:spPr>
          <a:xfrm>
            <a:off x="6588000" y="4653000"/>
            <a:ext cx="21862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71640" y="3068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肴  斟  羲  熏  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97164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á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84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ē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1164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50872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ū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30872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939960" y="1341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MCj04289050000[1]"/>
          <p:cNvPicPr/>
          <p:nvPr/>
        </p:nvPicPr>
        <p:blipFill>
          <a:blip r:embed="rId1"/>
          <a:stretch/>
        </p:blipFill>
        <p:spPr>
          <a:xfrm rot="1723800">
            <a:off x="7164360" y="5013360"/>
            <a:ext cx="17654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017720" y="76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87480" y="1557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一、二自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042920" y="3933720"/>
            <a:ext cx="669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讨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开头是以一件事情引出王羲之的，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为这样的开头有什么表达效果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71640" y="242100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阅读一、二自然段，说说主要说了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件什么事情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0:43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7:28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