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6014-9809-482C-9F42-55A138146D16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7D84-1952-4787-86A5-F7A4EE6F30E9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228B-5B88-4110-BDF1-111F5FBE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E2D-41AB-4A98-9AE2-22F12213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196-5317-4A0A-9EBB-A823ACE2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EB7-F7E0-4C65-8C04-21F4507E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BB3E-06D0-4135-A245-962DCDE1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68CD-0DA7-4BC2-8D9F-F2D7F65E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FDC0-2B3D-46E5-A266-50D79F98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1919-3314-4D22-88D8-0A755191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6F87-30C8-417E-B977-8E4FCE07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1F2A-FDD9-4044-BCF3-A3463946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5591-C714-4BF9-9EE3-15EA1D1B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710E-4101-447A-B70C-2ED55EA6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D4E3-D106-4D3D-868B-D0723676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0893-BA00-49D6-AF57-3A33B74C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F7E4-177D-4968-8E3D-B759BCE4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D771-A57B-49E7-AC92-B592A3EA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64EB-B60A-4791-821D-1445DDA9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0902B-F19C-4F2A-9776-D1D97E97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0423D-4318-4BBF-9FC3-A7294FA5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3E46A-708A-43C6-A772-6E59E776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E217B-0BDD-4350-A4F8-E1280183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B0744-85C4-4781-8116-FEABDC97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8D08-A60B-4B55-8CCE-0759A182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B27C2-ACE6-4878-84D5-6950CACC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AAA0B-8D5F-44FA-997B-33A8581B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1E5D8-E947-4705-AB23-0ACD17BC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11E0C-FBA3-4102-8F90-3355E2EC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39E1F-B4C9-47DC-A720-4FC863F2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3A01D-5277-4062-BA5B-3CEEEF71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F4DEB-9FAA-4668-8970-9CF1D080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4E3-20D4-459B-9F6E-51BD9BD1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414-21B7-434B-AADE-33001018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433-3C8A-4BA3-AA81-C703B0B6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D50-957F-4177-8EBF-A6E998F0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7DE-7761-44C1-858C-5421DF5F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A06-362A-4976-8816-71AC9FEE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EE8D-F996-40D5-9955-0E9AFEE71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C974-C19A-4F61-9B29-3819FC98F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B6E1-368F-44DE-8C03-67A98E903740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900000" y="3068640"/>
            <a:ext cx="734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8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华文楷体"/>
              </a:rPr>
              <a:t>生死攸关的烛光</a:t>
            </a:r>
            <a:endParaRPr b="1" i="1" lang="en-US" sz="1800" spc="1" strike="noStrike">
              <a:ln w="18360">
                <a:solidFill>
                  <a:srgbClr val="ffffff"/>
                </a:solidFill>
                <a:round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78884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635280" y="836640"/>
            <a:ext cx="47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她看着两个脸色苍白的儿女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急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从厨房中取出一盏油灯放在桌上。“瞧，先生们，这盏灯亮些。”说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轻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把蜡烛吹熄。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图片1"/>
          <p:cNvPicPr/>
          <p:nvPr/>
        </p:nvPicPr>
        <p:blipFill>
          <a:blip r:embed="rId1"/>
          <a:stretch/>
        </p:blipFill>
        <p:spPr>
          <a:xfrm>
            <a:off x="324000" y="620640"/>
            <a:ext cx="27716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94920" y="2637000"/>
            <a:ext cx="7272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烛光摇曳着，发出微弱的光。此时此刻，它仿佛成了这房子里最可怕的东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2349360"/>
            <a:ext cx="8540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在这生死攸关的时刻，如果此时你就是家中唯一的男子汉雅克，你会想些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4360" y="1844640"/>
            <a:ext cx="7821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华文仿宋"/>
              </a:rPr>
              <a:t>    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仿宋"/>
              </a:rPr>
              <a:t>这时候，儿子雅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慢慢地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仿宋"/>
              </a:rPr>
              <a:t>站起来，</a:t>
            </a:r>
            <a:r>
              <a:rPr b="1" lang="zh-CN" sz="40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“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仿宋"/>
              </a:rPr>
              <a:t>天真冷，我到柴房去搬些柴来生个火吧。</a:t>
            </a:r>
            <a:r>
              <a:rPr b="1" lang="zh-CN" sz="40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”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仿宋"/>
              </a:rPr>
              <a:t>说着伸手端起烛台朝门口走去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，房子顿时暗了下来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仿宋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11280" y="335772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4360" y="1844640"/>
            <a:ext cx="7821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华文仿宋"/>
              </a:rPr>
              <a:t>    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仿宋"/>
              </a:rPr>
              <a:t>这时候，儿子雅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仿宋"/>
              </a:rPr>
              <a:t>慢慢地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仿宋"/>
              </a:rPr>
              <a:t>站起来，</a:t>
            </a:r>
            <a:r>
              <a:rPr b="1" lang="zh-CN" sz="40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“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仿宋"/>
              </a:rPr>
              <a:t>天真冷，我到柴房去搬些柴来生个火吧。</a:t>
            </a:r>
            <a:r>
              <a:rPr b="1" lang="zh-CN" sz="40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”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仿宋"/>
              </a:rPr>
              <a:t>说着伸手端起烛台朝门口走去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，房子顿时暗了下来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仿宋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11280" y="335772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11280" y="1125360"/>
            <a:ext cx="7821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华文仿宋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39640" y="16286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孩子是懂事的，他知道，厄运即将到来了，但在斗争的最后阶段，自己必须在场。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从容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搬回一捆木柴，生了火，默默地坐待最后的时刻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565200" y="69228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知道，厄运即将到来了，但在斗争的最后阶段，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必须在场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从容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搬回一捆木柴，生了火，默默地坐待最后的时刻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11280" y="1125360"/>
            <a:ext cx="7821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华文仿宋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39640" y="16286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孩子是懂事的，他知道，厄运即将到来了，但在斗争的最后阶段，自己必须在场。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从容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搬回一捆木柴，生了火，默默地坐待最后的时刻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000" y="2636640"/>
            <a:ext cx="72723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烛光摇曳着，发出微弱的光。此时此刻，它仿佛成了这房子里最可怕的东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8000" y="2636640"/>
            <a:ext cx="72723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烛光摇曳着，发出微弱的光。此时此刻，它仿佛成了这房子里最可怕的东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时钟1.mp3" descr=""/>
          <p:cNvPicPr/>
          <p:nvPr/>
        </p:nvPicPr>
        <p:blipFill>
          <a:blip r:embed="rId2"/>
          <a:stretch/>
        </p:blipFill>
        <p:spPr>
          <a:xfrm>
            <a:off x="7956720" y="6021360"/>
            <a:ext cx="3045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332000" y="2997360"/>
            <a:ext cx="676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050920" y="1268280"/>
            <a:ext cx="48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男女生  大比拼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95280" y="234936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举手发言，说说关于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情况危急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心情紧张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成语，我会快速点名，一个男生一个女生，如果点到你，你却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不能快速说出来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或者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与前面的人重复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或者你们那一队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没人举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很遗憾，你们这一队就输了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0" y="3789360"/>
            <a:ext cx="914400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79280" y="29242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突然，杰奎琳娇声地对德国人说道：“司令官先生，天晚了，楼上黑，我可以拿一盏灯上楼睡觉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250920" y="3860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杰奎琳仰起小脸，高兴地说：“那太好了。不过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司令官先生，今晚我的头很痛，我想睡觉了，下次再给我讲好吗？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324000" y="5300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杰奎琳镇定地把烛台端起来，向几位军官道过晚安，上楼去了。正当她踏上最后一级阶梯时，蜡烛熄灭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9" descr="生命攸关的烛光"/>
          <p:cNvPicPr/>
          <p:nvPr/>
        </p:nvPicPr>
        <p:blipFill>
          <a:blip r:embed="rId1"/>
          <a:stretch/>
        </p:blipFill>
        <p:spPr>
          <a:xfrm>
            <a:off x="0" y="0"/>
            <a:ext cx="9144000" cy="2865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24000" y="980640"/>
            <a:ext cx="82915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时间一分一秒地过去了。突然，小女儿杰奎琳娇声地对德国人说道：“司令官先生，天晚了，楼上黑，我可以拿一盏灯上楼睡觉吗？”少校瞧了瞧这位可爱的小姑娘，一把拉她到身边，用亲切的声音说：“当然可以。我家也有一个你这样年纪的小女儿。来，我给你讲讲我的路易莎好吗？”杰奎琳仰起小脸，高兴地说：“那太好了！不过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司令官先生，今晚我的头很痛，我想睡觉了，下次您再给我讲好吗？”“当然可以，小姑娘。”杰奎琳镇定地把烛台端起来，向几们军官道过晚安，上楼去了。正当她踏上最后一级阶梯时，蜡烛熄灭了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1187280" y="2133720"/>
            <a:ext cx="6913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续编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死攸关的烛光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"/>
          <p:cNvSpPr/>
          <p:nvPr/>
        </p:nvSpPr>
        <p:spPr>
          <a:xfrm>
            <a:off x="1424160" y="6048360"/>
            <a:ext cx="56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320" y="765000"/>
            <a:ext cx="35416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400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课后自由结合，把课文改编成课本剧，看哪一组表现得最好，评选出最佳编剧、导演和演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好书推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第二次世界大战回忆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]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丘吉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第二次世界大战战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]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哈 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4893-6306-4F54-81DA-452C887851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826920" y="1628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情报泄露，将会导致多少人死亡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987640" y="256536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小于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59280" y="357336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等于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987640" y="46530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大于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1"/>
          <p:cNvPicPr/>
          <p:nvPr/>
        </p:nvPicPr>
        <p:blipFill>
          <a:blip r:embed="rId1"/>
          <a:stretch/>
        </p:blipFill>
        <p:spPr>
          <a:xfrm>
            <a:off x="936720" y="1600200"/>
            <a:ext cx="3079800" cy="2185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35280" y="6021000"/>
            <a:ext cx="5472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二战时期的德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0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0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04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05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06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6477120" y="160020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342040" y="1295280"/>
            <a:ext cx="1896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德军处死的妇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07"/>
          <p:cNvPicPr/>
          <p:nvPr/>
        </p:nvPicPr>
        <p:blipFill>
          <a:blip r:embed="rId7"/>
          <a:stretch/>
        </p:blipFill>
        <p:spPr>
          <a:xfrm>
            <a:off x="0" y="115920"/>
            <a:ext cx="7162920" cy="67420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3"/>
          <p:cNvSpPr/>
          <p:nvPr/>
        </p:nvSpPr>
        <p:spPr>
          <a:xfrm>
            <a:off x="7472160" y="1752480"/>
            <a:ext cx="91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屠杀现场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4" descr="08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英雄的黎明.mp3" descr=""/>
          <p:cNvPicPr/>
          <p:nvPr/>
        </p:nvPicPr>
        <p:blipFill>
          <a:blip r:embed="rId9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WordArt 2" descr=""/>
          <p:cNvPicPr/>
          <p:nvPr/>
        </p:nvPicPr>
        <p:blipFill>
          <a:blip r:embed="rId1"/>
          <a:stretch/>
        </p:blipFill>
        <p:spPr>
          <a:xfrm>
            <a:off x="2184480" y="1257480"/>
            <a:ext cx="5010120" cy="1082520"/>
          </a:xfrm>
          <a:prstGeom prst="rect">
            <a:avLst/>
          </a:prstGeom>
          <a:ln w="0">
            <a:noFill/>
          </a:ln>
        </p:spPr>
      </p:pic>
      <p:pic>
        <p:nvPicPr>
          <p:cNvPr id="154" name="WordArt 3" descr=""/>
          <p:cNvPicPr/>
          <p:nvPr/>
        </p:nvPicPr>
        <p:blipFill>
          <a:blip r:embed="rId2"/>
          <a:stretch/>
        </p:blipFill>
        <p:spPr>
          <a:xfrm>
            <a:off x="2184480" y="3057480"/>
            <a:ext cx="4970520" cy="866880"/>
          </a:xfrm>
          <a:prstGeom prst="rect">
            <a:avLst/>
          </a:prstGeom>
          <a:ln w="0">
            <a:noFill/>
          </a:ln>
        </p:spPr>
      </p:pic>
      <p:pic>
        <p:nvPicPr>
          <p:cNvPr id="155" name="WordArt 4" descr=""/>
          <p:cNvPicPr/>
          <p:nvPr/>
        </p:nvPicPr>
        <p:blipFill>
          <a:blip r:embed="rId3"/>
          <a:stretch/>
        </p:blipFill>
        <p:spPr>
          <a:xfrm>
            <a:off x="2257560" y="4572000"/>
            <a:ext cx="50544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000" y="2636640"/>
            <a:ext cx="72723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烛光摇曳着，发出微弱的光。此时此刻，它仿佛成了这房子里最可怕的东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6"/>
          <p:cNvSpPr/>
          <p:nvPr/>
        </p:nvSpPr>
        <p:spPr>
          <a:xfrm>
            <a:off x="617400" y="3789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3059280" y="2754720"/>
            <a:ext cx="5449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自学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3-7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自然段，回答问题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这生死攸关的时刻，伯瑙德一家三口如何与德军巧妙周旋保护情报？边读边画出有关语句，重点标出他们的语言、动作的地方，在旁边写写你的体会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图片1"/>
          <p:cNvPicPr/>
          <p:nvPr/>
        </p:nvPicPr>
        <p:blipFill>
          <a:blip r:embed="rId1"/>
          <a:stretch/>
        </p:blipFill>
        <p:spPr>
          <a:xfrm>
            <a:off x="324000" y="476280"/>
            <a:ext cx="22748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6"/>
          <p:cNvSpPr/>
          <p:nvPr/>
        </p:nvSpPr>
        <p:spPr>
          <a:xfrm>
            <a:off x="3635280" y="836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她看着两个脸色苍白的儿女，急忙从厨房中取出一盏油灯放在桌上。“瞧，先生们，这盏灯亮些。”说着轻轻把蜡烛吹熄。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图片1"/>
          <p:cNvPicPr/>
          <p:nvPr/>
        </p:nvPicPr>
        <p:blipFill>
          <a:blip r:embed="rId1"/>
          <a:stretch/>
        </p:blipFill>
        <p:spPr>
          <a:xfrm>
            <a:off x="324000" y="620640"/>
            <a:ext cx="27716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635280" y="836640"/>
            <a:ext cx="47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她看着两个脸色苍白的儿女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急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从厨房中取出一盏油灯放在桌上。“瞧，先生们，这盏灯亮些。”说着轻轻把蜡烛吹熄。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图片1"/>
          <p:cNvPicPr/>
          <p:nvPr/>
        </p:nvPicPr>
        <p:blipFill>
          <a:blip r:embed="rId1"/>
          <a:stretch/>
        </p:blipFill>
        <p:spPr>
          <a:xfrm>
            <a:off x="324000" y="620640"/>
            <a:ext cx="27716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3:33:2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9:46Z</dcterms:modified>
  <cp:revision>16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