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44BC-3BEC-4C51-A292-BF68E25566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8BC6-91AB-4DAC-B929-2814A7ED4B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0BF-11E8-4E9A-B125-5637C32D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B28-954A-4BE6-911B-86D9DB77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92C-12CF-434C-99E7-B28B7448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C3A-9204-46EC-84DE-DFC05CE1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763-3E64-4656-8031-CE5AC9A3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FAD-2CEA-48B5-B627-44F17447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BC7-1232-4D0C-9D31-DB4D2630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B78-4C1C-4EB5-A3C3-43F0D43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FAA-BB6A-46F8-8DBA-74FC111A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728-6140-47F8-B4C3-AC9FC8B1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DB1-1B4C-4A03-999E-4A9FEEB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8B2-C7B3-4533-AD80-6C1406B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AE3C-E6D9-446D-8F56-2F1DD4F206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3" descr=""/>
          <p:cNvPicPr/>
          <p:nvPr/>
        </p:nvPicPr>
        <p:blipFill>
          <a:blip r:embed="rId2"/>
          <a:stretch/>
        </p:blipFill>
        <p:spPr>
          <a:xfrm>
            <a:off x="1222200" y="1179360"/>
            <a:ext cx="6697800" cy="34624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8" descr=""/>
          <p:cNvPicPr/>
          <p:nvPr/>
        </p:nvPicPr>
        <p:blipFill>
          <a:blip r:embed="rId3"/>
          <a:stretch/>
        </p:blipFill>
        <p:spPr>
          <a:xfrm>
            <a:off x="1486080" y="5954760"/>
            <a:ext cx="64022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55640" y="404640"/>
            <a:ext cx="7056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塞下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唐</a:t>
            </a:r>
            <a:r>
              <a:rPr b="1" lang="zh-CN" sz="5400" spc="-1" strike="noStrike">
                <a:solidFill>
                  <a:srgbClr val="cc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卢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林暗草惊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将军夜引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平明寻白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没在石棱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411280" y="3213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ji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140360" y="530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l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256536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</a:rPr>
              <a:t>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979640" y="1989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jiāng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将军   将要   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79640" y="3068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xiáng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投降   降服   降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763640" y="2205000"/>
            <a:ext cx="73080" cy="1440000"/>
          </a:xfrm>
          <a:custGeom>
            <a:avLst/>
            <a:gdLst>
              <a:gd name="textAreaLeft" fmla="*/ 46800 w 73080"/>
              <a:gd name="textAreaRight" fmla="*/ 73440 w 73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403280" y="4724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</a:rPr>
              <a:t>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700360" y="4581360"/>
            <a:ext cx="73080" cy="1440000"/>
          </a:xfrm>
          <a:custGeom>
            <a:avLst/>
            <a:gdLst>
              <a:gd name="textAreaLeft" fmla="*/ 46800 w 73080"/>
              <a:gd name="textAreaRight" fmla="*/ 73440 w 73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059280" y="436572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méi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没有   没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203640" y="5373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mò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淹没   没收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2"/>
          <p:cNvSpPr/>
          <p:nvPr/>
        </p:nvSpPr>
        <p:spPr>
          <a:xfrm>
            <a:off x="3700440" y="423864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763640" y="189000"/>
            <a:ext cx="705636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塞下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唐</a:t>
            </a:r>
            <a:r>
              <a:rPr b="1" lang="zh-CN" sz="5400" spc="-1" strike="noStrike">
                <a:solidFill>
                  <a:srgbClr val="cc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卢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林暗草惊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将军夜引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平明寻白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没在石棱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24360" y="17002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惊风：突然被风吹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940360" y="263700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引弓：拉弓，开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84328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没：陷入，这里是钻进的意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88000" y="3645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白羽：箭杆后部的白色羽毛，这里指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547640" y="37162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平明：天刚亮的时候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435640" y="573408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石棱：石头的边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411280" y="12927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塞下曲：古代歌曲名。这类作品多是描写边境风光和战争生活的。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042920" y="2349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昏暗的树林中，草突然被风吹得摇摆不定，飒飒作响，将军以为野兽来了，连忙开弓射箭。 天亮去寻找那只箭，已经深深地陷入石棱中。</a:t>
            </a:r>
            <a:r>
              <a:rPr b="0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916360" y="90792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99"/>
                </a:solidFill>
                <a:latin typeface="Arial"/>
                <a:ea typeface="黑体"/>
              </a:rPr>
              <a:t>诗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115920"/>
            <a:ext cx="87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质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将军射老虎，干吗不汉时就看结果，还要等第二天早晨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第一，这样可以表现将军的自信，从来是百发百中，这一次还怕它死不了跑掉吗？第二，可以增加形象的直观性，让人看得更清楚些，如果是当夜就看，固然也能发现是一场误会，但很难取得现在这样的画面一般的鲜明效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635280" y="3068640"/>
            <a:ext cx="48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如果射中的真是老虎将会射成什么样子？如果在战场上射击敌军兵马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于是，一位武艺高强、英勇善战的将军形象，便盘马弯弓、巍然屹立在我们眼前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380880" y="6378480"/>
            <a:ext cx="49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8000" y="333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这首边塞小诗，写一位将军猎虎的故事，取材于西汉只学家司马迁记载当时名将李广事迹的《李将军列传》。原文是：“广出猎，见草中石，以为虎而射之中，中（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zhòng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石没镞（箭头），视之，石也。”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B29E-FDF1-4837-A0B3-836C80E246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45:14Z</dcterms:modified>
  <cp:revision>1</cp:revision>
  <dc:subject/>
  <dc:title>幻灯片 1</dc:title>
</cp:coreProperties>
</file>