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D23-D706-4420-A985-34AC2E8AFC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F7E-392A-4A4F-A9D7-CB113C7608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E19-B0B9-4C4E-8AF4-6E0D2DDD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96F-28EA-4A2F-BE5E-91D8F34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FED-AC5E-4A9C-BF4A-2F6AA321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5D8-C46C-456F-9A35-463713B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965-F3FF-4441-BEA9-2C47B3F0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B65-EB3E-4C53-98A7-F6FB18E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250-7221-454A-9000-B734FBB4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B7F-8A51-4FEC-88B5-626B4E8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78D-9F9E-4DD7-9DAE-18988DBF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7C1-56F7-4966-B086-AA31BA1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C09-E66C-4739-8579-B71D498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EDD-1CF0-4138-9F55-ACCCB81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7860-FCA4-4C9C-B3BC-6BDF5891E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990720" y="1606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铜板的响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175068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板说：“他坐在我饭馆的门槛上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闻了我店里的饭菜香味，当然得付钱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662120" y="190512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板欺诈穷汉，贪婪可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42880" y="2736720"/>
            <a:ext cx="822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穷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分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：“我原来想来这儿吃饭的，一摸口袋只有两三个铜板了，哪够进店吃饭呢！我就坐在门槛上把自个儿带来的干粮吃了。吃完我刚要走，老板就揪住我要钱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09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838080" y="304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辨、辩、辫、瓣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62320" y="15238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撇要（  ）别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言来分（  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瓜分几（  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丝带扎长（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04920" y="5335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2"/>
                </a:moveTo>
                <a:lnTo>
                  <a:pt x="145529" y="116423"/>
                </a:lnTo>
                <a:lnTo>
                  <a:pt x="190500" y="0"/>
                </a:lnTo>
                <a:lnTo>
                  <a:pt x="235470" y="116423"/>
                </a:lnTo>
                <a:lnTo>
                  <a:pt x="380999" y="116422"/>
                </a:lnTo>
                <a:lnTo>
                  <a:pt x="263263" y="188375"/>
                </a:lnTo>
                <a:lnTo>
                  <a:pt x="308235" y="304799"/>
                </a:lnTo>
                <a:lnTo>
                  <a:pt x="190500" y="232844"/>
                </a:lnTo>
                <a:lnTo>
                  <a:pt x="72764" y="304799"/>
                </a:lnTo>
                <a:lnTo>
                  <a:pt x="117736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952880" y="14479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638680" y="228600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870520" y="31212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870520" y="3959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3"/>
          <p:cNvSpPr txBox="1"/>
          <p:nvPr/>
        </p:nvSpPr>
        <p:spPr>
          <a:xfrm>
            <a:off x="457200" y="1828800"/>
            <a:ext cx="86868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你觉得穷汉该不该付钱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觉得饭馆老板是个什么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饭馆老板是一个唯利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图、不讲道理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09480" y="18288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噢，原来是这么回事！把你的钱给我。”阿凡提对穷汉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26" name="Picture 4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5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9"/>
          <p:cNvSpPr/>
          <p:nvPr/>
        </p:nvSpPr>
        <p:spPr>
          <a:xfrm>
            <a:off x="2168640" y="3733920"/>
            <a:ext cx="65181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穷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满肚子委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掏出兜里的几个铜板交给阿凡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针对老板的无理取闹，阿凡提采用了什么样的办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34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8"/>
          <p:cNvSpPr/>
          <p:nvPr/>
        </p:nvSpPr>
        <p:spPr>
          <a:xfrm>
            <a:off x="380880" y="914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噢，原来是这么回事！把你的钱给我。”阿凡提对穷汉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04920" y="2971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阿凡提把铜板握到手心里，贴近老板的耳朵使劲地摇了一阵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561192820884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3"/>
          <p:cNvGrpSpPr/>
          <p:nvPr/>
        </p:nvGrpSpPr>
        <p:grpSpPr>
          <a:xfrm>
            <a:off x="0" y="4343400"/>
            <a:ext cx="3048120" cy="2514600"/>
            <a:chOff x="0" y="4343400"/>
            <a:chExt cx="3048120" cy="2514600"/>
          </a:xfrm>
        </p:grpSpPr>
        <p:pic>
          <p:nvPicPr>
            <p:cNvPr id="143" name="Picture 4" descr="0042137504"/>
            <p:cNvPicPr/>
            <p:nvPr/>
          </p:nvPicPr>
          <p:blipFill>
            <a:blip r:embed="rId2"/>
            <a:stretch/>
          </p:blipFill>
          <p:spPr>
            <a:xfrm>
              <a:off x="0" y="4343400"/>
              <a:ext cx="207756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5"/>
            <p:cNvSpPr/>
            <p:nvPr/>
          </p:nvSpPr>
          <p:spPr>
            <a:xfrm>
              <a:off x="0" y="6552720"/>
              <a:ext cx="818280" cy="30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1858680" y="6165000"/>
              <a:ext cx="118944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1908360" y="5194440"/>
              <a:ext cx="10663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1562040" y="4613040"/>
              <a:ext cx="106488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9"/>
          <p:cNvSpPr/>
          <p:nvPr/>
        </p:nvSpPr>
        <p:spPr>
          <a:xfrm>
            <a:off x="3200400" y="4710240"/>
            <a:ext cx="316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铜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50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228600" y="0"/>
            <a:ext cx="8610480" cy="1434600"/>
            <a:chOff x="228600" y="0"/>
            <a:chExt cx="8610480" cy="1434600"/>
          </a:xfrm>
        </p:grpSpPr>
        <p:sp>
          <p:nvSpPr>
            <p:cNvPr id="156" name="Rectangle 9"/>
            <p:cNvSpPr/>
            <p:nvPr/>
          </p:nvSpPr>
          <p:spPr>
            <a:xfrm>
              <a:off x="304920" y="0"/>
              <a:ext cx="853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噢，原来是这么回事！把你的钱给我。”阿凡提对穷汉说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228600" y="304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228600" y="1676520"/>
            <a:ext cx="8610480" cy="764280"/>
            <a:chOff x="228600" y="1676520"/>
            <a:chExt cx="8610480" cy="764280"/>
          </a:xfrm>
        </p:grpSpPr>
        <p:sp>
          <p:nvSpPr>
            <p:cNvPr id="159" name="Rectangle 12"/>
            <p:cNvSpPr/>
            <p:nvPr/>
          </p:nvSpPr>
          <p:spPr>
            <a:xfrm>
              <a:off x="380880" y="1676520"/>
              <a:ext cx="845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阿凡提把铜板握到手心里，贴近老板的耳朵使劲地摇了一阵子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>
              <a:hlinkClick r:id="" action="ppaction://hlinkshowjump?jump=nextslide"/>
            </p:cNvPr>
            <p:cNvSpPr/>
            <p:nvPr/>
          </p:nvSpPr>
          <p:spPr>
            <a:xfrm>
              <a:off x="228600" y="19810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4"/>
          <p:cNvSpPr/>
          <p:nvPr/>
        </p:nvSpPr>
        <p:spPr>
          <a:xfrm>
            <a:off x="2057400" y="32767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料，阿凡提把铜板又还给了穷汉，说：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走吧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63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228600" y="0"/>
            <a:ext cx="8610480" cy="1434600"/>
            <a:chOff x="228600" y="0"/>
            <a:chExt cx="8610480" cy="1434600"/>
          </a:xfrm>
        </p:grpSpPr>
        <p:sp>
          <p:nvSpPr>
            <p:cNvPr id="169" name="Rectangle 9"/>
            <p:cNvSpPr/>
            <p:nvPr/>
          </p:nvSpPr>
          <p:spPr>
            <a:xfrm>
              <a:off x="304920" y="0"/>
              <a:ext cx="853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噢，原来是这么回事！把你的钱给我。”阿凡提对穷汉说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0"/>
            <p:cNvSpPr/>
            <p:nvPr/>
          </p:nvSpPr>
          <p:spPr>
            <a:xfrm>
              <a:off x="228600" y="304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228600" y="1676520"/>
            <a:ext cx="8610480" cy="764280"/>
            <a:chOff x="228600" y="1676520"/>
            <a:chExt cx="8610480" cy="764280"/>
          </a:xfrm>
        </p:grpSpPr>
        <p:sp>
          <p:nvSpPr>
            <p:cNvPr id="172" name="Rectangle 12"/>
            <p:cNvSpPr/>
            <p:nvPr/>
          </p:nvSpPr>
          <p:spPr>
            <a:xfrm>
              <a:off x="380880" y="1676520"/>
              <a:ext cx="845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阿凡提把铜板握到手心里，贴近老板的耳朵使劲地摇了一阵子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">
              <a:hlinkClick r:id="" action="ppaction://hlinkshowjump?jump=nextslide"/>
            </p:cNvPr>
            <p:cNvSpPr/>
            <p:nvPr/>
          </p:nvSpPr>
          <p:spPr>
            <a:xfrm>
              <a:off x="228600" y="19810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4"/>
          <p:cNvSpPr/>
          <p:nvPr/>
        </p:nvSpPr>
        <p:spPr>
          <a:xfrm>
            <a:off x="2057400" y="32767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阿凡提把铜板又还给了穷汉，说：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走吧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读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阿凡提喜欢打抱不平同情弱者、帮助弱者的性格，体会和感受阿凡提的幽默与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学生喜欢阅读，感受阅读的乐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76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380880" y="7621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阿凡提不紧不慢地说：“他闻了你饭菜的香味，你听了他铜板的响声，两相抵消，谁也不欠谁的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83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"/>
          <p:cNvSpPr/>
          <p:nvPr/>
        </p:nvSpPr>
        <p:spPr>
          <a:xfrm>
            <a:off x="380880" y="7621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阿凡提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不紧不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地说：“他闻了你饭菜的香味，你听了他铜板的响声，两相抵消，谁也不欠谁的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971720" y="4419720"/>
            <a:ext cx="71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相抵消：本文指穷汉和饭馆老板谁也不欠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135160" y="6021360"/>
            <a:ext cx="647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246400" y="6180120"/>
            <a:ext cx="64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上不下   不咸不淡  不好不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4419720"/>
            <a:ext cx="2971440" cy="2437920"/>
            <a:chOff x="0" y="4419720"/>
            <a:chExt cx="2971440" cy="2437920"/>
          </a:xfrm>
        </p:grpSpPr>
        <p:pic>
          <p:nvPicPr>
            <p:cNvPr id="193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2025360" cy="24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0" y="6561720"/>
              <a:ext cx="797760" cy="29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1811880" y="6185880"/>
              <a:ext cx="115956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1860480" y="5244840"/>
              <a:ext cx="103932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1522800" y="4681080"/>
              <a:ext cx="10382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8"/>
          <p:cNvSpPr/>
          <p:nvPr/>
        </p:nvSpPr>
        <p:spPr>
          <a:xfrm>
            <a:off x="533520" y="19810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老板听了，张着嘴说不出话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762120" y="3657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板听了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2971800" y="838080"/>
            <a:ext cx="3581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仿写句子！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1540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板听了阿凡提的话，为什么张着嘴说不出话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80360" y="196200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凡提以牙还牙，让饭馆老板听了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铜板的响声，就算付了穷汉闻饭菜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味的饭钱。阿凡提的做法合情合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而饭馆老板想多骗个钱的梦想泡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，他很无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1131840" y="5835600"/>
            <a:ext cx="52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课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凡提的聪明智慧、幽默正直让我们无比佩服与崇敬，我们应该向他那样不畏强权，怀着一颗正义之心打抱不平，帮助弱者。课后请大家多去阅读阿凡提的故事，或观看阿凡提的动画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4495680"/>
            <a:ext cx="2889000" cy="2361960"/>
            <a:chOff x="0" y="4495680"/>
            <a:chExt cx="2889000" cy="2361960"/>
          </a:xfrm>
        </p:grpSpPr>
        <p:pic>
          <p:nvPicPr>
            <p:cNvPr id="207" name="Picture 3" descr="0042137504"/>
            <p:cNvPicPr/>
            <p:nvPr/>
          </p:nvPicPr>
          <p:blipFill>
            <a:blip r:embed="rId1"/>
            <a:stretch/>
          </p:blipFill>
          <p:spPr>
            <a:xfrm>
              <a:off x="0" y="4495680"/>
              <a:ext cx="2284560" cy="23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4"/>
            <p:cNvSpPr/>
            <p:nvPr/>
          </p:nvSpPr>
          <p:spPr>
            <a:xfrm>
              <a:off x="0" y="6571080"/>
              <a:ext cx="90000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1717920" y="4748760"/>
              <a:ext cx="117108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380880" y="22698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阿凡提的名字在我国新疆维吾尔族被称为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纳塞尔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。他的故事家喻户晓，无论在哪儿，他总是一个用幽默和智慧伸张正义、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b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MS UI Gothic"/>
              </a:rPr>
              <a:t>t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邪恶的人物形象。他很善良，帮助所有他遇到的有困难的人；他很勇敢，总是敢于挑战邪恶与霸权；他很聪明，他让好人得到好报，让恶人受到惩罚。中国先后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汉、维、蒙、哈、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五种文字出版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十四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版本的《阿凡提的故事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2714760" y="5543640"/>
            <a:ext cx="5319720" cy="761760"/>
            <a:chOff x="2714760" y="5543640"/>
            <a:chExt cx="5319720" cy="761760"/>
          </a:xfrm>
        </p:grpSpPr>
        <p:sp>
          <p:nvSpPr>
            <p:cNvPr id="212" name="WordArt 10"/>
            <p:cNvSpPr txBox="1"/>
            <p:nvPr/>
          </p:nvSpPr>
          <p:spPr>
            <a:xfrm>
              <a:off x="2714760" y="5543640"/>
              <a:ext cx="40384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楷体_GB2312"/>
                </a:rPr>
                <a:t>阅读小链接</a:t>
              </a:r>
              <a:endParaRPr b="1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7058160" y="5695560"/>
              <a:ext cx="976320" cy="48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9f5a5"/>
            </a:solidFill>
            <a:ln w="9360">
              <a:solidFill>
                <a:srgbClr val="f980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323208"/>
          <p:cNvPicPr/>
          <p:nvPr/>
        </p:nvPicPr>
        <p:blipFill>
          <a:blip r:embed="rId1"/>
          <a:stretch/>
        </p:blipFill>
        <p:spPr>
          <a:xfrm>
            <a:off x="914400" y="228600"/>
            <a:ext cx="2548080" cy="2895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883894big"/>
          <p:cNvPicPr/>
          <p:nvPr/>
        </p:nvPicPr>
        <p:blipFill>
          <a:blip r:embed="rId2"/>
          <a:stretch/>
        </p:blipFill>
        <p:spPr>
          <a:xfrm>
            <a:off x="5715000" y="3352680"/>
            <a:ext cx="2438280" cy="3124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753064955m914209"/>
          <p:cNvPicPr/>
          <p:nvPr/>
        </p:nvPicPr>
        <p:blipFill>
          <a:blip r:embed="rId3"/>
          <a:stretch/>
        </p:blipFill>
        <p:spPr>
          <a:xfrm>
            <a:off x="5715000" y="152280"/>
            <a:ext cx="2438280" cy="3057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2008113020134667777801"/>
          <p:cNvPicPr/>
          <p:nvPr/>
        </p:nvPicPr>
        <p:blipFill>
          <a:blip r:embed="rId4"/>
          <a:stretch/>
        </p:blipFill>
        <p:spPr>
          <a:xfrm>
            <a:off x="914400" y="342900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09070616392b1f34303cc5c8cf"/>
          <p:cNvPicPr/>
          <p:nvPr/>
        </p:nvPicPr>
        <p:blipFill>
          <a:blip r:embed="rId5"/>
          <a:stretch/>
        </p:blipFill>
        <p:spPr>
          <a:xfrm>
            <a:off x="2590920" y="152388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ǎn        fán        qióng         zh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          凡            穷              者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板     阿凡提      穷人           记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木板     平凡          穷困           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板     下凡          穷富           弱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à         fù            jiāo           qià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骂          付             交               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骂人     付钱         交代           欠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骂     付出         交上           欠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6CB1-8FDC-48ED-9073-B8904C3EF9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cb995334e40c8d1a8018e56"/>
          <p:cNvPicPr/>
          <p:nvPr/>
        </p:nvPicPr>
        <p:blipFill>
          <a:blip r:embed="rId1"/>
          <a:stretch/>
        </p:blipFill>
        <p:spPr>
          <a:xfrm>
            <a:off x="0" y="-66600"/>
            <a:ext cx="9067680" cy="684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64840" y="952560"/>
            <a:ext cx="844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óng  bǎn  fán  huì  yōu  mò  qió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zhě   guǎn   niǔ   mà   tǎo   chě  f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iàn   jiāo   q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89040" y="1676520"/>
            <a:ext cx="80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铜      板     凡    慧    幽     默     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82560" y="2819520"/>
            <a:ext cx="82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者       馆       扭    骂     讨     扯   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2560" y="4040280"/>
            <a:ext cx="81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辩       交       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73160" y="2021040"/>
            <a:ext cx="570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0120" y="152280"/>
            <a:ext cx="50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会认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05040" y="1676520"/>
            <a:ext cx="7934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铜    板    凡    慧    幽    默    穷    者    馆    扭    骂    讨    扯    付    辩    交    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7400" y="76320"/>
            <a:ext cx="891396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铜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阿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提  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慧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幽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人  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饭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又打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要   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钱    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给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413240" y="30492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篇课文讲了阿凡提为帮助一位穷汉而嘲弄、取笑饭馆老板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捕获ju"/>
          <p:cNvPicPr/>
          <p:nvPr/>
        </p:nvPicPr>
        <p:blipFill>
          <a:blip r:embed="rId1"/>
          <a:stretch/>
        </p:blipFill>
        <p:spPr>
          <a:xfrm>
            <a:off x="4495680" y="312408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2514600" y="3809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捕获y"/>
          <p:cNvPicPr/>
          <p:nvPr/>
        </p:nvPicPr>
        <p:blipFill>
          <a:blip r:embed="rId1"/>
          <a:stretch/>
        </p:blipFill>
        <p:spPr>
          <a:xfrm>
            <a:off x="0" y="-63360"/>
            <a:ext cx="10285560" cy="69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 flipV="1" rot="10740000">
            <a:off x="144360" y="326520"/>
            <a:ext cx="36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阿凡提是个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66880" y="993600"/>
            <a:ext cx="78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凡提是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智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充满幽默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人。他专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抱不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给穷人和弱者帮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3301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幽默：有趣或可笑而意味深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66880" y="4699080"/>
            <a:ext cx="75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抱不平：帮助受欺压的人说话或采取某种行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53352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阿凡提看见一个饭馆的老板正扭着一个穷汉又骂又打，讨要饭钱，便走过去拉扯开，问是怎么回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517680"/>
            <a:ext cx="86104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阿凡提看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个饭馆的老板正扭着一个穷汉又骂又打，讨要饭钱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便走过去拉扯开，问是怎么回事。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0" y="5029200"/>
            <a:ext cx="2133720" cy="1828440"/>
            <a:chOff x="0" y="5029200"/>
            <a:chExt cx="2133720" cy="1828440"/>
          </a:xfrm>
        </p:grpSpPr>
        <p:pic>
          <p:nvPicPr>
            <p:cNvPr id="75" name="Picture 5" descr="0042137504"/>
            <p:cNvPicPr/>
            <p:nvPr/>
          </p:nvPicPr>
          <p:blipFill>
            <a:blip r:embed="rId1"/>
            <a:stretch/>
          </p:blipFill>
          <p:spPr>
            <a:xfrm>
              <a:off x="0" y="5029200"/>
              <a:ext cx="145440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6"/>
            <p:cNvSpPr/>
            <p:nvPr/>
          </p:nvSpPr>
          <p:spPr>
            <a:xfrm>
              <a:off x="0" y="6635880"/>
              <a:ext cx="572760" cy="2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1301040" y="6354000"/>
              <a:ext cx="8326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1335960" y="5648040"/>
              <a:ext cx="746280" cy="44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9"/>
            <p:cNvSpPr/>
            <p:nvPr/>
          </p:nvSpPr>
          <p:spPr>
            <a:xfrm>
              <a:off x="1093320" y="5225040"/>
              <a:ext cx="745560" cy="24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0"/>
          <p:cNvGrpSpPr/>
          <p:nvPr/>
        </p:nvGrpSpPr>
        <p:grpSpPr>
          <a:xfrm>
            <a:off x="6934320" y="1371600"/>
            <a:ext cx="990000" cy="152280"/>
            <a:chOff x="6934320" y="1371600"/>
            <a:chExt cx="990000" cy="152280"/>
          </a:xfrm>
        </p:grpSpPr>
        <p:sp>
          <p:nvSpPr>
            <p:cNvPr id="81" name="AutoShape 11"/>
            <p:cNvSpPr/>
            <p:nvPr/>
          </p:nvSpPr>
          <p:spPr>
            <a:xfrm>
              <a:off x="6934320" y="1371600"/>
              <a:ext cx="22104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2"/>
            <p:cNvSpPr/>
            <p:nvPr/>
          </p:nvSpPr>
          <p:spPr>
            <a:xfrm>
              <a:off x="7703640" y="1371600"/>
              <a:ext cx="2206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3"/>
          <p:cNvGrpSpPr/>
          <p:nvPr/>
        </p:nvGrpSpPr>
        <p:grpSpPr>
          <a:xfrm>
            <a:off x="2971800" y="4114800"/>
            <a:ext cx="1666800" cy="152280"/>
            <a:chOff x="2971800" y="4114800"/>
            <a:chExt cx="1666800" cy="152280"/>
          </a:xfrm>
        </p:grpSpPr>
        <p:sp>
          <p:nvSpPr>
            <p:cNvPr id="84" name="AutoShape 14"/>
            <p:cNvSpPr/>
            <p:nvPr/>
          </p:nvSpPr>
          <p:spPr>
            <a:xfrm>
              <a:off x="4419720" y="4114800"/>
              <a:ext cx="2188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5"/>
            <p:cNvSpPr/>
            <p:nvPr/>
          </p:nvSpPr>
          <p:spPr>
            <a:xfrm>
              <a:off x="3733920" y="4114800"/>
              <a:ext cx="2188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6"/>
            <p:cNvSpPr/>
            <p:nvPr/>
          </p:nvSpPr>
          <p:spPr>
            <a:xfrm>
              <a:off x="2971800" y="41148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5257800" y="4114800"/>
            <a:ext cx="1666800" cy="152280"/>
            <a:chOff x="5257800" y="4114800"/>
            <a:chExt cx="1666800" cy="152280"/>
          </a:xfrm>
        </p:grpSpPr>
        <p:sp>
          <p:nvSpPr>
            <p:cNvPr id="88" name="AutoShape 18"/>
            <p:cNvSpPr/>
            <p:nvPr/>
          </p:nvSpPr>
          <p:spPr>
            <a:xfrm>
              <a:off x="5257800" y="41148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9"/>
            <p:cNvSpPr/>
            <p:nvPr/>
          </p:nvSpPr>
          <p:spPr>
            <a:xfrm>
              <a:off x="6095880" y="41148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0"/>
            <p:cNvSpPr/>
            <p:nvPr/>
          </p:nvSpPr>
          <p:spPr>
            <a:xfrm>
              <a:off x="6705720" y="4114800"/>
              <a:ext cx="2188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21"/>
          <p:cNvSpPr/>
          <p:nvPr/>
        </p:nvSpPr>
        <p:spPr>
          <a:xfrm>
            <a:off x="8381880" y="4114800"/>
            <a:ext cx="2192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2"/>
          <p:cNvGrpSpPr/>
          <p:nvPr/>
        </p:nvGrpSpPr>
        <p:grpSpPr>
          <a:xfrm>
            <a:off x="2971800" y="3276720"/>
            <a:ext cx="2438280" cy="152280"/>
            <a:chOff x="2971800" y="3276720"/>
            <a:chExt cx="2438280" cy="152280"/>
          </a:xfrm>
        </p:grpSpPr>
        <p:sp>
          <p:nvSpPr>
            <p:cNvPr id="93" name="Oval 23"/>
            <p:cNvSpPr/>
            <p:nvPr/>
          </p:nvSpPr>
          <p:spPr>
            <a:xfrm>
              <a:off x="373392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4"/>
            <p:cNvSpPr/>
            <p:nvPr/>
          </p:nvSpPr>
          <p:spPr>
            <a:xfrm>
              <a:off x="29718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5"/>
            <p:cNvSpPr/>
            <p:nvPr/>
          </p:nvSpPr>
          <p:spPr>
            <a:xfrm>
              <a:off x="44956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6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6858000" y="3276720"/>
            <a:ext cx="838080" cy="152280"/>
            <a:chOff x="6858000" y="3276720"/>
            <a:chExt cx="838080" cy="152280"/>
          </a:xfrm>
        </p:grpSpPr>
        <p:sp>
          <p:nvSpPr>
            <p:cNvPr id="98" name="Oval 28"/>
            <p:cNvSpPr/>
            <p:nvPr/>
          </p:nvSpPr>
          <p:spPr>
            <a:xfrm>
              <a:off x="6858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9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0"/>
          <p:cNvGrpSpPr/>
          <p:nvPr/>
        </p:nvGrpSpPr>
        <p:grpSpPr>
          <a:xfrm>
            <a:off x="6858000" y="2362320"/>
            <a:ext cx="914400" cy="152280"/>
            <a:chOff x="6858000" y="2362320"/>
            <a:chExt cx="914400" cy="152280"/>
          </a:xfrm>
        </p:grpSpPr>
        <p:sp>
          <p:nvSpPr>
            <p:cNvPr id="101" name="Oval 31"/>
            <p:cNvSpPr/>
            <p:nvPr/>
          </p:nvSpPr>
          <p:spPr>
            <a:xfrm>
              <a:off x="7620120" y="236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2"/>
            <p:cNvSpPr/>
            <p:nvPr/>
          </p:nvSpPr>
          <p:spPr>
            <a:xfrm>
              <a:off x="6858000" y="236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3"/>
          <p:cNvSpPr/>
          <p:nvPr/>
        </p:nvSpPr>
        <p:spPr>
          <a:xfrm>
            <a:off x="1949400" y="530532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老板的蛮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2590920" y="592776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阿凡提对弱者的同情和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2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2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3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1:19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50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