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65A0-985E-4BD6-9D93-9FE5EFE6DE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7915-340B-433C-B7A8-42F86DAEE0C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B104-6CC9-4C2A-8F47-BC2ED329B36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B83-CF2D-40E5-8A8E-CDEB730D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E9D-94F9-4D12-85B9-FE6DAF20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AF2-2257-40A3-B4B9-0A44EF54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12E-3450-4195-AAC8-4780DC53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488-ADF6-4A9D-A0BE-4AF9D377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27A-D986-480D-AF30-C71FCD96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5E7-59A2-4D40-A14C-B9DC21AE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516-6607-4ED9-B781-C8475AD8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086-3DE3-4819-90DA-C6F97E81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BEB-3646-44DD-9BBE-64BB7EC6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E01-17FA-4C5F-AFA8-C9020124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019-E6F7-4687-812C-02344D62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9F03-357A-4A5D-8985-72E6B81B637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天窗 插图 01"/>
          <p:cNvPicPr/>
          <p:nvPr/>
        </p:nvPicPr>
        <p:blipFill>
          <a:blip r:embed="rId1"/>
          <a:stretch/>
        </p:blipFill>
        <p:spPr>
          <a:xfrm>
            <a:off x="2865600" y="1558800"/>
            <a:ext cx="4298760" cy="4240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6561000" y="2492280"/>
            <a:ext cx="45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-677160" y="1851120"/>
            <a:ext cx="2861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  <a:ea typeface="黑体"/>
              </a:rPr>
              <a:t>天  窗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679840" y="56023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488b7801497807bc09fa9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3574080" y="2133720"/>
            <a:ext cx="8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面让我们一起去体验天窗的魅力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324000" y="18900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天窗有什么作用呢？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116000" y="98100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透光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0" y="333360"/>
            <a:ext cx="91440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带着问题自读课文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(3~6)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，然后思考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小的天窗是孩子们唯一的慰藉。”这句话在文中出现了几次？分别是在什么情况下出现的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请两个同学分别朗读第二段中的两个事例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“慰藉”是什么意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比较句子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 小小的天窗是唯一的慰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 小小的天窗是慰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 （读一读，你有什么不同的感受？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说天窗是唯一的慰藉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透过这扇天窗，文中的孩子看到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想到了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默读课文，分别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“～～”在文中找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8" descr="图片2"/>
          <p:cNvPicPr/>
          <p:nvPr/>
        </p:nvPicPr>
        <p:blipFill>
          <a:blip r:embed="rId1"/>
          <a:stretch/>
        </p:blipFill>
        <p:spPr>
          <a:xfrm>
            <a:off x="638280" y="652320"/>
            <a:ext cx="7867440" cy="555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课题图片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0"/>
          <a:ext cx="9144000" cy="688032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1736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看到</a:t>
                      </a:r>
                      <a:endParaRPr b="1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zh-CN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想到</a:t>
                      </a:r>
                      <a:endParaRPr b="1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0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无数闪闪烁烁可爱的星，无数像山似的、马似的、巨人似的奇幻的云彩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0"/>
          <p:cNvSpPr/>
          <p:nvPr/>
        </p:nvSpPr>
        <p:spPr>
          <a:xfrm>
            <a:off x="0" y="1989000"/>
            <a:ext cx="43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雨脚在那里卜落卜落跳，带子似的闪电一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4716360" y="1700280"/>
            <a:ext cx="44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这雨，这风，这雷，这电怎样猛厉地扫荡了这世界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它们的威力比你在露天真实感到的要大十倍百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324000" y="3860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一颗星，一朵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324000" y="5516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掠过的一条黑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4608360" y="51944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这也许是灰色的蝙蝠，也许是会唱歌的夜莺，也许是恶霸似的猫头鹰。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  <p:sndAc>
      <p:stSnd>
        <p:snd r:embed="rId4" name="applause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28600" y="380880"/>
            <a:ext cx="8915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为什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小的天窗是孩子们唯一的慰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孩子们跟着木板窗的关闭也就被关在地洞似的屋里的时候，天窗给漆黑的屋子带来的不仅有光明，他们通过天窗看见了雨点、闪电、星星、云彩。这些都是孩子们唯一的慰藉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160200" y="1268280"/>
            <a:ext cx="1521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自主合作学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627280" y="17035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默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然段，找出文中的一组排比句，有感情的读一读，并练习说一句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675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最后最后两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根据这些内容，我们再来思考刚才提出的问题：为什么说天窗是神奇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2997360"/>
            <a:ext cx="38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50920" y="2349360"/>
            <a:ext cx="91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因为它会使你看见了若不是有了它你就想不起来的宇宙的秘密；它会使你想到了若不是有了它你就永远不会联想到的各种事件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79280" y="4292640"/>
            <a:ext cx="91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这就是想象的魅力。有了想象我们才能看到更多的东西。实际上，我们周围有很多想象机会，文章中天窗还指一切想象的机会，我们要抓住机会，积极动脑，展开想象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84000" y="1052280"/>
            <a:ext cx="47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要感谢发明“天窗”的大人们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95640" y="2349000"/>
            <a:ext cx="5184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因为活泼会想的孩子们会怎样从“无”中看出“有”，从“虚”中看出“实”。这个办法就是想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73520" y="1413000"/>
            <a:ext cx="164268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主合作学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挥想像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12536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从那小玻璃上面的一朵云，想象到无数奇幻的云彩，有的像（           ）的山，有的像（       ）的马，有的像（             ）的巨人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337200" y="5516640"/>
            <a:ext cx="22039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是一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之窗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211640" y="544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神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1728720" cy="39322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105264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茅盾（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896-1981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）本名沈德鸿，字雁冰，著名作家。一生创作了大量的文学作品，具有很高的艺术成就。主要作品有：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幻灭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动摇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子夜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春蚕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林家铺子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等。其代表作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子夜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是中国现代现实主义文学发展的里程碑，显示了现代文学在长篇小说创作方面的成绩。生平著述收有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茅盾全集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复习总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42920" y="2133720"/>
            <a:ext cx="75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想象是神奇的东西，它能让人从“无”中看出“有”，从“虚”中看出“实”。希望大家能够抓住身边一切想象的机会，展开想象的翅膀，去认识更广阔的世界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Line 3"/>
          <p:cNvSpPr/>
          <p:nvPr/>
        </p:nvSpPr>
        <p:spPr>
          <a:xfrm flipV="1">
            <a:off x="2133720" y="3200400"/>
            <a:ext cx="4647960" cy="2209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380880" y="5181480"/>
            <a:ext cx="1828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上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00040" y="1571760"/>
            <a:ext cx="58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再次感受天窗的神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2209680" y="6213600"/>
            <a:ext cx="56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db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3"/>
          <p:cNvGrpSpPr/>
          <p:nvPr/>
        </p:nvGrpSpPr>
        <p:grpSpPr>
          <a:xfrm>
            <a:off x="468360" y="887400"/>
            <a:ext cx="8209080" cy="2458080"/>
            <a:chOff x="468360" y="887400"/>
            <a:chExt cx="8209080" cy="2458080"/>
          </a:xfrm>
        </p:grpSpPr>
        <p:sp>
          <p:nvSpPr>
            <p:cNvPr id="128" name="Text Box 4"/>
            <p:cNvSpPr/>
            <p:nvPr/>
          </p:nvSpPr>
          <p:spPr>
            <a:xfrm>
              <a:off x="539640" y="1984320"/>
              <a:ext cx="813780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想象是一对金色的翅膀，有了它，我们就可以飞起来离开熟悉的陆地，离开司空见惯的事物，进入一个个神奇、美妙、广阔的境界。只要拥有想象，什么样的生活也可以过得很精彩，相信通过你的想像，你的努力，也能创造精彩的人生！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WordArt 5"/>
            <p:cNvSpPr txBox="1"/>
            <p:nvPr/>
          </p:nvSpPr>
          <p:spPr>
            <a:xfrm>
              <a:off x="468360" y="887400"/>
              <a:ext cx="22860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75000"/>
                      </a:srgbClr>
                    </a:outerShdw>
                  </a:effectLst>
                  <a:latin typeface="宋体"/>
                </a:rPr>
                <a:t>老师赠言：</a:t>
              </a:r>
              <a:endPara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0" y="260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作业和练习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      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、选择自己喜欢的段落有感情地多读一读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、在你无奈的时候，什么又是你的慰藉呢？</a:t>
            </a:r>
            <a:r>
              <a:rPr b="1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是读书？看电视？还是摆弄什么小玩具？</a:t>
            </a:r>
            <a:r>
              <a:rPr b="1" lang="zh-CN" sz="1800" spc="-1" strike="noStrike">
                <a:solidFill>
                  <a:srgbClr val="ff0066"/>
                </a:solidFill>
                <a:latin typeface="隶书"/>
                <a:ea typeface="隶书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277B-8247-4012-A900-F544F0EB32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1522440" cy="55292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理解词语的意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13080" y="1196640"/>
            <a:ext cx="44640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慰藉：安慰。一瞥：很快地看一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威力：具有巨大的推动或摧毁作用的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340000" y="3429000"/>
            <a:ext cx="46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í (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狼藉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       shì (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似的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藉                 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iè (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慰藉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     sì (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似乎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81000"/>
            <a:ext cx="1811160" cy="48960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理清文章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40000" y="1125000"/>
            <a:ext cx="48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段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写天窗的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段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写小小的天窗是孩子们唯一的慰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段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~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写从天窗的神奇，无处的深刻人生哲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一）学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想一想：什么叫天窗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乡下人在屋顶上面开一个小方洞，装了一块玻璃，叫做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天窗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812cb8f4abe316fe7609d7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979640" y="571500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乡下的房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乡下的房子"/>
          <p:cNvPicPr/>
          <p:nvPr/>
        </p:nvPicPr>
        <p:blipFill>
          <a:blip r:embed="rId2"/>
          <a:stretch/>
        </p:blipFill>
        <p:spPr>
          <a:xfrm>
            <a:off x="0" y="0"/>
            <a:ext cx="81010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812cb8f4abe316fe7609d78b"/>
          <p:cNvPicPr/>
          <p:nvPr/>
        </p:nvPicPr>
        <p:blipFill>
          <a:blip r:embed="rId1"/>
          <a:stretch/>
        </p:blipFill>
        <p:spPr>
          <a:xfrm>
            <a:off x="-60012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  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木板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914400" y="3200400"/>
            <a:ext cx="198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木板窗"/>
          <p:cNvPicPr/>
          <p:nvPr/>
        </p:nvPicPr>
        <p:blipFill>
          <a:blip r:embed="rId2"/>
          <a:stretch/>
        </p:blipFill>
        <p:spPr>
          <a:xfrm>
            <a:off x="-600120" y="0"/>
            <a:ext cx="9744120" cy="5227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3327480" y="5738760"/>
            <a:ext cx="16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板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812cb8f4abe316fe7609d7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95480" y="472428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天  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天窗"/>
          <p:cNvPicPr/>
          <p:nvPr/>
        </p:nvPicPr>
        <p:blipFill>
          <a:blip r:embed="rId2"/>
          <a:stretch/>
        </p:blipFill>
        <p:spPr>
          <a:xfrm>
            <a:off x="1440" y="0"/>
            <a:ext cx="932364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390760" y="26028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2663a"/>
                </a:solidFill>
                <a:latin typeface="Arial"/>
                <a:ea typeface="黑体"/>
              </a:rPr>
              <a:t>人们为什么要在屋面上开天窗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826920" y="1268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e2e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9fe2e"/>
                </a:solidFill>
                <a:latin typeface="黑体"/>
                <a:ea typeface="黑体"/>
              </a:rPr>
              <a:t>乡下的房子，只有前面一排木板窗。暖和的晴天，木板窗扇扇打开，光线和空气都有了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33520" y="33526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e2e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f9fe2e"/>
                </a:solidFill>
                <a:latin typeface="Arial"/>
                <a:ea typeface="黑体"/>
              </a:rPr>
              <a:t>　　碰着大风大雨，或者北风呼呼的冬天，木板窗只好关起来，屋子里就像黑洞似的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85800" y="51055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2663a"/>
                </a:solidFill>
                <a:latin typeface="Arial"/>
                <a:ea typeface="黑体"/>
              </a:rPr>
              <a:t>　　于是乡下人在屋面开一个小方洞，装一块玻璃，叫做天窗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_1255407747651"/>
          <p:cNvPicPr/>
          <p:nvPr/>
        </p:nvPicPr>
        <p:blipFill>
          <a:blip r:embed="rId2"/>
          <a:stretch/>
        </p:blipFill>
        <p:spPr>
          <a:xfrm>
            <a:off x="1258920" y="6858000"/>
            <a:ext cx="5715000" cy="7620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2:59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9:26Z</dcterms:modified>
  <cp:revision>7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