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B639-900E-4F71-AE14-99211E9363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7255-D49C-4724-89EE-E6F656789FA8}" type="slidenum">
              <a:rPr b="0" lang="zh-CN" sz="1200" spc="-1" strike="noStrike">
                <a:solidFill>
                  <a:srgbClr val="dde8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55B-4343-49BC-8E52-A80DA87E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8D2-289A-4851-A6C2-02F07CD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D5C-57A0-4FAF-902F-947DE986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14E-5771-42FF-BD28-9BC69E3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8F0-CDDE-451A-A1C3-353588A4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C4A-FAAC-43A8-BBE1-497FA5A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8254-4819-4126-84EC-3A6AA380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AC08-F152-43E7-8260-880FE34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A781-8AB8-4E71-99E7-CC28543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B238-25E9-4F9F-8D6C-A72B4BC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D1F4-EEDC-463F-928A-04EBF8E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E7C-5131-4097-8561-CB5F074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EE6C-B3DB-472B-86A1-A3CDE77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2B53-8480-488D-B05D-33F29A3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B7A2-80DF-4386-AC01-EA7CD7E1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8D65-875B-4624-BCD8-5D1A8517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00B-CD74-4C1C-A870-227DFB48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507-99B2-47CF-93AE-0B60B9CB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19E-2FBC-4665-99E5-7AD2D6F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2A6-0A82-4871-A1DB-FC1249B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8F1-679E-4B9C-AA22-ABB171B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17-4A3D-4994-8780-0B1665C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E51-6E6C-4FEF-AF1C-2C8CC74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A4-377B-42FD-8571-6D3E221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3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715160" y="6044040"/>
              <a:ext cx="2890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19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0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1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2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3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2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848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848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8481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7FA-F0CE-40F6-AA0C-7A3FA81844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4" name="Freeform 9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11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7" name="Group 12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78" name="Freeform 13"/>
            <p:cNvSpPr/>
            <p:nvPr/>
          </p:nvSpPr>
          <p:spPr>
            <a:xfrm rot="10800000">
              <a:off x="8081640" y="1780200"/>
              <a:ext cx="723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" name="Freeform 14"/>
            <p:cNvSpPr/>
            <p:nvPr/>
          </p:nvSpPr>
          <p:spPr>
            <a:xfrm rot="10800000">
              <a:off x="734688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15"/>
            <p:cNvSpPr/>
            <p:nvPr/>
          </p:nvSpPr>
          <p:spPr>
            <a:xfrm rot="10800000">
              <a:off x="8116200" y="178020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6"/>
            <p:cNvSpPr/>
            <p:nvPr/>
          </p:nvSpPr>
          <p:spPr>
            <a:xfrm rot="10800000">
              <a:off x="6168240" y="1780200"/>
              <a:ext cx="2721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7"/>
            <p:cNvSpPr/>
            <p:nvPr/>
          </p:nvSpPr>
          <p:spPr>
            <a:xfrm rot="10800000">
              <a:off x="6579360" y="1780200"/>
              <a:ext cx="16740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8"/>
            <p:cNvSpPr/>
            <p:nvPr/>
          </p:nvSpPr>
          <p:spPr>
            <a:xfrm rot="10800000">
              <a:off x="696024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9"/>
            <p:cNvSpPr/>
            <p:nvPr/>
          </p:nvSpPr>
          <p:spPr>
            <a:xfrm rot="10800000">
              <a:off x="779436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20"/>
            <p:cNvSpPr/>
            <p:nvPr/>
          </p:nvSpPr>
          <p:spPr>
            <a:xfrm rot="10800000">
              <a:off x="6790680" y="1778040"/>
              <a:ext cx="17712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21"/>
            <p:cNvSpPr/>
            <p:nvPr/>
          </p:nvSpPr>
          <p:spPr>
            <a:xfrm rot="10800000">
              <a:off x="8529120" y="1778400"/>
              <a:ext cx="24336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 rot="10800000">
              <a:off x="6682320" y="1778400"/>
              <a:ext cx="129240" cy="471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 rot="10800000">
              <a:off x="835956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24"/>
            <p:cNvSpPr/>
            <p:nvPr/>
          </p:nvSpPr>
          <p:spPr>
            <a:xfrm rot="10800000">
              <a:off x="763452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25"/>
            <p:cNvSpPr/>
            <p:nvPr/>
          </p:nvSpPr>
          <p:spPr>
            <a:xfrm rot="10800000">
              <a:off x="600480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 rot="10800000">
              <a:off x="7095600" y="17798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 rot="10800000">
              <a:off x="7457400" y="1778040"/>
              <a:ext cx="18468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8"/>
            <p:cNvSpPr/>
            <p:nvPr/>
          </p:nvSpPr>
          <p:spPr>
            <a:xfrm rot="10800000">
              <a:off x="64159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4" name="Freeform 29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" name="Rectangle 30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6" name="Group 31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7" name="Freeform 32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0" name="Rectangle 35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154080" y="5300640"/>
            <a:ext cx="7412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5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46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7" name="Picture 48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848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848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8481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795-06EF-4DFA-B731-9B05FF079F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kc2_025"/>
          <p:cNvPicPr/>
          <p:nvPr/>
        </p:nvPicPr>
        <p:blipFill>
          <a:blip r:embed="rId1"/>
          <a:stretch/>
        </p:blipFill>
        <p:spPr>
          <a:xfrm>
            <a:off x="5292720" y="2589120"/>
            <a:ext cx="3166920" cy="2879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734920" y="2133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29a2a"/>
                </a:solidFill>
                <a:latin typeface="Times New Roman"/>
              </a:rPr>
              <a:t>冯骥才</a:t>
            </a:r>
            <a:endParaRPr b="1" lang="en-US" sz="44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de89a"/>
                </a:solidFill>
                <a:latin typeface="微软雅黑"/>
                <a:ea typeface="微软雅黑"/>
              </a:rPr>
              <a:t>捅 马 蜂 窝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2735280" y="5516640"/>
            <a:ext cx="6300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194d15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300" spc="-1" strike="noStrike">
                <a:solidFill>
                  <a:srgbClr val="194d15"/>
                </a:solidFill>
                <a:latin typeface="微软雅黑"/>
                <a:ea typeface="微软雅黑"/>
              </a:rPr>
              <a:t>http://www.eeppt.com</a:t>
            </a:r>
            <a:endParaRPr b="0" lang="en-US" sz="2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40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课前预习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】 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一、自主积累生字词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、积累字词 给加点的汉字注拼音或根据拼音写汉字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zhē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（   ）人 罪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niè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（   ） 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xī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戏（   ） 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chàn 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动（   ）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径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(    )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直    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(    )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死如归     告诫（     ）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．找出下列句子中的错别字，并改正。（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分）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 ⑴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当我被这个淘气的欲望鼓动得难以仰制时，我就找来妹妹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 ⑵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一个沉甸甸的东西掉下来，跟着一团黄色的飞虫滕空而起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⑶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我不由得暗暗告戒自己：再不做任何伤害旁人的事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．挑出下列句子中的比喻句（ ）（</a:t>
            </a: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分） 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、那沉甸甸压弯枝条的海棠果，个个都比市场上买来的大。 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、最壮观的要数爷爷窗檐下的马蜂窝了，好像倒垂的一只莲蓬。 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、当我的竿头触到蜂窝的一刹那，好像听到爷爷在屋内呼叫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只见一只马蜂径直而凶猛地朝我扑来，好像一架燃料耗尽、决心直撞的战斗机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184814"/>
                </a:solidFill>
                <a:latin typeface="Arial"/>
              </a:rPr>
              <a:t>、低头再瞧瞧这只马蜂，微风吹着它，轻轻颤动，好似活了一般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4000" y="11970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二、朗读课文，感知内容 请仔细阅读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1——7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段回答下列问题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用自己的话复述课文内容，尽量简洁。 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提示：起因、经过、结果、启迪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作者的思想感情有什么变化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我为什么要捅马蜂窝？  我是怎么捅马蜂窝的？ 这个方法是谁教的？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．围绕捅马蜂窝这件事，作者精心安排的思路是：（      ） 一→ “我”捅了马蜂窝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—→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（       ）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—→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后院又有了马蜂窝。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141264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．“捅马蜂窝”这个词语，我们在日常生活中也常常用到，意思是什么呢？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比喻惹祸或触动不好惹的人。 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6</a:t>
            </a: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．文中加横线的“那多有趣”的“那”指的是 </a:t>
            </a: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?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头上蒙块布，拿竹竿捅马蜂窝。 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7</a:t>
            </a: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．马蜂窝中有百十来只马蜂，为什么文章只重点写了一只</a:t>
            </a: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?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因为这只马蜂给“我”留下深刻的印象，它不仅蜇了“我”，它的死又与“我”有关。 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84814"/>
                </a:solidFill>
                <a:latin typeface="Arial"/>
              </a:rPr>
              <a:t>8</a:t>
            </a: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．文章开头对爷爷后院景物的描写有什么作用？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184814"/>
                </a:solidFill>
                <a:latin typeface="Arial"/>
              </a:rPr>
              <a:t>环境烘托，为下文做铺垫。</a:t>
            </a:r>
            <a:endParaRPr b="1" lang="en-US" sz="25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78920" y="1268280"/>
            <a:ext cx="892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作者从动手捅马蜂窝到盼望再见到马蜂窝，他前后的不同表现说明了什么？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说明了“我”从捅马蜂窝这件事中，心灵受到震撼，思想发生了极大的变化。 </a:t>
            </a:r>
            <a:br>
              <a:rPr sz="2800"/>
            </a:b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文末“再不做一件伤害旁人的事”是作者的感悟，此句在全文中所起的作用是什么？其中“旁人”指的是谁？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点明中心，收束全文，使文章的主题得以升华；“旁人”指作者以外的一切有生命的事物。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12500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词句理解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一、读下面的词句，找出描写生动的词语，试着进行品析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１、这里，最壮观的要数爷爷窗檐下的马蜂窝了，好像倒垂的一只大莲蓬，无数金黄色的马蜂爬进爬出，飞来飞去，不知忙些什么，大概总有百十只之多，以致爷爷不敢开窗子，怕它们中间哪个冒失鬼一头闯进屋来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 我一回头，只见一只马蜂径直而凶猛地朝我扑来，好像一架燃料耗尽、决心相撞的战斗机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二、说说下列句子中加点词语的表达作用。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我听了心里暗暗吃惊，一只小虫竟有这样的激情和勇气。 竟：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终了，完毕：继承先烈未～的事业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到底，终于：毕～。有志者事～成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整，从头到尾：～日。～夜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D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居然，表示出乎意料：～然。～至（竟然至于）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我甚至想用胶水把这只空空的蜂窝粘上去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甚至：表示所提出的是突出的、进一步的事例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课后反思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我究竟该不该捅马蜂窝呢？请谈谈你的看法，也请你和其他同学讨论讨论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写作拓展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练写片段 你捅过马蜂窝或者干过类似的事情吗？？请仿照文中捅马蜂窝的描写，写下你的过程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第二课时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教学目标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结合自己的生活体验，感受作者的感情变化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认识环境描写对情节发展的作用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教学重点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认识自然环境描写和对话描写的作用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9280" y="1125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文意探究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】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、分角色朗读文中的两次人物对话？（爷爷和奶奶 及 爷爷和“我”的对话）体会其在文章的作用。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爷爷和奶奶对话的作用：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奶奶的抱怨是激起“我”捅马蜂窝的原因，爷爷的警告则撩拨了我的好奇心。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爷爷和“我”的对话的作用：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我病愈后对马蜂的行为迷惑不解时，爷爷的话让我对马蜂有了新的认识，让我产生了罪孽感。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（推动情节向前发展）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、默读课文，画出描写“我”在捅马蜂窝过程中心理活动的句子，说说捅马蜂窝后，“我”对马蜂有了什么新的看法，为什么会产生这样的看法。 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新看法：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马蜂不再只是一只令我好奇的小昆虫，而是会“与毁坏它们生活的人拼个一死”的英雄；马蜂虽然是一只小虫，但“竟有这样的激情和勇气”，为了捍卫自己的家园，它能够视死如归，直至壮烈牺牲。 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原因：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两方面的原因。一方面是“我”自己的切身感受，在捅了马蜂窝之后，一只“不顾一切而拼死的”马蜂狠狠地蜇了我。另一方面是爷爷的讲述。爷爷告诉“我”，那仰面朝天躺在地上的一只马蜂，就是因蜇“我”而死的。爷爷说的“你毁了它的家，它当然不肯饶你。它要拼命的”那句话，让“我”对小小马蜂有了新的认识。  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第一课时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学习目标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理解文章中对话描写、心理描写的作用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揣摩文章深入细致、充满情趣的语言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结合自身体验，理解文章主旨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重点难点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重点：对话描写、心理描写的作用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难点：文章主旨的理解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560" y="1557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概括“我”的形象。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我是一个（好奇  淘气 单纯 勇于反省）的人。       </a:t>
            </a:r>
            <a:r>
              <a:rPr b="1" lang="zh-CN" sz="3200" spc="-1" strike="noStrike" u="sng">
                <a:solidFill>
                  <a:srgbClr val="184814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捅马蜂窝这件事让“我”明白了什么道理？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要关爱生命，不做任何伤害生命的事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拓展延伸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你捅过马蜂窝或者干过类似的事情吗？这样做对不对呢？学了这篇课文后，你对以前的做法有了什么看法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366840" y="59040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8000" y="1412640"/>
            <a:ext cx="8928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184814"/>
                </a:solidFill>
                <a:latin typeface="Arial"/>
              </a:rPr>
              <a:t>一课一得</a:t>
            </a:r>
            <a:r>
              <a:rPr b="1" lang="en-US" sz="2800" spc="-1" strike="noStrike">
                <a:solidFill>
                  <a:srgbClr val="184814"/>
                </a:solidFill>
                <a:latin typeface="Arial"/>
              </a:rPr>
              <a:t>】 </a:t>
            </a:r>
            <a:endParaRPr b="1" lang="en-US" sz="28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这篇课文是作者对少年时代生活的一段回忆。它真实地记录了作者成长道路中一次冒失的行动，表现了孩子淘气、单纯的特点和幼稚、好奇的心理。文章结尾揭示了作者经历这次事件后的感受：“再不做任何伤害旁人的事情。”可见，作者的写作意图是非常明确的：希望读者以此为戒，接受自己的教训，做事不冒冒失失，要尊重生活，善待生活。 也有人对有人对作者的写作意图提出不同的看法：认为作者是想告诉读者，一个人在成长的过程中难免会犯这样或那样的错误，但是只要能认真反省、勇于改正，就能“吃一堑长一智”。表达了作者对生活的思考：错误和挫折会使我们更加聪明、更加成熟。  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0"/>
              </a:rPr>
              <a:t>课件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1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15d7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84814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5634-A6E1-46F6-9839-0E5FFBB295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79280" y="126792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学法指导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紧紧抓住描绘“我”心理活动的句子。理解“我”心理活动变化的过程，你会发现这条线能帮助你理清文章结构，把握文章主旨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学习过程中要注意文中的一些细节描写，体会它们的作用。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学习中要思考：我们人类应该怎样善待生命、善待大自然，可以结合自己的经历来谈一谈 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5"/>
          <p:cNvSpPr/>
          <p:nvPr/>
        </p:nvSpPr>
        <p:spPr>
          <a:xfrm>
            <a:off x="183528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052280"/>
            <a:ext cx="8856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宋体"/>
                <a:ea typeface="宋体"/>
              </a:rPr>
              <a:t>【</a:t>
            </a: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知识链接</a:t>
            </a:r>
            <a:r>
              <a:rPr b="1" lang="en-US" sz="2000" spc="-1" strike="noStrike">
                <a:solidFill>
                  <a:srgbClr val="184814"/>
                </a:solidFill>
                <a:latin typeface="宋体"/>
                <a:ea typeface="宋体"/>
              </a:rPr>
              <a:t>】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4814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、黄蜂介绍 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学名胡蜂，俗称马蜂、黄蜂，毒性很大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中至大型，体表多数光滑，具各色花斑。咀嚼式口器。触角膝状。大大的复眼。翅子狭长，静止时纵褶在一起。腹部一般不收缩呈腹柄状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胡蜂有简单的社会组织，有蜂后、雄蜂和工蜂，常常营造一个纸质的吊钟形的或者层状的蜂巢，在上面集体生活。胡蜂的成虫主要捕食鳞翅目的小虫，因此，也是一类重要的天敌昆虫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马蜂作为一种益虫，以虫子为食，它一般只有在受到攻击的时候才蛰人，万一碰到马蜂，最好马上蹲下来，用衣服把头包好，这样可以临时预防。专家提醒：不小心惹得马蜂“发火”时，可以趴下不动，千万不要狂跑，以免马蜂群起追击。被马蜂蜇后伤口会立刻红肿，且感到火辣辣的痛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814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此时，应马上涂抹一些碱水，使酸碱中和，减弱毒性，亦可起到止痛的作用。如果当时有洋葱，洗净后切片在伤口上涂抹，此外还可用母乳、风油精、清凉油等去除蜂毒，但切记不可用红药水或碘酒搽抹，那样不但不能治疗，反而会加重肿胀</a:t>
            </a:r>
            <a:r>
              <a:rPr b="1" lang="en-US" sz="2000" spc="-1" strike="noStrike">
                <a:solidFill>
                  <a:srgbClr val="184814"/>
                </a:solidFill>
                <a:latin typeface="宋体"/>
                <a:ea typeface="宋体"/>
              </a:rPr>
              <a:t>!</a:t>
            </a:r>
            <a:r>
              <a:rPr b="1" lang="zh-CN" sz="2000" spc="-1" strike="noStrike">
                <a:solidFill>
                  <a:srgbClr val="184814"/>
                </a:solidFill>
                <a:latin typeface="宋体"/>
                <a:ea typeface="宋体"/>
              </a:rPr>
              <a:t>若遭遇蜂群攻击时应立即就医，不可掉以轻心。</a:t>
            </a:r>
            <a:endParaRPr b="1" lang="en-US" sz="20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pic>
        <p:nvPicPr>
          <p:cNvPr id="167" name="Picture 5" descr="a1ad16fab89415a758ee90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pic>
        <p:nvPicPr>
          <p:cNvPr id="170" name="Picture 5" descr="00248cfb814f0d6a9eb70d"/>
          <p:cNvPicPr/>
          <p:nvPr/>
        </p:nvPicPr>
        <p:blipFill>
          <a:blip r:embed="rId1"/>
          <a:stretch/>
        </p:blipFill>
        <p:spPr>
          <a:xfrm>
            <a:off x="0" y="0"/>
            <a:ext cx="4932360" cy="385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200961422423071032"/>
          <p:cNvPicPr/>
          <p:nvPr/>
        </p:nvPicPr>
        <p:blipFill>
          <a:blip r:embed="rId2"/>
          <a:stretch/>
        </p:blipFill>
        <p:spPr>
          <a:xfrm>
            <a:off x="0" y="3357720"/>
            <a:ext cx="4932360" cy="350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1529520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pic>
        <p:nvPicPr>
          <p:cNvPr id="175" name="Picture 5" descr="u=2541080816,234012001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5364000" cy="3494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u=4000998231,138995228&amp;fm=23&amp;gp=0"/>
          <p:cNvPicPr/>
          <p:nvPr/>
        </p:nvPicPr>
        <p:blipFill>
          <a:blip r:embed="rId2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u=1886981182,2509304464&amp;fm=21&amp;gp=0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57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u=954115191,2036133724&amp;fm=23&amp;gp=0"/>
          <p:cNvPicPr/>
          <p:nvPr/>
        </p:nvPicPr>
        <p:blipFill>
          <a:blip r:embed="rId4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60360" y="1125360"/>
            <a:ext cx="3240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48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84814"/>
                </a:solidFill>
                <a:latin typeface="Arial"/>
              </a:rPr>
              <a:t>、作者简介</a:t>
            </a:r>
            <a:endParaRPr b="1" lang="en-US" sz="3200" spc="-1" strike="noStrike">
              <a:solidFill>
                <a:srgbClr val="184814"/>
              </a:solidFill>
              <a:latin typeface="Arial"/>
            </a:endParaRPr>
          </a:p>
        </p:txBody>
      </p:sp>
      <p:pic>
        <p:nvPicPr>
          <p:cNvPr id="180" name="Picture 4" descr="u=2081278005,3432002475&amp;fm=0&amp;gp=2"/>
          <p:cNvPicPr/>
          <p:nvPr/>
        </p:nvPicPr>
        <p:blipFill>
          <a:blip r:embed="rId1"/>
          <a:stretch/>
        </p:blipFill>
        <p:spPr>
          <a:xfrm>
            <a:off x="530280" y="2276640"/>
            <a:ext cx="2611440" cy="2971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116000" y="54738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</a:rPr>
              <a:t>冯骥才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1557360"/>
            <a:ext cx="50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d15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194d15"/>
                </a:solidFill>
                <a:latin typeface="Arial"/>
              </a:rPr>
              <a:t>年生，著名作家，文学家，著名民间文艺家</a:t>
            </a:r>
            <a:r>
              <a:rPr b="1" lang="en-US" sz="2800" spc="-1" strike="noStrike">
                <a:solidFill>
                  <a:srgbClr val="194d15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194d15"/>
                </a:solidFill>
                <a:latin typeface="Arial"/>
              </a:rPr>
              <a:t>现任中国文学艺术界联合会执行副主席，中国文联副主席，中国小说学会会长，中国民间文艺家协会主席，天津大学冯骥才文学艺术研究院院长，“文学自由谈”杂志和“艺术家”杂志主编，并任国际民间艺术组织</a:t>
            </a:r>
            <a:r>
              <a:rPr b="1" lang="en-US" sz="2800" spc="-1" strike="noStrike">
                <a:solidFill>
                  <a:srgbClr val="194d15"/>
                </a:solidFill>
                <a:latin typeface="Arial"/>
              </a:rPr>
              <a:t>(IOV)</a:t>
            </a:r>
            <a:r>
              <a:rPr b="1" lang="zh-CN" sz="2800" spc="-1" strike="noStrike">
                <a:solidFill>
                  <a:srgbClr val="194d15"/>
                </a:solidFill>
                <a:latin typeface="Arial"/>
              </a:rPr>
              <a:t>副主席，中国民主促进会中央副主席，全国政协常委等职。</a:t>
            </a:r>
            <a:r>
              <a:rPr b="0" lang="zh-CN" sz="2800" spc="-1" strike="noStrike">
                <a:solidFill>
                  <a:srgbClr val="194d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9280" y="126828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著有长篇小说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i="1" lang="zh-CN" sz="2400" spc="-1" strike="noStrike">
                <a:solidFill>
                  <a:srgbClr val="184814"/>
                </a:solidFill>
                <a:latin typeface="Arial"/>
              </a:rPr>
              <a:t>义和拳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（与</a:t>
            </a:r>
            <a:r>
              <a:rPr b="1" i="1" lang="zh-CN" sz="2400" spc="-1" strike="noStrike">
                <a:solidFill>
                  <a:srgbClr val="184814"/>
                </a:solidFill>
                <a:latin typeface="Arial"/>
              </a:rPr>
              <a:t>李定兴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合写）、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神灯前传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中篇小说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铺花的歧路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啊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!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短篇小说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雕花烟斗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i="1" lang="zh-CN" sz="2400" spc="-1" strike="noStrike">
                <a:solidFill>
                  <a:srgbClr val="184814"/>
                </a:solidFill>
                <a:latin typeface="Arial"/>
              </a:rPr>
              <a:t>意大利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小提琴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小说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高女人和她的矮丈夫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系列报告文学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一百个人的十年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电影文学剧本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神灯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文学杂谈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我心中的文学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俗世奇人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以及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冯骥才中短篇小说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冯骥才小说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冯骥才选集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等。短篇小说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雕花烟斗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中篇小说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啊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!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神鞭</a:t>
            </a:r>
            <a:r>
              <a:rPr b="1" lang="en-US" sz="2400" spc="-1" strike="noStrike">
                <a:solidFill>
                  <a:srgbClr val="18481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184814"/>
                </a:solidFill>
                <a:latin typeface="Arial"/>
              </a:rPr>
              <a:t>，分获全国优秀短篇、优秀中篇小说奖。部分作品已被译成英、法、德、日、俄等文字在国外出版。冯骥才以写知识分子生活和天津近代历史故事见长。注意选取新颖的视角，用多变的艺术手法，细致深入的描写，开掘生活的底蕴，咀嚼人生的回味。</a:t>
            </a:r>
            <a:endParaRPr b="1" lang="en-US" sz="2400" spc="-1" strike="noStrike">
              <a:solidFill>
                <a:srgbClr val="1848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3:27Z</dcterms:modified>
  <cp:revision>1</cp:revision>
  <dc:subject/>
  <dc:title>捅 马 蜂 窝</dc:title>
</cp:coreProperties>
</file>