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F43-F571-402F-BA63-015343B0E485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CE0-A37A-4178-9191-0C06ABE74B2E}" type="slidenum"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1B6-EC11-42B6-AC57-567C574E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A30-488B-4287-A2D9-317CB674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664-6C15-41D7-AAE9-538E6B40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6EE-9E6E-4D22-BA55-E0288C72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BD7-6C23-40D0-B369-7E31C4CB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AB5-BB65-41FF-B8CC-DCDAF03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30D-F077-468C-88A7-997EBD4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8AB-FB3A-48F7-9CAF-18C3950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A18-7DDC-4D07-9AFE-FCB55E9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600-AF42-4E31-8611-B824531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A3C-E56A-46B1-B841-C60D57D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F4A-E09D-40C9-988A-5693AF9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8B0-F547-453C-A7F3-2F21841C5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图片1s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ext Box 5" descr=""/>
          <p:cNvPicPr/>
          <p:nvPr/>
        </p:nvPicPr>
        <p:blipFill>
          <a:blip r:embed="rId2"/>
          <a:stretch/>
        </p:blipFill>
        <p:spPr>
          <a:xfrm>
            <a:off x="1352520" y="1084320"/>
            <a:ext cx="6337440" cy="1363680"/>
          </a:xfrm>
          <a:prstGeom prst="rect">
            <a:avLst/>
          </a:prstGeom>
          <a:ln w="0">
            <a:noFill/>
          </a:ln>
        </p:spPr>
      </p:pic>
      <p:pic>
        <p:nvPicPr>
          <p:cNvPr id="52" name="矩形 7" descr=""/>
          <p:cNvPicPr/>
          <p:nvPr/>
        </p:nvPicPr>
        <p:blipFill>
          <a:blip r:embed="rId3"/>
          <a:stretch/>
        </p:blipFill>
        <p:spPr>
          <a:xfrm>
            <a:off x="1873080" y="5732640"/>
            <a:ext cx="5769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密密的塔松像撑天的巨伞，重重叠叠的枝丫只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漏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下斑斑点点细碎的日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密密的塔松像撑天的巨伞，重重叠叠的枝丫只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照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下斑斑点点细碎的日影。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</a:rPr>
              <a:t>骑马穿行林中，马蹄溅起的水声，增添了密林的幽静。在这林海深处，只能偶然听到远处的几声鸟鸣。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小鸟叫.WAV" descr="小鸟叫"/>
          <p:cNvPicPr/>
          <p:nvPr/>
        </p:nvPicPr>
        <p:blipFill>
          <a:blip r:embed="rId2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14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1800" y="274680"/>
            <a:ext cx="748656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在轻轻荡漾的溪流两岸，        满是高过马头的野花，红、黄、蓝、白、紫，五彩缤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280" y="2925360"/>
            <a:ext cx="828036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像织不完的织锦那样绵延，像天边的彩霞那么耀眼，像高空的长虹那么绚烂。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马走在花海中，显得格外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矫健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；人</a:t>
            </a:r>
            <a:r>
              <a:rPr b="1" lang="zh-CN" sz="4000" spc="-1" strike="noStrike" u="sng">
                <a:solidFill>
                  <a:srgbClr val="996633"/>
                </a:solidFill>
                <a:uFillTx/>
                <a:latin typeface="Arial"/>
              </a:rPr>
              <a:t>    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在花海上，显得格外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精神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马走在花海中，显得格外矫  健；人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</a:rPr>
              <a:t>走</a:t>
            </a:r>
            <a:r>
              <a:rPr b="1" lang="zh-CN" sz="4000" spc="-1" strike="noStrike">
                <a:solidFill>
                  <a:srgbClr val="996633"/>
                </a:solidFill>
                <a:latin typeface="Arial"/>
              </a:rPr>
              <a:t>在花海上，显得格外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452680" y="2133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cc"/>
                </a:solidFill>
                <a:latin typeface="Arial"/>
              </a:rPr>
              <a:t>浮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996600"/>
                </a:solidFill>
                <a:latin typeface="Arial"/>
              </a:rPr>
              <a:t>虽然这时天山并不是春天，但是有哪一个春天的花园能比得过这里的无边繁花呢？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太阳底下，那点点水泡似的蒙古包，闪烁着白光，似乎在告诉你，这就是天山之夏，这就是人间天堂。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天山之夏"/>
          <p:cNvPicPr/>
          <p:nvPr/>
        </p:nvPicPr>
        <p:blipFill>
          <a:blip r:embed="rId1"/>
          <a:stretch/>
        </p:blipFill>
        <p:spPr>
          <a:xfrm>
            <a:off x="-233280" y="-152280"/>
            <a:ext cx="9701280" cy="7167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天山之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1.mp3" descr="1"/>
          <p:cNvPicPr/>
          <p:nvPr/>
        </p:nvPicPr>
        <p:blipFill>
          <a:blip r:embed="rId2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天山之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天山之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黑体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808000"/>
                </a:solidFill>
                <a:latin typeface="Arial"/>
              </a:rPr>
              <a:t>、 </a:t>
            </a:r>
            <a:r>
              <a:rPr b="1" lang="zh-CN" sz="4000" spc="-1" strike="noStrike">
                <a:solidFill>
                  <a:srgbClr val="808000"/>
                </a:solidFill>
                <a:latin typeface="Arial"/>
              </a:rPr>
              <a:t> 快速默读课文，思考课文是按什么顺序来写的？从哪些词句可以看出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808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808000"/>
                </a:solidFill>
                <a:latin typeface="Arial"/>
              </a:rPr>
              <a:t>课文依次写了哪些景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天山13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天山14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天山之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天山16jpg"/>
          <p:cNvPicPr/>
          <p:nvPr/>
        </p:nvPicPr>
        <p:blipFill>
          <a:blip r:embed="rId1"/>
          <a:stretch/>
        </p:blipFill>
        <p:spPr>
          <a:xfrm>
            <a:off x="0" y="144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天山9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天山的草原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天山之夏"/>
          <p:cNvPicPr/>
          <p:nvPr/>
        </p:nvPicPr>
        <p:blipFill>
          <a:blip r:embed="rId1"/>
          <a:stretch/>
        </p:blipFill>
        <p:spPr>
          <a:xfrm>
            <a:off x="1440" y="1440"/>
            <a:ext cx="9180720" cy="689148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644400" y="663480"/>
            <a:ext cx="55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更多免费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PPT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模板下载：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http://www.eeppt.com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 advTm="5000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天山之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       雪峰：高    大    白        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       溪流：急    清    活        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       森林：密    绿    幽    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夏       野花：多    高    艳        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牧场：奇    阔    静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7021440" y="2421000"/>
            <a:ext cx="287280" cy="2519280"/>
          </a:xfrm>
          <a:custGeom>
            <a:avLst/>
            <a:gdLst>
              <a:gd name="textAreaLeft" fmla="*/ 0 w 287280"/>
              <a:gd name="textAreaRight" fmla="*/ 103680 w 28728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2482920" y="2347920"/>
            <a:ext cx="288720" cy="273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749F-08B0-4737-B688-A1EEAC2A0F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0"/>
          <p:cNvSpPr/>
          <p:nvPr/>
        </p:nvSpPr>
        <p:spPr>
          <a:xfrm>
            <a:off x="1650960" y="3881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65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进入天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再往里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再往里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4572000" y="1773360"/>
            <a:ext cx="1440" cy="936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572000" y="3573360"/>
            <a:ext cx="1440" cy="9352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844720" y="1125360"/>
            <a:ext cx="360360" cy="38181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9360 h 3818160"/>
              <a:gd name="textAreaBottom" fmla="*/ 3718800 h 381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46800" y="2637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游览顺序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6200" y="3651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（移步换景）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133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七月间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新疆的戈壁滩炎暑逼人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这时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最理想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的是骑马上天山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.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33"/>
                </a:solidFill>
                <a:latin typeface="Arial"/>
                <a:ea typeface="黑体"/>
              </a:rPr>
              <a:t>自主学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Arial"/>
              </a:rPr>
              <a:t>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33"/>
                </a:solidFill>
                <a:latin typeface="Arial"/>
              </a:rPr>
              <a:t>选择你最喜欢的一处景点，找出你认为写得精彩的语段、词句，标出来，读一读，和邻座的同学交流交流，说一说你为什么喜欢它们。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0644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雪峰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进入天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溪流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再往里走       森林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野花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再往里走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牧场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2050920" y="1773360"/>
            <a:ext cx="1800" cy="1152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050920" y="3860640"/>
            <a:ext cx="1800" cy="122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402000" y="622440"/>
            <a:ext cx="236520" cy="1584360"/>
          </a:xfrm>
          <a:custGeom>
            <a:avLst/>
            <a:gdLst>
              <a:gd name="textAreaLeft" fmla="*/ 151200 w 236520"/>
              <a:gd name="textAreaRight" fmla="*/ 236880 w 2365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3419640" y="4653000"/>
            <a:ext cx="217440" cy="1440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AutoShape 7">
            <a:hlinkClick r:id="rId10" action="ppaction://hlinksldjump"/>
          </p:cNvPr>
          <p:cNvSpPr/>
          <p:nvPr/>
        </p:nvSpPr>
        <p:spPr>
          <a:xfrm>
            <a:off x="8677440" y="6381720"/>
            <a:ext cx="393480" cy="395280"/>
          </a:xfrm>
          <a:custGeom>
            <a:avLst/>
            <a:gdLst>
              <a:gd name="textAreaLeft" fmla="*/ 25200 w 393480"/>
              <a:gd name="textAreaRight" fmla="*/ 368280 w 393480"/>
              <a:gd name="textAreaTop" fmla="*/ 25200 h 395280"/>
              <a:gd name="textAreaBottom" fmla="*/ 370080 h 395280"/>
            </a:gdLst>
            <a:ahLst/>
            <a:rect l="textAreaLeft" t="textAreaTop" r="textAreaRight" b="textAreaBottom"/>
            <a:pathLst>
              <a:path w="21600" h="21699">
                <a:moveTo>
                  <a:pt x="0" y="0"/>
                </a:moveTo>
                <a:lnTo>
                  <a:pt x="21600" y="0"/>
                </a:lnTo>
                <a:lnTo>
                  <a:pt x="21600" y="21699"/>
                </a:lnTo>
                <a:lnTo>
                  <a:pt x="0" y="21699"/>
                </a:lnTo>
                <a:close/>
              </a:path>
              <a:path fill="lightenLess" w="21600" h="216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9">
                <a:moveTo>
                  <a:pt x="21600" y="0"/>
                </a:moveTo>
                <a:lnTo>
                  <a:pt x="21600" y="21699"/>
                </a:lnTo>
                <a:lnTo>
                  <a:pt x="20200" y="20299"/>
                </a:lnTo>
                <a:lnTo>
                  <a:pt x="20200" y="1400"/>
                </a:lnTo>
                <a:close/>
              </a:path>
              <a:path fill="darkenLess" w="21600" h="21699">
                <a:moveTo>
                  <a:pt x="21600" y="21699"/>
                </a:moveTo>
                <a:lnTo>
                  <a:pt x="0" y="21699"/>
                </a:lnTo>
                <a:lnTo>
                  <a:pt x="1400" y="20299"/>
                </a:lnTo>
                <a:lnTo>
                  <a:pt x="20200" y="20299"/>
                </a:lnTo>
                <a:close/>
              </a:path>
              <a:path fill="lighten" w="21600" h="21699">
                <a:moveTo>
                  <a:pt x="0" y="216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7772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蓝天衬着雪峰，几块白云在雪峰间投下云影，就像在白缎上绣了几朵暗花。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284720" y="1341360"/>
            <a:ext cx="67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20720" y="2674800"/>
            <a:ext cx="756144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蓝天衬着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雪峰，几块白云在雪峰间投下云影，就像在白缎上绣了几朵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暗花。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       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441320" y="2603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高耸的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170400" y="3827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银灰的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980640"/>
            <a:ext cx="8229600" cy="51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cc99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那融化的雪水从峭壁悬崖上</a:t>
            </a: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飞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下来，像千百条闪耀的银链。这飞泻下来的雪水，在山脚汇成</a:t>
            </a: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冲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溪流，浪花往上</a:t>
            </a: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形成千万朵盛开的白莲。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2008917120620流水声.mp3" descr="2008917120620流水声"/>
          <p:cNvPicPr/>
          <p:nvPr/>
        </p:nvPicPr>
        <p:blipFill>
          <a:blip r:embed="rId2"/>
          <a:stretch/>
        </p:blipFill>
        <p:spPr>
          <a:xfrm>
            <a:off x="882000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2252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666633"/>
                </a:solidFill>
                <a:latin typeface="Arial"/>
              </a:rPr>
              <a:t>而每到水势缓慢处，却有鱼儿在跳跃。这个时候，饮马溪边，坐在马鞍上，便可以俯视那阳光透射到的清澈的水底。五彩斑斓的水石间，鱼群闪闪的鳞光映着雪水清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     </a:t>
            </a:r>
            <a:r>
              <a:rPr b="1" lang="zh-CN" sz="4000" spc="-1" strike="noStrike">
                <a:solidFill>
                  <a:srgbClr val="666633"/>
                </a:solidFill>
                <a:latin typeface="Arial"/>
              </a:rPr>
              <a:t>流，给寂静的天山添上了无限生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7:44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9:09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