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9D54-72F0-487D-82A8-9FA0E6A9F4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0CAB-5ED1-48F5-9935-EBE1FEC083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80A-BA11-4E6E-B272-B2F3F5E3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C68-9D88-4BEF-958B-F73C95D2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E17-8BD0-49A8-821F-7341BC27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D8A-4228-4F2B-BC40-00BB6B94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079-09AD-4FDA-AEF5-2A76C28A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C06-89B1-44FE-A7AE-0BDC34B6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B4A-9169-48D4-8D8A-7DC8FD4C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65B-16E0-4759-8976-6C61D18A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09D-BA4B-4E80-BF7C-AB0B4A02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98F-A99C-4EBF-8A48-BB23DA9E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F19-B632-4475-A033-33324637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E11-BD2D-4EB1-A6E8-86E49204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767-7B1B-4495-9730-2B4D6D21B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#春联琐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650960" y="119700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我和春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01200000012881119595983642234"/>
          <p:cNvPicPr/>
          <p:nvPr/>
        </p:nvPicPr>
        <p:blipFill>
          <a:blip r:embed="rId2"/>
          <a:stretch/>
        </p:blipFill>
        <p:spPr>
          <a:xfrm>
            <a:off x="223920" y="2516040"/>
            <a:ext cx="1780920" cy="3668760"/>
          </a:xfrm>
          <a:prstGeom prst="rect">
            <a:avLst/>
          </a:prstGeom>
          <a:ln w="0">
            <a:noFill/>
          </a:ln>
        </p:spPr>
      </p:pic>
      <p:sp>
        <p:nvSpPr>
          <p:cNvPr id="51" name="矩形 9"/>
          <p:cNvSpPr/>
          <p:nvPr/>
        </p:nvSpPr>
        <p:spPr>
          <a:xfrm>
            <a:off x="182700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283248269064070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无标题"/>
          <p:cNvPicPr/>
          <p:nvPr/>
        </p:nvPicPr>
        <p:blipFill>
          <a:blip r:embed="rId2"/>
          <a:stretch/>
        </p:blipFill>
        <p:spPr>
          <a:xfrm>
            <a:off x="611280" y="476280"/>
            <a:ext cx="2305080" cy="1976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771640" y="692280"/>
            <a:ext cx="561672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来说说对“风摇竹影有声画，雨打梅花无字诗。”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11280" y="2781360"/>
            <a:ext cx="806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欣赏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言精练，通过读者的想象，去感受文字所表达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像一幅画，似一首诗，读着它，看到了竹林、梅花，感受到了风和雨，还好像看到了风吹竹林、雨打梅花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0" descr="283248269064070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50920" y="105264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187280" y="765000"/>
            <a:ext cx="367200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童年的爱好，往往决定一个人一生要走的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87280" y="3284640"/>
            <a:ext cx="38163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现在想来，儿时对春联的喜爱和收集，与我后来从事文学创作是大有关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2195640" y="227664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楷体_GB2312"/>
              </a:rPr>
              <a:t>概  括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2124000" y="530064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楷体_GB2312"/>
              </a:rPr>
              <a:t>具  体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pic>
        <p:nvPicPr>
          <p:cNvPr id="118" name="WordArt 9" descr=""/>
          <p:cNvPicPr/>
          <p:nvPr/>
        </p:nvPicPr>
        <p:blipFill>
          <a:blip r:embed="rId2"/>
          <a:stretch/>
        </p:blipFill>
        <p:spPr>
          <a:xfrm>
            <a:off x="4160880" y="1104840"/>
            <a:ext cx="4722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恭贺新禧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69236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学如逆水行舟，不进则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心似平原跑马，易放难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619280" y="145908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书山有路勤为径，学海无涯苦作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92360" y="21798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生意兴隆通四海，财源茂盛达三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692360" y="29005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福如东海长流水，寿比南山不老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184560" y="4659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692360" y="3573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弯流水斜阳外，几缕炊烟老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692360" y="427500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又是一年芳草绿，依然十里杏花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692360" y="49244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向阳门第春常在，积善人家庆有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692360" y="560880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风摇竹影有声画，雨打梅花无字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kuang3"/>
          <p:cNvPicPr/>
          <p:nvPr/>
        </p:nvPicPr>
        <p:blipFill>
          <a:blip r:embed="rId1"/>
          <a:stretch/>
        </p:blipFill>
        <p:spPr>
          <a:xfrm>
            <a:off x="2843280" y="189000"/>
            <a:ext cx="630072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对话2"/>
          <p:cNvPicPr/>
          <p:nvPr/>
        </p:nvPicPr>
        <p:blipFill>
          <a:blip r:embed="rId2"/>
          <a:stretch/>
        </p:blipFill>
        <p:spPr>
          <a:xfrm>
            <a:off x="0" y="3641760"/>
            <a:ext cx="4643280" cy="321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987640" y="765000"/>
            <a:ext cx="598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对联结构精妙，描写景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抒发感情，寓意很深，给人启发教育；对联有文采；对联讲究对仗工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7740720" y="616572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15139" y="3837"/>
                </a:moveTo>
                <a:lnTo>
                  <a:pt x="17716" y="6448"/>
                </a:lnTo>
                <a:lnTo>
                  <a:pt x="17716" y="4707"/>
                </a:lnTo>
                <a:lnTo>
                  <a:pt x="19491" y="4707"/>
                </a:lnTo>
                <a:lnTo>
                  <a:pt x="19491" y="8224"/>
                </a:lnTo>
                <a:lnTo>
                  <a:pt x="22102" y="10800"/>
                </a:lnTo>
                <a:lnTo>
                  <a:pt x="20449" y="10800"/>
                </a:lnTo>
                <a:lnTo>
                  <a:pt x="20449" y="17989"/>
                </a:lnTo>
                <a:lnTo>
                  <a:pt x="9830" y="17989"/>
                </a:lnTo>
                <a:lnTo>
                  <a:pt x="9830" y="10800"/>
                </a:lnTo>
                <a:lnTo>
                  <a:pt x="8177" y="10800"/>
                </a:lnTo>
                <a:close/>
              </a:path>
              <a:path fill="darkenLess" w="30279" h="21600">
                <a:moveTo>
                  <a:pt x="17716" y="6448"/>
                </a:moveTo>
                <a:lnTo>
                  <a:pt x="17716" y="4707"/>
                </a:lnTo>
                <a:lnTo>
                  <a:pt x="19491" y="4707"/>
                </a:lnTo>
                <a:lnTo>
                  <a:pt x="19491" y="8224"/>
                </a:lnTo>
                <a:close/>
              </a:path>
              <a:path fill="darkenLess" w="30279" h="21600">
                <a:moveTo>
                  <a:pt x="14217" y="14299"/>
                </a:moveTo>
                <a:lnTo>
                  <a:pt x="16062" y="14299"/>
                </a:lnTo>
                <a:lnTo>
                  <a:pt x="16062" y="17989"/>
                </a:lnTo>
                <a:lnTo>
                  <a:pt x="20449" y="17989"/>
                </a:lnTo>
                <a:lnTo>
                  <a:pt x="20449" y="10800"/>
                </a:lnTo>
                <a:lnTo>
                  <a:pt x="9830" y="10800"/>
                </a:lnTo>
                <a:lnTo>
                  <a:pt x="9830" y="17989"/>
                </a:lnTo>
                <a:lnTo>
                  <a:pt x="1421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283248269064070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1-9"/>
          <p:cNvPicPr/>
          <p:nvPr/>
        </p:nvPicPr>
        <p:blipFill>
          <a:blip r:embed="rId2"/>
          <a:stretch/>
        </p:blipFill>
        <p:spPr>
          <a:xfrm>
            <a:off x="5796000" y="4365720"/>
            <a:ext cx="2057400" cy="1590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403280" y="1125360"/>
            <a:ext cx="60501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南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荆楚岁时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记载，每逢岁时，人们便挂桃符来驱鬼辟邪，迎喜接福，这是对联的萌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76360" y="2924280"/>
            <a:ext cx="59752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五代时，桃符上的神像不见了，取而代之的是联语，最早的对联是蜀后主写的“新年纳余庆，嘉节号长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5"/>
          <p:cNvSpPr txBox="1"/>
          <p:nvPr/>
        </p:nvSpPr>
        <p:spPr>
          <a:xfrm>
            <a:off x="1547640" y="1484280"/>
            <a:ext cx="61930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对对子 擂台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539640" y="692280"/>
            <a:ext cx="838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连出上下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载歌载舞庆新春     人新事新时代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碧波跳红鲤         同心同德干四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山美人美风光美     绿水跃白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2627280" y="1052640"/>
            <a:ext cx="410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风抚千条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雨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__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朵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草萌芽思春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红梅傲雪斗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____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处处红花红处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重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__________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032840" y="189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补充对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11280" y="69228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老师像园丁呕心沥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________________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键盘输方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_________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1751040" y="499428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187280" y="549360"/>
            <a:ext cx="6858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学海无涯勤可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书山万仞志能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5" descr="283248269064070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POTH45a1db60cdba9"/>
          <p:cNvPicPr/>
          <p:nvPr/>
        </p:nvPicPr>
        <p:blipFill>
          <a:blip r:embed="rId2"/>
          <a:stretch/>
        </p:blipFill>
        <p:spPr>
          <a:xfrm>
            <a:off x="950760" y="692280"/>
            <a:ext cx="3189600" cy="4465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200806261633407232"/>
          <p:cNvPicPr/>
          <p:nvPr/>
        </p:nvPicPr>
        <p:blipFill>
          <a:blip r:embed="rId3"/>
          <a:stretch/>
        </p:blipFill>
        <p:spPr>
          <a:xfrm>
            <a:off x="4859280" y="836640"/>
            <a:ext cx="3417840" cy="43927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3"/>
          <p:cNvGrpSpPr/>
          <p:nvPr/>
        </p:nvGrpSpPr>
        <p:grpSpPr>
          <a:xfrm>
            <a:off x="1332000" y="5300640"/>
            <a:ext cx="6553080" cy="1297080"/>
            <a:chOff x="1332000" y="5300640"/>
            <a:chExt cx="6553080" cy="1297080"/>
          </a:xfrm>
        </p:grpSpPr>
        <p:sp>
          <p:nvSpPr>
            <p:cNvPr id="56" name="Rectangle 12"/>
            <p:cNvSpPr/>
            <p:nvPr/>
          </p:nvSpPr>
          <p:spPr>
            <a:xfrm>
              <a:off x="1332000" y="5300640"/>
              <a:ext cx="655308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1403280" y="5435640"/>
              <a:ext cx="648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写在纸上、布上或刻在竹子上、木头上、柱子上的对偶语句。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WordArt 11"/>
          <p:cNvSpPr txBox="1"/>
          <p:nvPr/>
        </p:nvSpPr>
        <p:spPr>
          <a:xfrm>
            <a:off x="3708360" y="333360"/>
            <a:ext cx="158436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对联</a:t>
            </a:r>
            <a:endParaRPr b="1" lang="en-US" sz="18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544B-ED5B-4A83-9476-983CDD04DC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8" descr="283248269064070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2"/>
          <p:cNvGrpSpPr/>
          <p:nvPr/>
        </p:nvGrpSpPr>
        <p:grpSpPr>
          <a:xfrm>
            <a:off x="4716360" y="907920"/>
            <a:ext cx="4211640" cy="5042160"/>
            <a:chOff x="4716360" y="907920"/>
            <a:chExt cx="4211640" cy="5042160"/>
          </a:xfrm>
        </p:grpSpPr>
        <p:sp>
          <p:nvSpPr>
            <p:cNvPr id="61" name="AutoShape 7"/>
            <p:cNvSpPr/>
            <p:nvPr/>
          </p:nvSpPr>
          <p:spPr>
            <a:xfrm>
              <a:off x="4716360" y="907920"/>
              <a:ext cx="4211640" cy="5042160"/>
            </a:xfrm>
            <a:prstGeom prst="verticalScroll">
              <a:avLst>
                <a:gd name="adj" fmla="val 768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WordArt 11"/>
            <p:cNvSpPr txBox="1"/>
            <p:nvPr/>
          </p:nvSpPr>
          <p:spPr>
            <a:xfrm>
              <a:off x="6732720" y="1700280"/>
              <a:ext cx="143964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0000"/>
                    </a:solidFill>
                    <a:round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_GB2312"/>
                </a:rPr>
                <a:t>春联</a:t>
              </a:r>
              <a:endParaRPr b="1" lang="en-US" sz="1800" spc="1" strike="noStrike">
                <a:ln w="12600">
                  <a:solidFill>
                    <a:srgbClr val="ff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pic>
        <p:nvPicPr>
          <p:cNvPr id="63" name="Picture 4" descr="cl"/>
          <p:cNvPicPr/>
          <p:nvPr/>
        </p:nvPicPr>
        <p:blipFill>
          <a:blip r:embed="rId4"/>
          <a:stretch/>
        </p:blipFill>
        <p:spPr>
          <a:xfrm>
            <a:off x="539640" y="981000"/>
            <a:ext cx="4032360" cy="504036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5219640" y="1700280"/>
            <a:ext cx="29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round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我和春联</a:t>
            </a:r>
            <a:endParaRPr b="1" lang="en-US" sz="1800" spc="1" strike="noStrike">
              <a:ln w="12600">
                <a:solidFill>
                  <a:srgbClr val="ff0000"/>
                </a:solidFill>
                <a:round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64000" y="357336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年一度新春佳节时书写张贴的一种对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684360" y="998640"/>
            <a:ext cx="78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待中，我便漫不经心地打量起门上的对联来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那时，我虽然不尽懂得，但从此对春联发生了浓厚的兴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来，我常请老师给我讲解对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后，我对对联越来越感兴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样，春联越来越融入了我的童年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5" descr="283248269064070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250920" y="105264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187280" y="765000"/>
            <a:ext cx="367200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童年的爱好，往往决定一个人一生要走的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187280" y="3284640"/>
            <a:ext cx="374508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现在想来，儿时对春联的喜爱和收集，与我后来从事文学创作是大有关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ordArt 11" descr=""/>
          <p:cNvPicPr/>
          <p:nvPr/>
        </p:nvPicPr>
        <p:blipFill>
          <a:blip r:embed="rId2"/>
          <a:stretch/>
        </p:blipFill>
        <p:spPr>
          <a:xfrm>
            <a:off x="4556160" y="920880"/>
            <a:ext cx="4308480" cy="2566800"/>
          </a:xfrm>
          <a:prstGeom prst="rect">
            <a:avLst/>
          </a:prstGeom>
          <a:ln w="0">
            <a:noFill/>
          </a:ln>
        </p:spPr>
      </p:pic>
      <p:sp>
        <p:nvSpPr>
          <p:cNvPr id="72" name="WordArt 12"/>
          <p:cNvSpPr txBox="1"/>
          <p:nvPr/>
        </p:nvSpPr>
        <p:spPr>
          <a:xfrm>
            <a:off x="2195640" y="227664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楷体_GB2312"/>
              </a:rPr>
              <a:t>概  括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2124000" y="530064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楷体_GB2312"/>
              </a:rPr>
              <a:t>具  体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1"/>
          <p:cNvSpPr/>
          <p:nvPr/>
        </p:nvSpPr>
        <p:spPr>
          <a:xfrm>
            <a:off x="900000" y="2041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283248269064070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图"/>
          <p:cNvPicPr/>
          <p:nvPr/>
        </p:nvPicPr>
        <p:blipFill>
          <a:blip r:embed="rId2"/>
          <a:stretch/>
        </p:blipFill>
        <p:spPr>
          <a:xfrm>
            <a:off x="0" y="620640"/>
            <a:ext cx="7451640" cy="558972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3"/>
          <p:cNvGrpSpPr/>
          <p:nvPr/>
        </p:nvGrpSpPr>
        <p:grpSpPr>
          <a:xfrm>
            <a:off x="0" y="3789360"/>
            <a:ext cx="3780000" cy="1152360"/>
            <a:chOff x="0" y="3789360"/>
            <a:chExt cx="3780000" cy="1152360"/>
          </a:xfrm>
        </p:grpSpPr>
        <p:sp>
          <p:nvSpPr>
            <p:cNvPr id="78" name="AutoShape 4"/>
            <p:cNvSpPr/>
            <p:nvPr/>
          </p:nvSpPr>
          <p:spPr>
            <a:xfrm>
              <a:off x="0" y="3789360"/>
              <a:ext cx="3780000" cy="1152360"/>
            </a:xfrm>
            <a:prstGeom prst="cloudCallout">
              <a:avLst>
                <a:gd name="adj1" fmla="val 23282"/>
                <a:gd name="adj2" fmla="val -12148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5"/>
            <p:cNvSpPr/>
            <p:nvPr/>
          </p:nvSpPr>
          <p:spPr>
            <a:xfrm>
              <a:off x="390960" y="3917520"/>
              <a:ext cx="3389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怎样对春联发生兴趣的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1"/>
          <p:cNvSpPr/>
          <p:nvPr/>
        </p:nvSpPr>
        <p:spPr>
          <a:xfrm>
            <a:off x="5294160" y="641520"/>
            <a:ext cx="35989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既没有见过逆水行舟，也没有见过平原跑马，但隐约能想象出它们的样子，便聚精会神地琢磨起来，连老师站在身后也没有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364000" y="4206960"/>
            <a:ext cx="352764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指着对联问老师：“这‘不进则退’和‘易放难收’怎么讲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1" descr="283248269064070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图"/>
          <p:cNvPicPr/>
          <p:nvPr/>
        </p:nvPicPr>
        <p:blipFill>
          <a:blip r:embed="rId2"/>
          <a:stretch/>
        </p:blipFill>
        <p:spPr>
          <a:xfrm>
            <a:off x="1297080" y="86364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7"/>
          <p:cNvSpPr/>
          <p:nvPr/>
        </p:nvSpPr>
        <p:spPr>
          <a:xfrm>
            <a:off x="324000" y="260280"/>
            <a:ext cx="1295280" cy="633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6"/>
          <p:cNvGrpSpPr/>
          <p:nvPr/>
        </p:nvGrpSpPr>
        <p:grpSpPr>
          <a:xfrm>
            <a:off x="7308720" y="260280"/>
            <a:ext cx="1297080" cy="6337440"/>
            <a:chOff x="7308720" y="260280"/>
            <a:chExt cx="1297080" cy="6337440"/>
          </a:xfrm>
        </p:grpSpPr>
        <p:sp>
          <p:nvSpPr>
            <p:cNvPr id="86" name="Rectangle 9"/>
            <p:cNvSpPr/>
            <p:nvPr/>
          </p:nvSpPr>
          <p:spPr>
            <a:xfrm>
              <a:off x="7308720" y="260280"/>
              <a:ext cx="1297080" cy="63374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WordArt 7"/>
            <p:cNvSpPr txBox="1"/>
            <p:nvPr/>
          </p:nvSpPr>
          <p:spPr>
            <a:xfrm rot="5400000">
              <a:off x="5149440" y="3148200"/>
              <a:ext cx="5657760" cy="504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学如逆水行舟，不进则退</a:t>
              </a:r>
              <a:endParaRPr b="0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88" name="WordArt 15"/>
          <p:cNvSpPr txBox="1"/>
          <p:nvPr/>
        </p:nvSpPr>
        <p:spPr>
          <a:xfrm rot="5400000">
            <a:off x="-1944360" y="3178080"/>
            <a:ext cx="576252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心似平原跑马，易放难收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2700360" y="3141720"/>
            <a:ext cx="2014560" cy="311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构精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借景抒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寓意深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给人启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诗意盎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6" descr="283248269064070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#春联琐记"/>
          <p:cNvPicPr/>
          <p:nvPr/>
        </p:nvPicPr>
        <p:blipFill>
          <a:blip r:embed="rId2"/>
          <a:stretch/>
        </p:blipFill>
        <p:spPr>
          <a:xfrm>
            <a:off x="0" y="0"/>
            <a:ext cx="9144000" cy="6670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4"/>
          <p:cNvSpPr/>
          <p:nvPr/>
        </p:nvSpPr>
        <p:spPr>
          <a:xfrm>
            <a:off x="395280" y="476280"/>
            <a:ext cx="1297080" cy="54738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7596360" y="476280"/>
            <a:ext cx="1223640" cy="54738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1"/>
          <p:cNvSpPr txBox="1"/>
          <p:nvPr/>
        </p:nvSpPr>
        <p:spPr>
          <a:xfrm rot="5400000">
            <a:off x="6055560" y="2790720"/>
            <a:ext cx="426744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书山有路勤为径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5" name="WordArt 13"/>
          <p:cNvSpPr txBox="1"/>
          <p:nvPr/>
        </p:nvSpPr>
        <p:spPr>
          <a:xfrm rot="5400000">
            <a:off x="-1139760" y="2914560"/>
            <a:ext cx="433368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学海无涯苦作舟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2268360" y="3429000"/>
            <a:ext cx="2232360" cy="459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讲究对仗工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250920" y="1197000"/>
            <a:ext cx="1512720" cy="417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WordArt 8" descr=""/>
          <p:cNvPicPr/>
          <p:nvPr/>
        </p:nvPicPr>
        <p:blipFill>
          <a:blip r:embed="rId1"/>
          <a:stretch/>
        </p:blipFill>
        <p:spPr>
          <a:xfrm>
            <a:off x="463680" y="1695600"/>
            <a:ext cx="1089000" cy="320976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4"/>
          <p:cNvGrpSpPr/>
          <p:nvPr/>
        </p:nvGrpSpPr>
        <p:grpSpPr>
          <a:xfrm>
            <a:off x="6948360" y="1268280"/>
            <a:ext cx="1513080" cy="4176720"/>
            <a:chOff x="6948360" y="1268280"/>
            <a:chExt cx="1513080" cy="4176720"/>
          </a:xfrm>
        </p:grpSpPr>
        <p:sp>
          <p:nvSpPr>
            <p:cNvPr id="100" name="Rectangle 12"/>
            <p:cNvSpPr/>
            <p:nvPr/>
          </p:nvSpPr>
          <p:spPr>
            <a:xfrm>
              <a:off x="6948360" y="1268280"/>
              <a:ext cx="1513080" cy="417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WordArt 10" descr=""/>
            <p:cNvPicPr/>
            <p:nvPr/>
          </p:nvPicPr>
          <p:blipFill>
            <a:blip r:embed="rId2"/>
            <a:stretch/>
          </p:blipFill>
          <p:spPr>
            <a:xfrm>
              <a:off x="7159680" y="1623960"/>
              <a:ext cx="1160280" cy="346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15"/>
          <p:cNvGrpSpPr/>
          <p:nvPr/>
        </p:nvGrpSpPr>
        <p:grpSpPr>
          <a:xfrm>
            <a:off x="4859280" y="1268280"/>
            <a:ext cx="1513080" cy="4176720"/>
            <a:chOff x="4859280" y="1268280"/>
            <a:chExt cx="1513080" cy="4176720"/>
          </a:xfrm>
        </p:grpSpPr>
        <p:sp>
          <p:nvSpPr>
            <p:cNvPr id="103" name="Rectangle 13"/>
            <p:cNvSpPr/>
            <p:nvPr/>
          </p:nvSpPr>
          <p:spPr>
            <a:xfrm>
              <a:off x="4859280" y="1268280"/>
              <a:ext cx="1513080" cy="417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WordArt 11" descr=""/>
            <p:cNvPicPr/>
            <p:nvPr/>
          </p:nvPicPr>
          <p:blipFill>
            <a:blip r:embed="rId3"/>
            <a:stretch/>
          </p:blipFill>
          <p:spPr>
            <a:xfrm>
              <a:off x="5072040" y="1670040"/>
              <a:ext cx="1187640" cy="327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8"/>
          <p:cNvGrpSpPr/>
          <p:nvPr/>
        </p:nvGrpSpPr>
        <p:grpSpPr>
          <a:xfrm>
            <a:off x="2627280" y="1268280"/>
            <a:ext cx="1513080" cy="4176720"/>
            <a:chOff x="2627280" y="1268280"/>
            <a:chExt cx="1513080" cy="4176720"/>
          </a:xfrm>
        </p:grpSpPr>
        <p:sp>
          <p:nvSpPr>
            <p:cNvPr id="106" name="Rectangle 17"/>
            <p:cNvSpPr/>
            <p:nvPr/>
          </p:nvSpPr>
          <p:spPr>
            <a:xfrm>
              <a:off x="2627280" y="1268280"/>
              <a:ext cx="1513080" cy="417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WordArt 16" descr=""/>
            <p:cNvPicPr/>
            <p:nvPr/>
          </p:nvPicPr>
          <p:blipFill>
            <a:blip r:embed="rId4"/>
            <a:stretch/>
          </p:blipFill>
          <p:spPr>
            <a:xfrm>
              <a:off x="2768760" y="1623960"/>
              <a:ext cx="1160280" cy="344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7:55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8:01Z</dcterms:modified>
  <cp:revision>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