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gif" ContentType="image/gif"/>
  <Override PartName="/ppt/media/image17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D395-B70A-4767-AEAF-FF23D5BEE3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B9F7-962E-426D-AAF2-3F2DC82C8E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58E-7E12-4BC2-815D-37EAE43C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2FB6-E637-4588-9B86-4601CDC6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257F-A85F-4E21-A73B-0E26A978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C88-6254-4B67-B6C2-DFDDCEBD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FCE-10B4-49DD-8AA7-6C818CA3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F8F-2436-474B-8704-856FFC6D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480-6263-49A3-8080-84DA8B90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2E3-9669-49E8-BF41-7790647D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796-9756-48E9-8A48-AAE75BC9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2FB-3A07-40F1-91F8-6129064E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096-A365-4B51-B16C-BFACFCE0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E88-6494-4888-B0CC-70D831CA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7DA1-1501-4B4F-8FA8-B8847AA50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3" descr=""/>
          <p:cNvPicPr/>
          <p:nvPr/>
        </p:nvPicPr>
        <p:blipFill>
          <a:blip r:embed="rId2"/>
          <a:stretch/>
        </p:blipFill>
        <p:spPr>
          <a:xfrm>
            <a:off x="1638360" y="1766880"/>
            <a:ext cx="6097680" cy="1257480"/>
          </a:xfrm>
          <a:prstGeom prst="rect">
            <a:avLst/>
          </a:prstGeom>
          <a:ln w="0">
            <a:noFill/>
          </a:ln>
        </p:spPr>
      </p:pic>
      <p:pic>
        <p:nvPicPr>
          <p:cNvPr id="50" name="矩形 4" descr=""/>
          <p:cNvPicPr/>
          <p:nvPr/>
        </p:nvPicPr>
        <p:blipFill>
          <a:blip r:embed="rId3"/>
          <a:stretch/>
        </p:blipFill>
        <p:spPr>
          <a:xfrm>
            <a:off x="1343160" y="5572080"/>
            <a:ext cx="65736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20076181125101410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745200" y="214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方正康体简体"/>
                <a:ea typeface="方正康体简体"/>
              </a:rPr>
              <a:t>飞流直下三千尺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928800" y="10000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飞流”表现瀑布凌空而出，喷涌飞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77240" y="1508040"/>
            <a:ext cx="220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直下”既写出岩壁的陡峭，又写出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流之急，气势磅礴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89480" y="2224080"/>
            <a:ext cx="23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千尺”极力夸张，写山的高峻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935280" y="3789360"/>
            <a:ext cx="200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的诗气势磅礴，宏伟壮观。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写诗人觉得还没把瀑布的雄奇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势表现得淋漓尽致，于是接着又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句更加气势磅礴的诗句，你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想是哪一句？</a:t>
            </a:r>
            <a:r>
              <a:rPr b="0" lang="zh-CN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42080" y="3252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方正康体简体"/>
              </a:rPr>
              <a:t>思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dur="indefinite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2463M31VJZ-MM7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5349600" y="2116800"/>
            <a:ext cx="729000" cy="1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康体简体"/>
              </a:rPr>
              <a:t>疑是银河落九天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984640" y="4221000"/>
            <a:ext cx="2375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银河在中国古代又称天河、银汉、星河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横跨天空的一条淡淡乳白色发光的带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家有兴趣可以去查阅有关书籍。银河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文化中占很重要的地位，有著名的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鹊桥相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其中说的天河就是银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383440" y="3808440"/>
            <a:ext cx="8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银河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197400" y="5837400"/>
            <a:ext cx="188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的最高处</a:t>
            </a: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容极高。传说古代天有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。也作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重天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霄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如：九霄云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404320" y="5516640"/>
            <a:ext cx="8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天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6078600" y="476280"/>
            <a:ext cx="2933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楷体_GB2312"/>
              </a:rPr>
              <a:t>这“飞流直下”的瀑布，使人怀疑是银河从九天倾泻下来。一个“疑”，用得空灵活泼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楷体_GB2312"/>
              </a:rPr>
              <a:t>若真若幻，引人遐想，增添了瀑布的神奇色彩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进一步刻画了瀑布的雄奇气势 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759120" y="236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少儿简体"/>
              </a:rPr>
              <a:t>全诗赏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141640" y="159228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日照香炉生紫烟，遥看瀑布挂前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47640" y="3645000"/>
            <a:ext cx="56120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的前两句从大处着笔，概写望中全景：山顶紫烟缭绕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间白练悬挂，山下激流奔腾，构成一幅绚丽壮美的图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020320" y="1989000"/>
            <a:ext cx="4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飞流直下三千尺，疑是银河落九天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524040" y="4653000"/>
            <a:ext cx="192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这首诗极其成功地运用了比喻、夸张和想象，构思奇特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语言生动形象、洗炼明快。苏东坡十分赞赏这首诗，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帝遣银河一脉垂，古来唯有谪仙词”。“谪仙”就是李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望庐山瀑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的确是状物写景和抒情的范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446560" y="1066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让我们再次诵读全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406840" y="1523880"/>
            <a:ext cx="23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日照香炉生紫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遥看瀑布挂前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飞流直下三千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疑是银河落九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"/>
          <p:cNvSpPr/>
          <p:nvPr/>
        </p:nvSpPr>
        <p:spPr>
          <a:xfrm>
            <a:off x="173160" y="6114960"/>
            <a:ext cx="53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望庐山瀑布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468360" y="858960"/>
            <a:ext cx="70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李白心里一定在想：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658800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755640" y="1989000"/>
            <a:ext cx="99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多么      的瀑布啊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826920" y="3933720"/>
            <a:ext cx="83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多么       的大自然啊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2268360" y="2708280"/>
            <a:ext cx="1943280" cy="0"/>
          </a:xfrm>
          <a:prstGeom prst="line">
            <a:avLst/>
          </a:prstGeom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2411280" y="4653000"/>
            <a:ext cx="2303640" cy="0"/>
          </a:xfrm>
          <a:prstGeom prst="line">
            <a:avLst/>
          </a:prstGeom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望庐山瀑布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2268360" y="29242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赞美大自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B6D1-9131-4C22-AB03-05C35E122D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pu3"/>
          <p:cNvPicPr/>
          <p:nvPr/>
        </p:nvPicPr>
        <p:blipFill>
          <a:blip r:embed="rId1"/>
          <a:stretch/>
        </p:blipFill>
        <p:spPr>
          <a:xfrm>
            <a:off x="-355680" y="0"/>
            <a:ext cx="47912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5183280" y="419040"/>
            <a:ext cx="261900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望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庐山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瀑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李 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日照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香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紫烟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遥看瀑布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挂前川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飞流直下三千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疑是银河落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九天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previous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28000" y="6332400"/>
            <a:ext cx="430200" cy="2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previous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459640" y="6308640"/>
            <a:ext cx="50508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望庐山瀑布-12"/>
          <p:cNvPicPr/>
          <p:nvPr/>
        </p:nvPicPr>
        <p:blipFill>
          <a:blip r:embed="rId1"/>
          <a:stretch/>
        </p:blipFill>
        <p:spPr>
          <a:xfrm>
            <a:off x="0" y="0"/>
            <a:ext cx="9144000" cy="6792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817720" y="2373480"/>
            <a:ext cx="4371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 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ú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照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香炉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紫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遥看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瀑布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挂前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飞流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下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千尺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疑是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银河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落九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506680" y="1131840"/>
            <a:ext cx="7466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庐山瀑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望庐山瀑布课文朗读.mp3" descr=""/>
          <p:cNvPicPr/>
          <p:nvPr/>
        </p:nvPicPr>
        <p:blipFill>
          <a:blip r:embed="rId2"/>
          <a:stretch/>
        </p:blipFill>
        <p:spPr>
          <a:xfrm>
            <a:off x="7308720" y="5516640"/>
            <a:ext cx="1081080" cy="846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5364000" y="1962000"/>
            <a:ext cx="172908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236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6"/>
          <p:cNvSpPr/>
          <p:nvPr/>
        </p:nvSpPr>
        <p:spPr>
          <a:xfrm>
            <a:off x="1547640" y="3500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lb1"/>
          <p:cNvPicPr/>
          <p:nvPr/>
        </p:nvPicPr>
        <p:blipFill>
          <a:blip r:embed="rId2"/>
          <a:stretch/>
        </p:blipFill>
        <p:spPr>
          <a:xfrm>
            <a:off x="395280" y="765000"/>
            <a:ext cx="3600360" cy="52578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4284720" y="2826720"/>
            <a:ext cx="45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李白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6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，字太白，号青莲居士，唐代伟大诗人。他的诗歌具有丰富的想象力，运用大胆的夸张和深入浅出的语言，形成豪迈爽朗的风格，是屈原之后古代积极浪漫主义诗歌的杰出代表。在我国古代诗歌发展史上，李白达到了浪漫主义艺术的顶峰。被人们称为“诗仙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previous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12000" y="6308640"/>
            <a:ext cx="501840" cy="335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revious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317080" y="6308640"/>
            <a:ext cx="50472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我认识下面的生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庐     瀑     炉     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我会读古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望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庐山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瀑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李 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日照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香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生紫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遥看瀑布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挂前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飞流直下三千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疑是银河落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九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你读懂了古诗的哪一行？讲给你的伙伴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181480" y="5335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望庐山瀑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324480" y="1600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李 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257800" y="2514600"/>
            <a:ext cx="5291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日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香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紫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遥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瀑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挂前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直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三千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疑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银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落九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望瀑布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轻音乐 - 高山流水 - 古筝 古曲.mp3" descr=""/>
          <p:cNvPicPr/>
          <p:nvPr/>
        </p:nvPicPr>
        <p:blipFill>
          <a:blip r:embed="rId2"/>
          <a:stretch/>
        </p:blipFill>
        <p:spPr>
          <a:xfrm>
            <a:off x="7956720" y="567072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26996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0080211151832728"/>
          <p:cNvPicPr/>
          <p:nvPr/>
        </p:nvPicPr>
        <p:blipFill>
          <a:blip r:embed="rId1"/>
          <a:stretch/>
        </p:blipFill>
        <p:spPr>
          <a:xfrm>
            <a:off x="0" y="-177840"/>
            <a:ext cx="12958920" cy="10801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全诗，理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思，说一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照香炉生紫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全诗，理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遥看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思，说一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遥看瀑布挂前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全诗，理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飞流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思，说一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流直下三千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全诗，理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疑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落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思，说一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疑是银河落九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9640" y="476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分组合作学习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24000" y="836640"/>
            <a:ext cx="43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庐山云雾3"/>
          <p:cNvPicPr/>
          <p:nvPr/>
        </p:nvPicPr>
        <p:blipFill>
          <a:blip r:embed="rId1"/>
          <a:stretch/>
        </p:blipFill>
        <p:spPr>
          <a:xfrm>
            <a:off x="0" y="0"/>
            <a:ext cx="6804000" cy="5103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7797600" y="122760"/>
            <a:ext cx="729000" cy="53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方正康体简体"/>
                <a:ea typeface="方正康体简体"/>
              </a:rPr>
              <a:t>日照香炉生紫烟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985840" y="531828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庐山：在江西省九江市南，是我国著名的风景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468680" y="5805360"/>
            <a:ext cx="5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香炉：是指庐山的香炉峰。此峰在庐山西北，形状尖圆，像座香炉。由于瀑布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泻，水气蒸腾而上，在丽日照耀下，仿佛有座顶天立地的香炉冉冉升起了团团紫烟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50920" y="515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70440" y="5197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方正康体简体"/>
              </a:rPr>
              <a:t>思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418120" y="522936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认为这句诗中哪个字写的最好，最生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849320" y="5692680"/>
            <a:ext cx="492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楷体_GB2312"/>
              </a:rPr>
              <a:t>是“生”字。一个“生”字把烟云冉冉上升的景象写活了。此句为瀑布设置了雄奇的背景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楷体_GB2312"/>
              </a:rPr>
              <a:t>也为下文直接描写瀑布渲染了气氛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流动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6345720" y="38412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康体简体"/>
              </a:rPr>
              <a:t>遥看瀑布挂前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206680" y="1773360"/>
            <a:ext cx="5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川：河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663880" y="1268280"/>
            <a:ext cx="5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遥看：远远地望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423320" y="3789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方正康体简体"/>
              </a:rPr>
              <a:t>思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561640" y="422100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你认为这句诗中哪个字写的最好，最生动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349880" y="2421000"/>
            <a:ext cx="47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遥看瀑布”四字照应了题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望庐山瀑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284080" y="2852640"/>
            <a:ext cx="28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挂前川”是说瀑布像一条巨大的白练从悬崖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挂到前面的河流上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5076360" y="4697280"/>
            <a:ext cx="2718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楷体_GB2312"/>
              </a:rPr>
              <a:t>是“挂”字。“挂”字化动为静，维纱维肖地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楷体_GB2312"/>
              </a:rPr>
              <a:t>出遥望中的瀑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400"/>
                            </p:stCondLst>
                            <p:childTnLst>
                              <p:par>
                                <p:cTn id="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5T10:43:0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7:04Z</dcterms:modified>
  <cp:revision>2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