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hammer.wav" ContentType="audio/x-wav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type.wav" ContentType="audio/x-wav"/>
  <Override PartName="/ppt/media/image10.png" ContentType="image/png"/>
  <Override PartName="/ppt/media/image17.jpeg" ContentType="image/jpeg"/>
  <Override PartName="/ppt/media/image3.png" ContentType="image/pn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9AB9-DDFF-428F-B81D-0321A7F0B2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009-5C85-44E6-8193-ECD24450A7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0D6-A0FD-4E21-9DC6-1BE86D28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842-B1A8-4CD5-A181-D851676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619-6674-4E37-8686-8A831AB7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EF2-E647-4F89-AAA6-450183F2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38B-F806-4722-80A4-7FC9A1C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4AA-D005-4B3B-93C6-467CCC6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891-B71B-4643-8FDC-930B875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C00-A267-4B01-A803-E774EFF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2EA-D6DC-4F4F-9F51-48E567E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DFC-4E3C-4152-8100-42F678F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7E9-6E88-4561-AE18-D2DB03F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9B9-543D-4BD9-B945-58B3F0CC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0D9-372C-48ED-91D2-79B5C8F86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865080" y="2205000"/>
            <a:ext cx="5507280" cy="13222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0" descr=""/>
          <p:cNvPicPr/>
          <p:nvPr/>
        </p:nvPicPr>
        <p:blipFill>
          <a:blip r:embed="rId3"/>
          <a:stretch/>
        </p:blipFill>
        <p:spPr>
          <a:xfrm>
            <a:off x="1811160" y="6021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香炉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ls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5105520"/>
            <a:ext cx="9144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阳光的照射下，庐山的香炉峰升起紫色的云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00360" y="1628640"/>
            <a:ext cx="20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香炉：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庐山的香炉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508720" y="17002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烟：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紫色的云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-300960" y="62064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遥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布挂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4241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070000" y="450864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远处看，瀑布从青翠的山间落下来，好像一条大河挂在山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916360" y="141300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遥看：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从远处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35160" y="3276720"/>
            <a:ext cx="24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川：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山的前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维多利亚瀑布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7155360" y="117360"/>
            <a:ext cx="16426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8023d"/>
                </a:solidFill>
                <a:latin typeface="Times New Roman"/>
              </a:rPr>
              <a:t>飞流直下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三千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94160" y="1809720"/>
            <a:ext cx="18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千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度，指有三千尺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88000" y="43657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长长的瀑布飞快地从山上直往下泻，足有三千尺长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夸张的手法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尼亚加拉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222640" y="2082960"/>
            <a:ext cx="39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银河落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九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549440" y="32004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疑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怀疑，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076720" y="3139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九天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九重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28880" y="4883040"/>
            <a:ext cx="635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诗意：好像是从九重天上的银河落下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10960" y="2400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6324480" y="1600200"/>
            <a:ext cx="177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57800" y="251460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861080" y="47628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诗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太阳的照射下，庐山的香炉峰生起紫色云雾，远远看去，瀑布像一条大河挂在山前。水流从三千尺的高处直泻而下，好像是从九重天上的银河落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维多利亚瀑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维多利亚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3250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尼亚加拉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347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诗人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e858c828bd97fdaf703a6d1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816440" y="12682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788720" y="3651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88720" y="530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054760" y="1282680"/>
            <a:ext cx="34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李白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70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76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）   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唐代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诗人，</a:t>
            </a:r>
            <a:r>
              <a:rPr b="1" lang="zh-CN" sz="3600" spc="-1" strike="noStrike">
                <a:solidFill>
                  <a:srgbClr val="00cc99"/>
                </a:solidFill>
                <a:latin typeface="幼圆"/>
                <a:ea typeface="幼圆"/>
              </a:rPr>
              <a:t>字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太白，</a:t>
            </a: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号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青莲居士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。是屈原之后我国又一位伟大的浪漫主义诗人，被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诗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望庐山瀑布-1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711880" y="1916280"/>
            <a:ext cx="4508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l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zǐ y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紫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</a:rPr>
              <a:t>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                     ch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ch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银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485440" y="228600"/>
            <a:ext cx="420336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300720" y="1197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 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望庐山瀑布.mp3" descr=""/>
          <p:cNvPicPr/>
          <p:nvPr/>
        </p:nvPicPr>
        <p:blipFill>
          <a:blip r:embed="rId3"/>
          <a:stretch/>
        </p:blipFill>
        <p:spPr>
          <a:xfrm>
            <a:off x="7524720" y="5589720"/>
            <a:ext cx="1089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63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ktxs2-002"/>
          <p:cNvPicPr/>
          <p:nvPr/>
        </p:nvPicPr>
        <p:blipFill>
          <a:blip r:embed="rId1"/>
          <a:stretch/>
        </p:blipFill>
        <p:spPr>
          <a:xfrm>
            <a:off x="971640" y="1052640"/>
            <a:ext cx="1373040" cy="16477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9"/>
          <p:cNvGrpSpPr/>
          <p:nvPr/>
        </p:nvGrpSpPr>
        <p:grpSpPr>
          <a:xfrm>
            <a:off x="2411280" y="1052640"/>
            <a:ext cx="6047640" cy="1944000"/>
            <a:chOff x="2411280" y="1052640"/>
            <a:chExt cx="6047640" cy="1944000"/>
          </a:xfrm>
        </p:grpSpPr>
        <p:grpSp>
          <p:nvGrpSpPr>
            <p:cNvPr id="154" name="Group 10"/>
            <p:cNvGrpSpPr/>
            <p:nvPr/>
          </p:nvGrpSpPr>
          <p:grpSpPr>
            <a:xfrm>
              <a:off x="3604320" y="1052640"/>
              <a:ext cx="4854600" cy="1944000"/>
              <a:chOff x="3604320" y="1052640"/>
              <a:chExt cx="4854600" cy="1944000"/>
            </a:xfrm>
          </p:grpSpPr>
          <p:sp>
            <p:nvSpPr>
              <p:cNvPr id="155" name="Cloud"/>
              <p:cNvSpPr/>
              <p:nvPr/>
            </p:nvSpPr>
            <p:spPr>
              <a:xfrm>
                <a:off x="3604320" y="1052640"/>
                <a:ext cx="4854600" cy="1944000"/>
              </a:xfrm>
              <a:custGeom>
                <a:avLst/>
                <a:gdLst/>
                <a:ahLst/>
                <a:rect l="l" t="t" r="r" b="b"/>
                <a:pathLst>
                  <a:path w="21598" h="21598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598" h="21598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598" h="21598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598" h="21598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598" h="21598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598" h="21598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598" h="21598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598" h="21598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598" h="21598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598" h="21598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598" h="21598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598" h="21598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>
                <a:off x="7177680" y="1872000"/>
                <a:ext cx="890640" cy="5320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13"/>
              <p:cNvSpPr/>
              <p:nvPr/>
            </p:nvSpPr>
            <p:spPr>
              <a:xfrm>
                <a:off x="3865320" y="1872000"/>
                <a:ext cx="890640" cy="5320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2968920" y="1772280"/>
              <a:ext cx="556200" cy="433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2411280" y="1845000"/>
              <a:ext cx="398160" cy="287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6"/>
          <p:cNvSpPr/>
          <p:nvPr/>
        </p:nvSpPr>
        <p:spPr>
          <a:xfrm>
            <a:off x="4211640" y="1268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你最喜欢哪句诗，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826920" y="292428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82520" y="59482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F4F-4F20-45EF-8A64-453CF0F2CF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望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庐山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324480" y="160020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105520" y="251460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中国地图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江西地图"/>
          <p:cNvPicPr/>
          <p:nvPr/>
        </p:nvPicPr>
        <p:blipFill>
          <a:blip r:embed="rId1"/>
          <a:stretch/>
        </p:blipFill>
        <p:spPr>
          <a:xfrm>
            <a:off x="826920" y="0"/>
            <a:ext cx="727236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483280" y="2060640"/>
            <a:ext cx="450900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z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香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cc"/>
                </a:solidFill>
                <a:latin typeface="华文楷体"/>
              </a:rPr>
              <a:t>á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ch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zh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ch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下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838600" y="228600"/>
            <a:ext cx="2887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300720" y="1197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 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望庐山瀑布.mp3" descr=""/>
          <p:cNvPicPr/>
          <p:nvPr/>
        </p:nvPicPr>
        <p:blipFill>
          <a:blip r:embed="rId3"/>
          <a:stretch/>
        </p:blipFill>
        <p:spPr>
          <a:xfrm>
            <a:off x="7524720" y="5589720"/>
            <a:ext cx="1089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36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田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74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247040" y="9079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庐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田"/>
          <p:cNvPicPr/>
          <p:nvPr/>
        </p:nvPicPr>
        <p:blipFill>
          <a:blip r:embed="rId2"/>
          <a:stretch/>
        </p:blipFill>
        <p:spPr>
          <a:xfrm>
            <a:off x="3886200" y="1143000"/>
            <a:ext cx="5257800" cy="3774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5055480" y="9907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炉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662120" y="-142920"/>
            <a:ext cx="3598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cc00"/>
                </a:solidFill>
                <a:latin typeface="Times New Roman"/>
              </a:rPr>
              <a:t>l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73880" y="-328680"/>
            <a:ext cx="34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cc00"/>
                </a:solidFill>
                <a:latin typeface="Times New Roman"/>
              </a:rPr>
              <a:t>l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22400" y="170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15880" y="378000"/>
            <a:ext cx="2057400" cy="2136240"/>
            <a:chOff x="515880" y="378000"/>
            <a:chExt cx="2057400" cy="2136240"/>
          </a:xfrm>
        </p:grpSpPr>
        <p:pic>
          <p:nvPicPr>
            <p:cNvPr id="77" name="Picture 4" descr="02"/>
            <p:cNvPicPr/>
            <p:nvPr/>
          </p:nvPicPr>
          <p:blipFill>
            <a:blip r:embed="rId1"/>
            <a:stretch/>
          </p:blipFill>
          <p:spPr>
            <a:xfrm>
              <a:off x="515880" y="3780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"/>
            <p:cNvSpPr/>
            <p:nvPr/>
          </p:nvSpPr>
          <p:spPr>
            <a:xfrm>
              <a:off x="884520" y="5940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6"/>
          <p:cNvGrpSpPr/>
          <p:nvPr/>
        </p:nvGrpSpPr>
        <p:grpSpPr>
          <a:xfrm>
            <a:off x="3622680" y="412920"/>
            <a:ext cx="2057400" cy="2152080"/>
            <a:chOff x="3622680" y="412920"/>
            <a:chExt cx="2057400" cy="2152080"/>
          </a:xfrm>
        </p:grpSpPr>
        <p:pic>
          <p:nvPicPr>
            <p:cNvPr id="80" name="Picture 7" descr="02"/>
            <p:cNvPicPr/>
            <p:nvPr/>
          </p:nvPicPr>
          <p:blipFill>
            <a:blip r:embed="rId2"/>
            <a:stretch/>
          </p:blipFill>
          <p:spPr>
            <a:xfrm>
              <a:off x="3622680" y="412920"/>
              <a:ext cx="205740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8"/>
            <p:cNvSpPr/>
            <p:nvPr/>
          </p:nvSpPr>
          <p:spPr>
            <a:xfrm>
              <a:off x="3991320" y="644400"/>
              <a:ext cx="16516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6516720" y="333360"/>
            <a:ext cx="2057400" cy="2154240"/>
            <a:chOff x="6516720" y="333360"/>
            <a:chExt cx="2057400" cy="2154240"/>
          </a:xfrm>
        </p:grpSpPr>
        <p:pic>
          <p:nvPicPr>
            <p:cNvPr id="83" name="Picture 10" descr="02"/>
            <p:cNvPicPr/>
            <p:nvPr/>
          </p:nvPicPr>
          <p:blipFill>
            <a:blip r:embed="rId3"/>
            <a:stretch/>
          </p:blipFill>
          <p:spPr>
            <a:xfrm>
              <a:off x="6516720" y="333360"/>
              <a:ext cx="2057400" cy="19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1"/>
            <p:cNvSpPr/>
            <p:nvPr/>
          </p:nvSpPr>
          <p:spPr>
            <a:xfrm>
              <a:off x="6885360" y="566640"/>
              <a:ext cx="165168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755640" y="18900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708360" y="339840"/>
            <a:ext cx="175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炉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669000" y="189000"/>
            <a:ext cx="190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3564000" y="3524400"/>
            <a:ext cx="2057400" cy="2136240"/>
            <a:chOff x="3564000" y="3524400"/>
            <a:chExt cx="2057400" cy="2136240"/>
          </a:xfrm>
        </p:grpSpPr>
        <p:pic>
          <p:nvPicPr>
            <p:cNvPr id="89" name="Picture 16" descr="02"/>
            <p:cNvPicPr/>
            <p:nvPr/>
          </p:nvPicPr>
          <p:blipFill>
            <a:blip r:embed="rId4"/>
            <a:stretch/>
          </p:blipFill>
          <p:spPr>
            <a:xfrm>
              <a:off x="3564000" y="35244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7"/>
            <p:cNvSpPr/>
            <p:nvPr/>
          </p:nvSpPr>
          <p:spPr>
            <a:xfrm>
              <a:off x="3932640" y="37404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18"/>
          <p:cNvSpPr/>
          <p:nvPr/>
        </p:nvSpPr>
        <p:spPr>
          <a:xfrm>
            <a:off x="3792600" y="328464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9"/>
          <p:cNvGrpSpPr/>
          <p:nvPr/>
        </p:nvGrpSpPr>
        <p:grpSpPr>
          <a:xfrm>
            <a:off x="6443640" y="3429000"/>
            <a:ext cx="2057400" cy="2136240"/>
            <a:chOff x="6443640" y="3429000"/>
            <a:chExt cx="2057400" cy="2136240"/>
          </a:xfrm>
        </p:grpSpPr>
        <p:pic>
          <p:nvPicPr>
            <p:cNvPr id="93" name="Picture 20" descr="02"/>
            <p:cNvPicPr/>
            <p:nvPr/>
          </p:nvPicPr>
          <p:blipFill>
            <a:blip r:embed="rId5"/>
            <a:stretch/>
          </p:blipFill>
          <p:spPr>
            <a:xfrm>
              <a:off x="6443640" y="34290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1"/>
            <p:cNvSpPr/>
            <p:nvPr/>
          </p:nvSpPr>
          <p:spPr>
            <a:xfrm>
              <a:off x="6812280" y="36450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22"/>
          <p:cNvSpPr/>
          <p:nvPr/>
        </p:nvSpPr>
        <p:spPr>
          <a:xfrm>
            <a:off x="6659640" y="323676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468360" y="227664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庐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539640" y="530064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流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流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3780000" y="227664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火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丹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6732720" y="2205000"/>
            <a:ext cx="152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瀑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瀑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3780000" y="5300640"/>
            <a:ext cx="151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烟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香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6659640" y="5300640"/>
            <a:ext cx="1447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银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9" descr="箭头3"/>
          <p:cNvPicPr/>
          <p:nvPr/>
        </p:nvPicPr>
        <p:blipFill>
          <a:blip r:embed="rId6"/>
          <a:stretch/>
        </p:blipFill>
        <p:spPr>
          <a:xfrm>
            <a:off x="8534520" y="6400800"/>
            <a:ext cx="530280" cy="39996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0"/>
          <p:cNvGrpSpPr/>
          <p:nvPr/>
        </p:nvGrpSpPr>
        <p:grpSpPr>
          <a:xfrm>
            <a:off x="395280" y="3573360"/>
            <a:ext cx="2057400" cy="2136600"/>
            <a:chOff x="395280" y="3573360"/>
            <a:chExt cx="2057400" cy="2136600"/>
          </a:xfrm>
        </p:grpSpPr>
        <p:pic>
          <p:nvPicPr>
            <p:cNvPr id="104" name="Picture 31" descr="02"/>
            <p:cNvPicPr/>
            <p:nvPr/>
          </p:nvPicPr>
          <p:blipFill>
            <a:blip r:embed="rId7"/>
            <a:stretch/>
          </p:blipFill>
          <p:spPr>
            <a:xfrm>
              <a:off x="395280" y="3573360"/>
              <a:ext cx="20574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2"/>
            <p:cNvSpPr/>
            <p:nvPr/>
          </p:nvSpPr>
          <p:spPr>
            <a:xfrm>
              <a:off x="763920" y="3789360"/>
              <a:ext cx="16516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33"/>
          <p:cNvSpPr/>
          <p:nvPr/>
        </p:nvSpPr>
        <p:spPr>
          <a:xfrm>
            <a:off x="611280" y="3500280"/>
            <a:ext cx="198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932360" y="549360"/>
            <a:ext cx="47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庐山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24480" y="160020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257800" y="251460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香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瀑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直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银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07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53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