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14.png" ContentType="image/png"/>
  <Override PartName="/ppt/media/image6.gif" ContentType="image/gif"/>
  <Override PartName="/ppt/media/image9.png" ContentType="image/png"/>
  <Override PartName="/ppt/media/image7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BDFC-3772-4E33-AF33-E88F585A5DD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59A3-D933-46E3-A2BD-153789AE87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7F62-7DDC-4C54-8E30-D81BF5B8B7C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7732-FEC2-462F-B366-AB36FC9C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C9C-6E37-4FE4-A0F2-5075754A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EE0-F8AD-4C86-A08D-46B5B2F6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77C4-89B9-4D29-A480-65DD2A19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260-A081-4F71-B845-61262A3D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2A0-85E4-404C-8E9C-60EDE68E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981-547B-49B6-B2CA-76BC0664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C69-4229-48DA-8B9C-7407E2E4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EFC7-47BD-4268-8112-07DF80F6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2D85-EB0C-4CEE-A6AD-8999BE17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25B-07C0-4644-A826-C68F3504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0FB-BC75-4E1F-9CBE-A6EAF81F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052A-6A42-4209-812E-FBFC6DF9E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gif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hyperlink" Target="file:///../AppData/Local/Microsoft/Windows/Temporary%20Internet%20Files/&#20027;&#30028;&#38754;.ppt" TargetMode="External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gif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1" descr=""/>
          <p:cNvPicPr/>
          <p:nvPr/>
        </p:nvPicPr>
        <p:blipFill>
          <a:blip r:embed="rId2"/>
          <a:stretch/>
        </p:blipFill>
        <p:spPr>
          <a:xfrm>
            <a:off x="1332000" y="1155600"/>
            <a:ext cx="6480000" cy="1463760"/>
          </a:xfrm>
          <a:prstGeom prst="rect">
            <a:avLst/>
          </a:prstGeom>
          <a:ln w="0">
            <a:noFill/>
          </a:ln>
        </p:spPr>
      </p:pic>
      <p:pic>
        <p:nvPicPr>
          <p:cNvPr id="50" name="矩形 3" descr=""/>
          <p:cNvPicPr/>
          <p:nvPr/>
        </p:nvPicPr>
        <p:blipFill>
          <a:blip r:embed="rId3"/>
          <a:stretch/>
        </p:blipFill>
        <p:spPr>
          <a:xfrm>
            <a:off x="1779480" y="508464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望庐山瀑布-12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2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田"/>
          <p:cNvPicPr/>
          <p:nvPr/>
        </p:nvPicPr>
        <p:blipFill>
          <a:blip r:embed="rId2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467520" y="106668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Times New Roman"/>
                <a:ea typeface="楷体"/>
              </a:rPr>
              <a:t>银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望庐山瀑布-12"/>
          <p:cNvPicPr/>
          <p:nvPr/>
        </p:nvPicPr>
        <p:blipFill>
          <a:blip r:embed="rId1"/>
          <a:stretch/>
        </p:blipFill>
        <p:spPr>
          <a:xfrm>
            <a:off x="0" y="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2809080" y="1371600"/>
            <a:ext cx="410364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zǐ y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照香炉生紫烟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ff3300"/>
                </a:solidFill>
                <a:latin typeface="华文楷体"/>
              </a:rPr>
              <a:t>á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遥看瀑布挂前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飞流直下三千尺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疑是银河落九天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405160" y="228600"/>
            <a:ext cx="381420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ú       p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庐山瀑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ZQ_007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787400" y="6095880"/>
            <a:ext cx="5727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课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词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生字      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655560" y="5459400"/>
            <a:ext cx="75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332000" y="1856160"/>
            <a:ext cx="66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庐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在江西省九江市南，是我国著名的风景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香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即香炉峰，在庐山西北，因形似香炉且山上经常笼罩着云烟而得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挂前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挂在前面的水面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九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古代传说天有九重，九天是天的最高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previous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12000" y="6308640"/>
            <a:ext cx="501840" cy="335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previous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308640"/>
            <a:ext cx="50292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图片"/>
          <p:cNvPicPr/>
          <p:nvPr/>
        </p:nvPicPr>
        <p:blipFill>
          <a:blip r:embed="rId1"/>
          <a:stretch/>
        </p:blipFill>
        <p:spPr>
          <a:xfrm>
            <a:off x="395280" y="571680"/>
            <a:ext cx="4894200" cy="55720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0"/>
          <p:cNvSpPr/>
          <p:nvPr/>
        </p:nvSpPr>
        <p:spPr>
          <a:xfrm>
            <a:off x="5580000" y="2985120"/>
            <a:ext cx="31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阳光的照耀下，香炉峰周围升起紫色的云烟。从远处望去，山前的瀑布就像挂在那里的一块白布，从高高的山上飞流而下，不由使人怀疑是银河从天上落了下来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1" descr="previous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2000" y="6308640"/>
            <a:ext cx="501840" cy="335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previous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308640"/>
            <a:ext cx="50292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4FAF-004E-4431-A3E3-8AFDA1C8489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望庐山瀑布-12"/>
          <p:cNvPicPr/>
          <p:nvPr/>
        </p:nvPicPr>
        <p:blipFill>
          <a:blip r:embed="rId1"/>
          <a:stretch/>
        </p:blipFill>
        <p:spPr>
          <a:xfrm>
            <a:off x="0" y="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691000" y="228600"/>
            <a:ext cx="324252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ú       p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庐山瀑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523880" y="6095880"/>
            <a:ext cx="685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课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词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生字      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ZW_00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077320" y="5857920"/>
            <a:ext cx="1066680" cy="1000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2700360" y="1989000"/>
            <a:ext cx="5689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  <a:ea typeface="楷体"/>
              </a:rPr>
              <a:t>炉（火炉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楷体"/>
              </a:rPr>
              <a:t>庐（庐山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lb1"/>
          <p:cNvPicPr/>
          <p:nvPr/>
        </p:nvPicPr>
        <p:blipFill>
          <a:blip r:embed="rId1"/>
          <a:stretch/>
        </p:blipFill>
        <p:spPr>
          <a:xfrm>
            <a:off x="395280" y="765000"/>
            <a:ext cx="3600360" cy="52578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4284720" y="2882160"/>
            <a:ext cx="45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李白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0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6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，字太白，号青莲居士，唐代伟大诗人。他的诗歌具有丰富的想象力，运用大胆的夸张和深入浅出的语言，形成豪迈爽朗的风格，是屈原之后古代积极浪漫主义诗歌的杰出代表。在我国古代诗歌发展史上，李白达到了浪漫主义艺术的顶峰。被人们称为“诗仙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" descr="previous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2000" y="6308640"/>
            <a:ext cx="501840" cy="335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previous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308640"/>
            <a:ext cx="50472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"/>
          <p:cNvSpPr/>
          <p:nvPr/>
        </p:nvSpPr>
        <p:spPr>
          <a:xfrm>
            <a:off x="2147760" y="4005360"/>
            <a:ext cx="73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望庐山瀑布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809080" y="1371600"/>
            <a:ext cx="410364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zǐ y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照香炉生紫烟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ff3300"/>
                </a:solidFill>
                <a:latin typeface="华文楷体"/>
              </a:rPr>
              <a:t>á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遥看瀑布挂前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飞流直下三千尺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疑是银河落九天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405160" y="228600"/>
            <a:ext cx="381420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ú       p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庐山瀑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ZQ_007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787400" y="6095880"/>
            <a:ext cx="5727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课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词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生字      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望庐山瀑布-12"/>
          <p:cNvPicPr/>
          <p:nvPr/>
        </p:nvPicPr>
        <p:blipFill>
          <a:blip r:embed="rId1"/>
          <a:stretch/>
        </p:blipFill>
        <p:spPr>
          <a:xfrm>
            <a:off x="0" y="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1720080" y="838080"/>
            <a:ext cx="6886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炉    紫烟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下    瀑布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怀疑    九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ZQ_007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787400" y="6095880"/>
            <a:ext cx="5727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课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词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生字      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6516720" y="692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楷体"/>
              </a:rPr>
              <a:t>yā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2556000" y="3933720"/>
            <a:ext cx="121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楷体"/>
              </a:rPr>
              <a:t>y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5508720" y="2349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楷体"/>
              </a:rPr>
              <a:t>p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望庐山瀑布-12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29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田"/>
          <p:cNvPicPr/>
          <p:nvPr/>
        </p:nvPicPr>
        <p:blipFill>
          <a:blip r:embed="rId2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3467520" y="11430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Times New Roman"/>
                <a:ea typeface="楷体"/>
              </a:rPr>
              <a:t>炉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望庐山瀑布-12"/>
          <p:cNvPicPr/>
          <p:nvPr/>
        </p:nvPicPr>
        <p:blipFill>
          <a:blip r:embed="rId1"/>
          <a:stretch/>
        </p:blipFill>
        <p:spPr>
          <a:xfrm>
            <a:off x="0" y="0"/>
            <a:ext cx="9144000" cy="672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田"/>
          <p:cNvPicPr/>
          <p:nvPr/>
        </p:nvPicPr>
        <p:blipFill>
          <a:blip r:embed="rId2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ZQ_007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059280" y="1125360"/>
            <a:ext cx="324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Times New Roman"/>
                <a:ea typeface="楷体"/>
              </a:rPr>
              <a:t>流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419640" y="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  <a:ea typeface="楷体"/>
              </a:rPr>
              <a:t>liú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84360" y="1773360"/>
            <a:ext cx="1800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流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河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望庐山瀑布-12"/>
          <p:cNvPicPr/>
          <p:nvPr/>
        </p:nvPicPr>
        <p:blipFill>
          <a:blip r:embed="rId1"/>
          <a:stretch/>
        </p:blipFill>
        <p:spPr>
          <a:xfrm>
            <a:off x="0" y="0"/>
            <a:ext cx="9144000" cy="6729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田"/>
          <p:cNvPicPr/>
          <p:nvPr/>
        </p:nvPicPr>
        <p:blipFill>
          <a:blip r:embed="rId2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464280" y="106668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烟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1:26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6:58Z</dcterms:modified>
  <cp:revision>4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